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639C-FF69-443B-A403-8C8546F9A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9C5C-8AE5-4322-B3F6-CDD81D208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569C-E77C-48EE-A8FD-9DD694B69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2783-BB59-45A4-9DF7-1A80789E7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0EBE2-B73D-4F2C-80BD-5499CB7F0F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B616F-2821-4E12-A50C-F5D5FC6676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93CC1-F91B-4A80-81AA-C0A4745D02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2FCF6-546A-4890-A540-59BE65F43C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266FE-28D3-420A-BECE-E30A725F14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5438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8CE7D-E135-4255-842E-012BEDA629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A143-9124-4431-93B7-9960F9FC05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E0A9-542D-4F26-9CD5-84BB5252D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663B8-FB8F-4919-8A60-024E1D3108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788A5-4B61-43C1-A971-2713082313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733A0-0FB3-4EA3-874C-A48F5485F9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278A3-F6EE-465F-B426-676E2F2231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1124-20B7-4923-9FE7-21FFA0655DC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C23-43E5-48C5-A8F5-2F9BE76736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2AEC-F15C-47B0-B289-06A2833268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28DA-0436-4FB6-94A6-BED8C7BEAD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F884-67EB-460A-986A-93B37C3AB3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D15A-01C7-4C2C-B059-926DE60DB4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BF93-08DD-4C0B-B574-68F480F99D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5438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550-E0BA-421C-9426-B19ADCB215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464-698F-4D7D-AB14-A67236E58F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6520-7DA7-4F6C-97E8-E3D97B71CA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B7A-0CA9-4333-AA3E-C73AE6F144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95AD-A87B-43CF-B317-4836269A0A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2DC-D857-4001-A100-10CE621B9B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CED-EAE4-4AA7-8D13-14580E531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60E2-3A12-4CCC-97D9-B6F1C6A7F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6CB8-E5BA-4C72-8FFB-4D6032557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5438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285D-4913-4B8D-8AEA-5DA28BD51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C7E8-F6CB-4AEE-8535-ACC6C1236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3037-BD4C-4621-839A-02CF162A6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2B889-F592-4912-86E9-6A3D90D1A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-360"/>
            <a:ext cx="6781680" cy="2600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8880" y="3049200"/>
            <a:ext cx="6248520" cy="3808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2000"/>
          </a:bodyPr>
          <a:p>
            <a:pPr marL="36360"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88360" y="6248520"/>
            <a:ext cx="255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C82F-06E5-4563-BA39-4C50744D63EE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528480" indent="-347400">
              <a:spcBef>
                <a:spcPts val="700"/>
              </a:spcBef>
              <a:buClr>
                <a:srgbClr val="669999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824040" indent="-293760">
              <a:spcBef>
                <a:spcPts val="700"/>
              </a:spcBef>
              <a:buClr>
                <a:srgbClr val="cccc00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117440" indent="-2919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1434960" indent="-315720">
              <a:spcBef>
                <a:spcPts val="700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1434960" indent="-31572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1434960" indent="-31572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89800" y="6248520"/>
            <a:ext cx="2541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FB45-9D04-4CCA-AA77-89BF89FFD69E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477720" indent="-347400">
              <a:spcBef>
                <a:spcPts val="700"/>
              </a:spcBef>
              <a:buClr>
                <a:srgbClr val="669999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773280" indent="-293760">
              <a:spcBef>
                <a:spcPts val="700"/>
              </a:spcBef>
              <a:buClr>
                <a:srgbClr val="cccc00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066680" indent="-2919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1384200" indent="-315720">
              <a:spcBef>
                <a:spcPts val="700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1384200" indent="-31572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1384200" indent="-31572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7488360" y="6248520"/>
            <a:ext cx="255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F9E8-B1AE-493E-A304-8BF0BC30A508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978760" y="838080"/>
            <a:ext cx="1800" cy="4496040"/>
          </a:xfrm>
          <a:prstGeom prst="line">
            <a:avLst/>
          </a:prstGeom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294680" y="3271680"/>
            <a:ext cx="1054080" cy="2189160"/>
            <a:chOff x="7294680" y="3271680"/>
            <a:chExt cx="1054080" cy="2189160"/>
          </a:xfrm>
        </p:grpSpPr>
        <p:sp>
          <p:nvSpPr>
            <p:cNvPr id="119" name=""/>
            <p:cNvSpPr/>
            <p:nvPr/>
          </p:nvSpPr>
          <p:spPr>
            <a:xfrm>
              <a:off x="7294680" y="3271680"/>
              <a:ext cx="20160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78720" y="3271680"/>
              <a:ext cx="20160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94680" y="3555720"/>
              <a:ext cx="20160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78720" y="3555720"/>
              <a:ext cx="20160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63120" y="355572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94680" y="3840120"/>
              <a:ext cx="20160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78720" y="384012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63120" y="384012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47160" y="384012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4680" y="412272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78720" y="412272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63120" y="412272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94680" y="44067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78720" y="44067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3120" y="44067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47160" y="4406760"/>
              <a:ext cx="201600" cy="2030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94680" y="469080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78720" y="469080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63120" y="4690800"/>
              <a:ext cx="20160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94680" y="497520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78720" y="4975200"/>
              <a:ext cx="20160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63120" y="4975200"/>
              <a:ext cx="20160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94680" y="5259240"/>
              <a:ext cx="20160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63120" y="5259240"/>
              <a:ext cx="20160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64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724960" cy="180360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b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old"/>
              </a:rPr>
              <a:t>Сокращение выбросов в рамках переговоров РКИК ООН</a:t>
            </a:r>
            <a:endParaRPr b="0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45" name=""/>
          <p:cNvSpPr/>
          <p:nvPr/>
        </p:nvSpPr>
        <p:spPr>
          <a:xfrm>
            <a:off x="2619720" y="6362640"/>
            <a:ext cx="359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old"/>
                <a:ea typeface="Arial Bold"/>
              </a:rPr>
              <a:t>Ирина Ставчук, 28 апреля 201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338720" y="171360"/>
            <a:ext cx="514440" cy="782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 rot="25200">
            <a:off x="407880" y="3119040"/>
            <a:ext cx="3924360" cy="2793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676760" y="3106800"/>
            <a:ext cx="3962520" cy="284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203040" y="165240"/>
            <a:ext cx="1565280" cy="799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805640" y="304920"/>
            <a:ext cx="401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old"/>
                <a:ea typeface="Arial Bold"/>
              </a:rPr>
              <a:t>Национальный Экоцентр Украины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30120" y="404640"/>
            <a:ext cx="7950240" cy="602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99407-4BBA-4DEC-8F7C-DDF454B30A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2120" y="635040"/>
            <a:ext cx="7291440" cy="551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D447E-ADB5-4DD3-89EB-85711D3137C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2400" y="122040"/>
            <a:ext cx="7543800" cy="812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Объявленные цели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02024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EС-20% от 1990 к 2020 самостоятельно и -30% при международной договоренности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Норвегия -40% от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Япония -25% от 1990 к 2020 ???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США, Канада, Австралия - выйти на уровень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Россия 15-25% от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Беларусь 5-10% от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Украина -20% от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Казахстан -15% от 1992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old"/>
                <a:ea typeface="Arial Bold"/>
              </a:rPr>
              <a:t>Развитые страны вместе 15%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160200"/>
            <a:ext cx="7543800" cy="673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Развитые страны: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969480"/>
            <a:ext cx="8229600" cy="5588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5000"/>
          </a:bodyPr>
          <a:p>
            <a:pPr marL="36324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обязательство сократить выбросы на 40% от 1990 года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6324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Согласиться что каждая страна разработает к 2012 году план безуглеродного развития экономики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6324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Утвердить систему отчетности, проверки и верификации действий развитых стран по сокращению выбросов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6324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Прозрачные правила в LULUCF, минимизация вреда от неиспользованных квот и двойной отчетности по рыночным механизмам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489800" y="6248520"/>
            <a:ext cx="2541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06CB-666F-41C6-8686-32DBF82D50B6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0CD28-CD90-46B7-9A72-C4C41B81E66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348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Экономические основания для действия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 rot="21595800">
            <a:off x="5968800" y="2125440"/>
            <a:ext cx="3073320" cy="41083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4160" y="1440000"/>
            <a:ext cx="530856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1% глобального ВВП достаточно для стабилизации и постепенного сокращения выбросов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Бездействие приведет к потере 5-20% ВВП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Не ко всему можно адаптироваться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6520" y="6477120"/>
            <a:ext cx="250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Источник, отчет Николаса Стерна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8680" y="13500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Развивающиеся страны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17520" y="13003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6fad3"/>
                </a:solidFill>
                <a:latin typeface="Arial"/>
              </a:rPr>
              <a:t>Готовность разрабатывать планы низкоуглеродного развития (не обязательно для наиболее бедных стран) при условии финансовой и технической помощи со стороны развитых стран (NAMA);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Утвердить правила для измерения, отчетности и проверки результатов MRV;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Национальные планы по сокращению выбросов должны быть выражены в % снижения выбросов по сравнению со сценарием бизнес как обычно.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5E44A-CE52-4122-BEAE-D7E681B8103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221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0840" y="223560"/>
            <a:ext cx="7543800" cy="71100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b">
            <a:noAutofit/>
          </a:bodyPr>
          <a:p>
            <a:pPr marL="6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Спасибо за внимание!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61720"/>
            <a:ext cx="754380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Новые механизмы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30120" y="122400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7476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NAMA - National Appropriate Mitigation Actions (Национальные соответствующие действия по сокращению выбросов)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567720" indent="-3405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План мероприятий по сокращению выбросов в контексте устойчивого развития, реализумый при технической и финансовой поддержке и возможный к оценке, отчетности и проверке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567720" indent="-3405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Примеры: внедрение стандартов по энергосбережению в зданиях, стимулирование использования солнечных коллекторов, стимулы на покупку энергоэффективных приборов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8229600" cy="4914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154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1280" y="240840"/>
            <a:ext cx="7543800" cy="1359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2С уже не предел: 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 Bold"/>
              </a:rPr>
              <a:t>малые островные страны 1.5С, CAN пересмотрел позицию на 1.5С</a:t>
            </a:r>
            <a:endParaRPr b="0" lang="en-US" sz="2400" spc="-1" strike="noStrike">
              <a:solidFill>
                <a:srgbClr val="ffffff"/>
              </a:solidFill>
              <a:latin typeface="Arial Bold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86" name=""/>
          <p:cNvSpPr/>
          <p:nvPr/>
        </p:nvSpPr>
        <p:spPr>
          <a:xfrm>
            <a:off x="7560360" y="6248520"/>
            <a:ext cx="15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6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BF8A7-E478-4FA5-855C-E77AC3D826F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87200" y="1735200"/>
            <a:ext cx="5943600" cy="4521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248520" y="1257480"/>
            <a:ext cx="2832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old"/>
                <a:ea typeface="Arial Bold"/>
              </a:rPr>
              <a:t>Развитые страны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 Bold"/>
                <a:ea typeface="Arial Bold"/>
              </a:rPr>
              <a:t>-25-40% к 2020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от уровня 199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 Bold"/>
                <a:ea typeface="Arial Bold"/>
              </a:rPr>
              <a:t>-80-95% к 2050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от уровня 199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old"/>
                <a:ea typeface="Arial Bold"/>
              </a:rPr>
              <a:t>Развивающиеся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 Bold"/>
                <a:ea typeface="Arial Bold"/>
              </a:rPr>
              <a:t>15-30%</a:t>
            </a:r>
            <a:r>
              <a:rPr b="0" lang="en-US" sz="2400" spc="-1" strike="noStrike">
                <a:solidFill>
                  <a:srgbClr val="dd2067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от базового уровня развития экономики к 202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0"/>
            <a:ext cx="75438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30600" tIns="25560" bIns="2556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  <a:ea typeface="Arial Bold"/>
              </a:rPr>
              <a:t>На сколько нужно сократить выбросы?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67920" y="618840"/>
            <a:ext cx="839484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old"/>
              </a:rPr>
              <a:t>Обзор подходов расчета сокращения выбросов к 2020 и 2050 годам</a:t>
            </a:r>
            <a:endParaRPr b="0" lang="en-US" sz="3400" spc="-1" strike="noStrike">
              <a:solidFill>
                <a:srgbClr val="ffffff"/>
              </a:solidFill>
              <a:latin typeface="Arial Bol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65160" y="1981080"/>
            <a:ext cx="676908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0BE28-CFED-4290-8547-2DD3E7CDAAE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7920" y="339840"/>
            <a:ext cx="8394840" cy="622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old"/>
              </a:rPr>
              <a:t>Расчет ЕС 2010 год</a:t>
            </a:r>
            <a:endParaRPr b="0" lang="en-US" sz="3400" spc="-1" strike="noStrike">
              <a:solidFill>
                <a:srgbClr val="ffffff"/>
              </a:solidFill>
              <a:latin typeface="Arial Bold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54160" y="1257480"/>
          <a:ext cx="8267400" cy="5371920"/>
        </p:xfrm>
        <a:graphic>
          <a:graphicData uri="http://schemas.openxmlformats.org/drawingml/2006/table">
            <a:tbl>
              <a:tblPr/>
              <a:tblGrid>
                <a:gridCol w="1171080"/>
                <a:gridCol w="1157400"/>
                <a:gridCol w="1170000"/>
                <a:gridCol w="1141560"/>
                <a:gridCol w="1211040"/>
                <a:gridCol w="1389240"/>
                <a:gridCol w="1027080"/>
              </a:tblGrid>
              <a:tr h="81540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Частка відповідно до ВВП/Людину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Частка відповідно до ПГ/ВВП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Частка відповідно до ПГ ’90-’0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Частка відповідно до населення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Зобов’язання від 200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Зобов’я-зання від 199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</a:tr>
              <a:tr h="34740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=a+b+c+d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EU 2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,2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,1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2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4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30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Австралі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6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,7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,0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9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24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Канад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6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,6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,3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9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23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Ісланді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7,3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9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,0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9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21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Японі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8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5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9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24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Нова Зеланді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,6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8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,3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15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Норвегі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7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,3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4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28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Росі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1,4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20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8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0,8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13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38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Швейца-рі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,5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,7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8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27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Україн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0,0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20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8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0.0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12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60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,3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3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,9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4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24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0D06-1593-40DD-9373-CD6F7DE395E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8400" y="114480"/>
            <a:ext cx="8813880" cy="698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old"/>
              </a:rPr>
              <a:t>ECOFYS, «Factors underpinning future action», 2008</a:t>
            </a: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0080" y="939960"/>
            <a:ext cx="2882880" cy="3098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441600" y="4317840"/>
            <a:ext cx="2260800" cy="1257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00400" y="5854680"/>
            <a:ext cx="58165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 Bold"/>
                <a:ea typeface="Arial Bold"/>
              </a:rPr>
              <a:t>http://www.ecofys.com/com/publications/brochures_newsletters/factors_underpinning_future_action-country_factsheets2009update.htm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270240" y="939960"/>
            <a:ext cx="2587680" cy="3098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88920" y="4160880"/>
            <a:ext cx="2921040" cy="3421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6145200" y="939960"/>
            <a:ext cx="2782800" cy="309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E7992-8DEF-47E6-B495-C3FF4BA0D11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7840" y="253800"/>
            <a:ext cx="8547120" cy="1307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International Institute for Applied systematic Analysis (IIASA), 2009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02" name=""/>
          <p:cNvSpPr/>
          <p:nvPr/>
        </p:nvSpPr>
        <p:spPr>
          <a:xfrm>
            <a:off x="279360" y="1536840"/>
            <a:ext cx="77979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NALYSIS OF THE PROPOSALS FOR GHG REDUCTIONS in 2020 MADE BY UNFCCC ANNEX I COUNTRIES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Y MID-AUGUST 2009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54000" y="2451240"/>
            <a:ext cx="678024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8BE6E-FF22-4EB6-8AC1-C5CE94023F1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5240" y="330120"/>
            <a:ext cx="8610480" cy="570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B5A04-33AD-41BF-8C4D-F3D47D6FD35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19040" y="380880"/>
            <a:ext cx="7175520" cy="549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AD2A0-3988-4E5E-95F9-7B18A8682B0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ina</dc:creator>
  <dc:description/>
  <dc:language>en-US</dc:language>
  <cp:lastModifiedBy/>
  <cp:revision>0</cp:revision>
  <dc:subject/>
  <dc:title>Головні питання на міжнародних переговорах Позиції різних країн</dc:title>
</cp:coreProperties>
</file>