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01D0-000D-4E2D-B1C3-06D2FE1C5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1961-B81D-4E49-9102-62048C923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368F9-25A7-4D9A-AD93-75CEE980B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626E-82CF-49CD-BD33-8EEE46FCDC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6682E-9FA3-4C39-9303-219D6D2A6F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65EE1-39D6-412E-95DA-1F660FD353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DE46-DB28-4F9C-9BEF-671A35945A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D070F-A254-4AC0-923E-4F66D1A2DB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D1D6-8A15-4157-B8CF-5F1653E82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D8DE-A230-4C51-A950-0F811C7959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366AB-2891-4A43-A03C-810E98E815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41AA-F447-46DF-910C-AB8657FAF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8FD42-A9AD-4ED6-AE23-A7A5ED6D64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35D8-0C00-41B7-87C5-463CECC73E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1C6B-8886-49D6-B48D-16D095BDD9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7FB80-216D-4B4B-884B-E1E1E18A6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E114-652B-4812-AFA8-5477940F843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2A3-6F19-468B-AB1E-4840B77D49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E431-80ED-4511-8B84-D6A072059A9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6FC-741D-4F08-9D54-92A14E71F6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6903-1F88-4B58-B3BE-E77E3DE7C0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F22C-B747-4EE6-80A0-B508A882FE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91B1-6D55-4A84-8C4D-A01A64E6A5D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7A9C-AD49-4532-BF03-9B6055117E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066-10C3-46FA-BDEF-E4C4336033E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F6B-5284-479D-AA8D-AD31C60CCF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BB9-275A-48AC-A97E-90AB666F6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1FEA-AC14-429B-8C97-524B83FED5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8CE3-8639-4F5B-BCAE-A47B00C848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403520"/>
            <a:ext cx="264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B4C-E75B-401C-93A2-A3E09F100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34AC-F073-468F-8753-09BCC9FCE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DBC1-D5E3-435F-AF78-C17841342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75438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95FC1-24EF-453F-86A2-154057BDB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929E-97DB-460D-A0E0-9834D7D29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0352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389A-9EE3-42F5-8A02-C15085B5A3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229600" cy="2450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80C6-FBD4-483E-A407-2368F5364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-360"/>
            <a:ext cx="6781680" cy="2600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48880" y="3049200"/>
            <a:ext cx="6248520" cy="3808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2000"/>
          </a:bodyPr>
          <a:p>
            <a:pPr marL="36360"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6360" algn="r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AA3-5015-46C0-8696-3774419BF244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2848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82404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11744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43496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43496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C6CF-DB0A-43F3-AF58-8F4DAFA1AE79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b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477720" indent="-347400">
              <a:spcBef>
                <a:spcPts val="700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773280" indent="-293760">
              <a:spcBef>
                <a:spcPts val="700"/>
              </a:spcBef>
              <a:buClr>
                <a:srgbClr val="cccc00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066680" indent="-29196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384200" indent="-315720">
              <a:spcBef>
                <a:spcPts val="700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384200" indent="-315720">
              <a:spcBef>
                <a:spcPts val="700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7488360" y="6248520"/>
            <a:ext cx="255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35EB-A2F6-4920-8CF7-D9D7FD158221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978760" y="838080"/>
            <a:ext cx="1800" cy="44960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94680" y="3271680"/>
            <a:ext cx="1054080" cy="2189160"/>
            <a:chOff x="7294680" y="3271680"/>
            <a:chExt cx="1054080" cy="2189160"/>
          </a:xfrm>
        </p:grpSpPr>
        <p:sp>
          <p:nvSpPr>
            <p:cNvPr id="119" name=""/>
            <p:cNvSpPr/>
            <p:nvPr/>
          </p:nvSpPr>
          <p:spPr>
            <a:xfrm>
              <a:off x="729468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78720" y="327168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9468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78720" y="3555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63120" y="35557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94680" y="38401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5787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63120" y="3840120"/>
              <a:ext cx="20160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47160" y="384012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468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78720" y="41227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63120" y="41227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294680" y="440676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787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3120" y="440676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147160" y="4406760"/>
              <a:ext cx="201600" cy="2030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9468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78720" y="46908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863120" y="46908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94680" y="4975200"/>
              <a:ext cx="20160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787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863120" y="497520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9468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63120" y="5259240"/>
              <a:ext cx="20160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04920" y="2819520"/>
            <a:ext cx="8229600" cy="1440"/>
          </a:xfrm>
          <a:prstGeom prst="line">
            <a:avLst/>
          </a:prstGeom>
          <a:ln w="648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724960" cy="18036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old"/>
              </a:rPr>
              <a:t>Сокращение выбросов в рамках переговоров РКИК ООН</a:t>
            </a:r>
            <a:endParaRPr b="0" lang="en-US" sz="36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45" name=""/>
          <p:cNvSpPr/>
          <p:nvPr/>
        </p:nvSpPr>
        <p:spPr>
          <a:xfrm>
            <a:off x="2619720" y="6362640"/>
            <a:ext cx="3593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Ирина Ставчук, 28 апреля 2011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338720" y="171360"/>
            <a:ext cx="514440" cy="782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 rot="25200">
            <a:off x="407880" y="3119040"/>
            <a:ext cx="3924360" cy="2793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676760" y="3106800"/>
            <a:ext cx="3962520" cy="284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203040" y="165240"/>
            <a:ext cx="1565280" cy="799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805640" y="304920"/>
            <a:ext cx="401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 Bold"/>
                <a:ea typeface="Arial Bold"/>
              </a:rPr>
              <a:t>Национальный Экоцентр Украины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0120" y="404640"/>
            <a:ext cx="7950240" cy="602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68E35-885C-4954-B510-C804AB8618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635040"/>
            <a:ext cx="7291440" cy="55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C14C-79C2-445A-80A9-F1DDFC403A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82400" y="122040"/>
            <a:ext cx="7543800" cy="81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Объявленные цели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02024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7000"/>
          </a:bodyPr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С-20% от 1990 к 2020 самостоятельно и -30% при международной договоренност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орвегия -4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Япония -25% от 1990 к 2020 ???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ША, Канада, Австралия - выйти на уровень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Россия 15-25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ларусь 5-1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краина -20% от 1990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Казахстан -15% от 1992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7116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 вместе 15%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520" y="160200"/>
            <a:ext cx="7543800" cy="673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тые страны: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9480"/>
            <a:ext cx="8229600" cy="5588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5000"/>
          </a:bodyPr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обязательство сократить выбросы на 40% от 1990 года к 2020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Согласиться что каждая страна разработает к 2012 году план безуглеродного развития экономики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Утвердить систему отчетности, проверки и верификации действий развитых стран по сокращению выбросов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63240" indent="-3258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Прозрачные правила в LULUCF, минимизация вреда от неиспользованных квот и двойной отчетности по рыночным механизмам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489800" y="6248520"/>
            <a:ext cx="2541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7E94-903D-412B-98DA-FA700C6F8513}" type="slidenum"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029FC-0913-49F2-845A-95E707449C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543800" cy="141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Экономические основания для действия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1595800">
            <a:off x="5968800" y="2125440"/>
            <a:ext cx="3073320" cy="41083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4160" y="1440000"/>
            <a:ext cx="5308560" cy="50292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% глобального ВВП достаточно для стабилизации и постепенного сокращения выбросов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Бездействие приведет к потере 5-20% ВВП;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Не ко всему можно адаптироваться. 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6520" y="6477120"/>
            <a:ext cx="2501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Источник, отчет Николаса Стерна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13500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Развивающиеся стран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17520" y="130032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6fad3"/>
                </a:solidFill>
                <a:latin typeface="Arial"/>
              </a:rPr>
              <a:t>Готовность разрабатывать планы низкоуглеродного развития (не обязательно для наиболее бедных стран) при условии финансовой и технической помощи со стороны развитых стран (NAMA)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Утвердить правила для измерения, отчетности и проверки результатов MRV;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  <a:p>
            <a:pPr marL="3826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Arial"/>
              </a:rPr>
              <a:t>Национальные планы по сокращению выбросов должны быть выражены в % снижения выбросов по сравнению со сценарием бизнес как обычно.</a:t>
            </a:r>
            <a:endParaRPr b="0" lang="en-US" sz="29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EAB7A-8D3A-44C8-882B-DDDC982822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221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0840" y="223560"/>
            <a:ext cx="7543800" cy="711000"/>
          </a:xfrm>
          <a:prstGeom prst="rect">
            <a:avLst/>
          </a:prstGeom>
          <a:noFill/>
          <a:ln w="0">
            <a:noFill/>
          </a:ln>
        </p:spPr>
        <p:txBody>
          <a:bodyPr lIns="0" rIns="5040" tIns="0" bIns="0" anchor="b">
            <a:noAutofit/>
          </a:bodyPr>
          <a:p>
            <a:pPr marL="65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Спасибо за внимание!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61720"/>
            <a:ext cx="7543800" cy="749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Новые механизмы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30120" y="122400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MA - National Appropriate Mitigation Actions (Национальные соответствующие действия по сокращению выбросов)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лан мероприятий по сокращению выбросов в контексте устойчивого развития, реализумый при технической и финансовой поддержке и возможный к оценке, отчетности и проверке;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567720" indent="-340560">
              <a:lnSpc>
                <a:spcPct val="100000"/>
              </a:lnSpc>
              <a:spcBef>
                <a:spcPts val="601"/>
              </a:spcBef>
              <a:buClr>
                <a:srgbClr val="669999"/>
              </a:buClr>
              <a:buSzPct val="6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Примеры: внедрение стандартов по энергосбережению в зданиях, стимулирование использования солнечных коллекторов, стимулы на покупку энергоэффективных приборов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762200"/>
            <a:ext cx="8229600" cy="4914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962840" y="152280"/>
            <a:ext cx="1800" cy="1524240"/>
          </a:xfrm>
          <a:prstGeom prst="line">
            <a:avLst/>
          </a:prstGeom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151840" y="152280"/>
            <a:ext cx="792000" cy="1293840"/>
            <a:chOff x="8151840" y="152280"/>
            <a:chExt cx="792000" cy="1293840"/>
          </a:xfrm>
        </p:grpSpPr>
        <p:sp>
          <p:nvSpPr>
            <p:cNvPr id="154" name=""/>
            <p:cNvSpPr/>
            <p:nvPr/>
          </p:nvSpPr>
          <p:spPr>
            <a:xfrm>
              <a:off x="8151840" y="15228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18520" y="152280"/>
              <a:ext cx="12060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486640" y="152280"/>
              <a:ext cx="1209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51840" y="318960"/>
              <a:ext cx="1191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318520" y="318960"/>
              <a:ext cx="12060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486640" y="318960"/>
              <a:ext cx="120960" cy="120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55120" y="318960"/>
              <a:ext cx="12060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51840" y="487080"/>
              <a:ext cx="11916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18520" y="487080"/>
              <a:ext cx="120600" cy="120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486640" y="487080"/>
              <a:ext cx="12096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655120" y="487080"/>
              <a:ext cx="120600" cy="1209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823240" y="487080"/>
              <a:ext cx="120600" cy="120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51840" y="655560"/>
              <a:ext cx="119160" cy="11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18520" y="65556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86640" y="655560"/>
              <a:ext cx="1209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55120" y="65556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51840" y="823680"/>
              <a:ext cx="11916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8520" y="823680"/>
              <a:ext cx="120600" cy="1191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486640" y="823680"/>
              <a:ext cx="12096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655120" y="823680"/>
              <a:ext cx="120600" cy="1191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823240" y="82368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51840" y="990360"/>
              <a:ext cx="119160" cy="120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18520" y="99036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86640" y="990360"/>
              <a:ext cx="1209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655120" y="99036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51840" y="1158840"/>
              <a:ext cx="11916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318520" y="1158840"/>
              <a:ext cx="120600" cy="120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86640" y="1158840"/>
              <a:ext cx="12096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655120" y="1158840"/>
              <a:ext cx="120600" cy="120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3185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655120" y="1326960"/>
              <a:ext cx="120600" cy="1191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1280" y="240840"/>
            <a:ext cx="7543800" cy="1359000"/>
          </a:xfrm>
          <a:prstGeom prst="rect">
            <a:avLst/>
          </a:prstGeom>
          <a:noFill/>
          <a:ln w="0">
            <a:noFill/>
          </a:ln>
        </p:spPr>
        <p:txBody>
          <a:bodyPr lIns="25560" rIns="5040" tIns="25560" bIns="255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2С уже не предел: </a:t>
            </a:r>
            <a:br>
              <a:rPr sz="3900"/>
            </a:br>
            <a:r>
              <a:rPr b="0" lang="en-US" sz="2400" spc="-1" strike="noStrike">
                <a:solidFill>
                  <a:srgbClr val="ffffff"/>
                </a:solidFill>
                <a:latin typeface="Arial Bold"/>
              </a:rPr>
              <a:t>малые островные страны 1.5С, CAN пересмотрел позицию на 1.5С</a:t>
            </a:r>
            <a:endParaRPr b="0" lang="en-US" sz="2400" spc="-1" strike="noStrike">
              <a:solidFill>
                <a:srgbClr val="ffffff"/>
              </a:solidFill>
              <a:latin typeface="Arial Bold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86" name=""/>
          <p:cNvSpPr/>
          <p:nvPr/>
        </p:nvSpPr>
        <p:spPr>
          <a:xfrm>
            <a:off x="7560360" y="6248520"/>
            <a:ext cx="15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6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9E0D-8342-4580-8D9F-40F6B08AB8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7200" y="173520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248520" y="1257480"/>
            <a:ext cx="2832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тые страны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25-40% к 202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-80-95% к 2050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 от уровня 199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Bold"/>
                <a:ea typeface="Arial Bold"/>
              </a:rPr>
              <a:t>Развивающиеся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2712"/>
                </a:solidFill>
                <a:latin typeface="Arial Bold"/>
                <a:ea typeface="Arial Bold"/>
              </a:rPr>
              <a:t>15-30%</a:t>
            </a:r>
            <a:r>
              <a:rPr b="0" lang="en-US" sz="2400" spc="-1" strike="noStrike">
                <a:solidFill>
                  <a:srgbClr val="dd2067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Arial"/>
              </a:rPr>
              <a:t>от базового уровня развития экономики к 2020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0"/>
            <a:ext cx="75438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560" rIns="30600" tIns="25560" bIns="25560" anchor="b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  <a:ea typeface="Arial Bold"/>
              </a:rPr>
              <a:t>На сколько нужно сократить выбросы?</a:t>
            </a:r>
            <a:endParaRPr b="0" lang="en-US" sz="39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7920" y="618840"/>
            <a:ext cx="8394840" cy="1181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old"/>
              </a:rPr>
              <a:t>Обзор подходов расчета сокращения выбросов к 2020 и 2050 годам</a:t>
            </a:r>
            <a:endParaRPr b="0" lang="en-US" sz="34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65160" y="1981080"/>
            <a:ext cx="6769080" cy="462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B164-C52E-426F-8B7F-2432A5EF82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7920" y="339840"/>
            <a:ext cx="8394840" cy="6220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 Bold"/>
              </a:rPr>
              <a:t>Расчет ЕС 2010 год</a:t>
            </a:r>
            <a:endParaRPr b="0" lang="en-US" sz="3400" spc="-1" strike="noStrike">
              <a:solidFill>
                <a:srgbClr val="ffffff"/>
              </a:solidFill>
              <a:latin typeface="Arial Bold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54160" y="1257480"/>
          <a:ext cx="8267400" cy="5371920"/>
        </p:xfrm>
        <a:graphic>
          <a:graphicData uri="http://schemas.openxmlformats.org/drawingml/2006/table">
            <a:tbl>
              <a:tblPr/>
              <a:tblGrid>
                <a:gridCol w="1171080"/>
                <a:gridCol w="1157400"/>
                <a:gridCol w="1170000"/>
                <a:gridCol w="1141560"/>
                <a:gridCol w="1211040"/>
                <a:gridCol w="1389240"/>
                <a:gridCol w="1027080"/>
              </a:tblGrid>
              <a:tr h="815400">
                <a:tc>
                  <a:txBody>
                    <a:bodyPr lIns="0" rIns="0" tIns="0" bIns="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ВВП/Людину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ПГ/ВВП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ПГ ’90-’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Частка відповідно до населення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Зобов’язання від 2005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Bold"/>
                          <a:ea typeface="Arial Bold"/>
                        </a:rPr>
                        <a:t>Зобов’я-зання від 1990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3b2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=a+b+c+d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EU 27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1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3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Австрал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,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Канад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3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Ісланд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1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Япон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5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Нова Зеланд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9,6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9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5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Норвег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Рос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,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,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3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3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Швейца-рія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,5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,7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8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7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Україн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,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8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0.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12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60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 Bold"/>
                          <a:ea typeface="Times New Roman Bold"/>
                        </a:rPr>
                        <a:t>США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,3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373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,9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8288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303600"/>
                          <a:tab algn="l" pos="15747840"/>
                          <a:tab algn="l" pos="16205040"/>
                          <a:tab algn="l" pos="16649640"/>
                          <a:tab algn="l" pos="17094240"/>
                          <a:tab algn="l" pos="17551440"/>
                          <a:tab algn="l" pos="17996040"/>
                          <a:tab algn="l" pos="18453240"/>
                          <a:tab algn="l" pos="18897480"/>
                          <a:tab algn="l" pos="19354680"/>
                          <a:tab algn="l" pos="19799280"/>
                          <a:tab algn="l" pos="20256480"/>
                          <a:tab algn="l" pos="210312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4%</a:t>
                      </a:r>
                      <a:endParaRPr b="0" lang="en-US" sz="12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01800"/>
                          <a:tab algn="l" pos="1346040"/>
                          <a:tab algn="l" pos="1803240"/>
                          <a:tab algn="l" pos="2247840"/>
                          <a:tab algn="l" pos="2705040"/>
                          <a:tab algn="l" pos="3149640"/>
                          <a:tab algn="l" pos="3594240"/>
                          <a:tab algn="l" pos="4051440"/>
                          <a:tab algn="l" pos="4495680"/>
                          <a:tab algn="l" pos="4952880"/>
                          <a:tab algn="l" pos="5397480"/>
                          <a:tab algn="l" pos="5854680"/>
                          <a:tab algn="l" pos="6299280"/>
                          <a:tab algn="l" pos="6756480"/>
                          <a:tab algn="l" pos="7201080"/>
                          <a:tab algn="l" pos="7645320"/>
                          <a:tab algn="l" pos="8102520"/>
                          <a:tab algn="l" pos="8547120"/>
                          <a:tab algn="l" pos="9004320"/>
                          <a:tab algn="l" pos="9448920"/>
                          <a:tab algn="l" pos="9906120"/>
                          <a:tab algn="l" pos="10350360"/>
                          <a:tab algn="l" pos="10794960"/>
                          <a:tab algn="l" pos="11252160"/>
                          <a:tab algn="l" pos="11696760"/>
                          <a:tab algn="l" pos="12153960"/>
                          <a:tab algn="l" pos="12598560"/>
                          <a:tab algn="l" pos="13055760"/>
                          <a:tab algn="l" pos="13500000"/>
                          <a:tab algn="l" pos="13944600"/>
                          <a:tab algn="l" pos="14401800"/>
                          <a:tab algn="l" pos="14846400"/>
                          <a:tab algn="l" pos="15544800"/>
                        </a:tabLst>
                      </a:pPr>
                      <a:r>
                        <a:rPr b="0" lang="en-US" sz="1800" spc="-1" strike="noStrike">
                          <a:solidFill>
                            <a:srgbClr val="003dcc"/>
                          </a:solidFill>
                          <a:latin typeface="Times New Roman Bold"/>
                          <a:ea typeface="Times New Roman Bold"/>
                        </a:rPr>
                        <a:t>-24%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FFDF-9C8C-4C9C-86B2-053681A2F7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400" y="114480"/>
            <a:ext cx="8813880" cy="6984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old"/>
              </a:rPr>
              <a:t>ECOFYS, «Factors underpinning future action», 2008</a:t>
            </a:r>
            <a:endParaRPr b="0" lang="en-US" sz="2600" spc="-1" strike="noStrike">
              <a:solidFill>
                <a:srgbClr val="ffffff"/>
              </a:solidFill>
              <a:latin typeface="Arial Bold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0080" y="939960"/>
            <a:ext cx="2882880" cy="3098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441600" y="4317840"/>
            <a:ext cx="2260800" cy="12574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200400" y="5854680"/>
            <a:ext cx="58165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 Bold"/>
                <a:ea typeface="Arial Bold"/>
              </a:rPr>
              <a:t>http://www.ecofys.com/com/publications/brochures_newsletters/factors_underpinning_future_action-country_factsheets2009update.htm </a:t>
            </a: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3270240" y="939960"/>
            <a:ext cx="2587680" cy="309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88920" y="4160880"/>
            <a:ext cx="2921040" cy="3421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6145200" y="939960"/>
            <a:ext cx="2782800" cy="309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2107-FE98-4F4B-B609-DCD85EA92AB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7840" y="253800"/>
            <a:ext cx="8547120" cy="13078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b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 Bold"/>
              </a:rPr>
              <a:t>International Institute for Applied systematic Analysis (IIASA), 2009</a:t>
            </a:r>
            <a:endParaRPr b="0" lang="en-US" sz="39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202" name=""/>
          <p:cNvSpPr/>
          <p:nvPr/>
        </p:nvSpPr>
        <p:spPr>
          <a:xfrm>
            <a:off x="279360" y="1536840"/>
            <a:ext cx="779796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ALYSIS OF THE PROPOSALS FOR GHG REDUCTIONS in 2020 MADE BY UNFCCC ANNEX I COUNTRIES 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Y MID-AUGUST 2009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54000" y="2451240"/>
            <a:ext cx="6780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862F0-E4B3-42E5-95FF-8BD459E7A52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65240" y="330120"/>
            <a:ext cx="8610480" cy="570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9687-C610-4335-9F33-FC1B9B4A476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5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9040" y="380880"/>
            <a:ext cx="7175520" cy="5499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7291-353B-46EE-ADD4-C2F4972EFF0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rina</dc:creator>
  <dc:description/>
  <dc:language>en-US</dc:language>
  <cp:lastModifiedBy/>
  <cp:revision>0</cp:revision>
  <dc:subject/>
  <dc:title>Головні питання на міжнародних переговорах Позиції різних країн</dc:title>
</cp:coreProperties>
</file>