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411-0B44-47A6-99EC-EE82F3D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CFF-15C8-4E5A-8801-2DCE8E4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810-B0CA-4168-9BBA-31FDADEB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268-F37B-494E-BBE6-D4D61F2D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377-4732-4EB5-A070-CA80EF19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46A2-7F27-4A1C-A93A-BB33B39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62A2-A66B-4714-AC23-33DEF023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D8E5-97E0-4CBD-916D-80FCEC6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3B2-8158-4040-96EA-7CA9D7E4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076-FF41-442C-A1CE-6525A9F8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6223-C086-4A63-BB92-CCD9C47E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865-EAF1-4CB2-B29D-F55421B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A086-8377-48DC-93C6-CCCF21C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5232-828C-45C0-A9B7-879CC94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3CCD-7178-4DB4-81FE-4C771E4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730E-0C32-4E86-BF33-3FE091DE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5D2F-7295-4C49-9568-6D49AAB1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09577-319F-422C-B033-AE34AFAC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8D9B0-DB8E-4C46-B792-B8554CA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248D3-450D-468C-B23B-7A7B2CCE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A766C-4CB2-41BA-9D0A-EC608682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E735C-235C-459B-B38F-FED4B2E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F15-55AD-42A2-AE97-194BD4C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EA5C2-E6AB-4FE7-93A8-35460661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C9A7C-64C1-4783-A8BD-26ADE36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E273C-04F5-4F59-9047-2C105B3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71E4E-488B-45B6-BB6C-EF74E7B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98A8-78DC-4367-8005-6982CD2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3BBBC-FE9C-4317-8F5C-073ED14E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3AA67-4CA7-47F3-9D50-A0D5C869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7CEE-F21D-4A17-BCE0-49A7534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391E-DD67-4801-8140-5D2F1A1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F454-B729-4D28-848C-9D18058B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B73-6D1C-43F1-A2B9-05E66C8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46C6-C264-449E-8392-FE3DD732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F7D3-54F7-4E0A-94DD-E629E4A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0693-30D7-4939-968B-D1F4B53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6767-1E62-454D-A514-B87C174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E629-ED65-4708-8919-B7FBBDD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8517-E1F5-48CE-976B-2520122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46B6-F7DD-41A0-A9ED-6095B254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A0A6-2405-4872-80C9-A5C69228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81D8-6321-4DE7-AE1D-9DFEF523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849-F273-4CFB-BDAD-02ADB701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663-7486-4A10-B79D-BF486B5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5D1-3E14-4996-A6DC-07C7A53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31A-8C34-4EFC-AF23-CA15F21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CE9-B08B-430B-B107-41BC1B1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1A4-1271-4377-A0D8-C379317647F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A8FF-7797-49E8-9B8E-8170D171087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226-656A-437F-85EE-79BD1D068EC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9F9-0D7A-482D-89EE-7144F650A69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Статус стран с переходной экономикой в контексте переговорного процесса РКИК ООН/КП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92876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Nastassia Haliak, Green Alliance Belaru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CAN Eastern Europe, Caucasus and Central Asi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28 April 2011, Kyev, Ukra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3" descr="logo.jpg"/>
          <p:cNvPicPr/>
          <p:nvPr/>
        </p:nvPicPr>
        <p:blipFill>
          <a:blip r:embed="rId1"/>
          <a:stretch/>
        </p:blipFill>
        <p:spPr>
          <a:xfrm>
            <a:off x="1428840" y="392904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ANIntl-logo_l"/>
          <p:cNvPicPr/>
          <p:nvPr/>
        </p:nvPicPr>
        <p:blipFill>
          <a:blip r:embed="rId2"/>
          <a:stretch/>
        </p:blipFill>
        <p:spPr>
          <a:xfrm>
            <a:off x="2857680" y="4071960"/>
            <a:ext cx="1609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8022"/>
                </a:solidFill>
                <a:latin typeface="Trebuchet MS"/>
              </a:rPr>
              <a:t>Страны с переходной экономикой в РКИК ООН</a:t>
            </a:r>
            <a:endParaRPr b="0" lang="en-US" sz="36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7180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атус «стран с переходной экономикой» зафиксирован в РКИК ООН и может быть упразднен только через внесение изменений в Конвенц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раны с переходной экономикой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)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 страны Центральной, Восточной Европ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бывшего СССР, которые находя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процессе перехода от командно-      административной к рыночной экономик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8022"/>
                </a:solidFill>
                <a:latin typeface="Trebuchet MS"/>
              </a:rPr>
              <a:t>В Приложении 1 РКИК ООН находится 14 стран с переходной экономикой:</a:t>
            </a:r>
            <a:br>
              <a:rPr sz="3600"/>
            </a:br>
            <a:endParaRPr b="0" lang="en-US" sz="3200" spc="-1" strike="noStrike">
              <a:solidFill>
                <a:srgbClr val="538022"/>
              </a:solidFill>
              <a:latin typeface="Trebuchet MS"/>
            </a:endParaRPr>
          </a:p>
        </p:txBody>
      </p:sp>
      <p:pic>
        <p:nvPicPr>
          <p:cNvPr id="221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82425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Основные «больные» вопросы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обходимость предоставления финансовых ресурсов развивающимся страна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нансовые вливания в Адаптационный фон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глеродное налогообложение (налоги на выбросы/транзакции/углеродоемкое производств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ческая помощь развивающимся страна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RV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лучае доступа к финансовым механизмам и трансферу технолог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Чего хотят госделегации?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обязательств по финансовой и технологической помощи развивающимся страна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ие в механизме трансфера технологий в качестве реципи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влечение инвестиционных ресурсов (кредитование и двустороннее сотрудничество в сфере науки и технологий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крепление потенциала посредством увеличения количества проектов технической помощи, осуществляемых ПРООН, ГЭФ и другими многосторонними организациями, программами и целевыми фонд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СОР17 в Канкуне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ешение КС в рамках трек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РГ-ДМ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изнается важность «заботы» о странах с переходной экономик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прос на дальнейшее обсуждение возможности доступ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IT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 трансферу технологий, финансам и укреплению потенциа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Сессия в Бангкоке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 по странам с переходной экономикой внесен на рассмотрение СРГ-ДМС на сессии в Бонне (раздел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other”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явление Республики Беларусь от имени Беларуси, России и Украины – ожидают от Дурбана практически значимых решений по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Бонн/Дурбан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итические противореч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Развивающиеся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ход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Евросоюз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ход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суждение практического наполнения Канку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Вопросы для обсуждения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левантность статуса «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conomy in transitio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» реальному экономическому положению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нансовые аспекты (чего же они действительно хотят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ступ к технология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6:39Z</dcterms:created>
  <dc:creator>Yar</dc:creator>
  <dc:description/>
  <dc:language>en-US</dc:language>
  <cp:lastModifiedBy>Yar</cp:lastModifiedBy>
  <dcterms:modified xsi:type="dcterms:W3CDTF">2011-04-28T08:43:22Z</dcterms:modified>
  <cp:revision>28</cp:revision>
  <dc:subject/>
  <dc:title>Статус стран с переходной экономикой в контексте переговорного процесса РКИК ООН/КП</dc:title>
</cp:coreProperties>
</file>