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75B6-504C-43CB-BE3A-EFE1020A3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668C-3B64-4631-BD3E-1D94B9DF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CB57-8346-4DF8-A31E-7367403AB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B159-D1FA-49DB-8A52-0753900D8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B24FD-6CDE-430A-B178-D6736358D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A423-0AF9-4A26-AD3A-E6A601CE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85A99-8D2E-4013-A151-CF44E879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75BB-93FF-4BCB-8C9D-BAE32B0A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91B5-4A8D-48AF-B75E-9D50BE17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BE90-9252-4A53-899B-8D0D35DA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B7F4-9832-4D72-8F37-906BE54F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F7BD-098C-4426-AF46-0BC42F4E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A8A5F-70A5-4A95-BE3D-567E8FE0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F2FA-2DB3-4C57-9281-DE83D84B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7E84-F5EA-46EE-9530-AB69ED92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E574-670D-48E3-959C-C872E0D00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5738-419E-4FA0-B36B-4A2ADF097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72EEDC-D55C-4EC1-A901-2DCD06299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0D1182-A70B-49FA-86BB-E1455BCF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3877CF-B186-4422-9D9B-319ADE8F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D7EDB0-3954-411A-BF53-13388E7A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F4D4AA-9B61-4FC5-9495-92DDE5BB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C55E-C935-4C76-8576-E6A96D7F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BA472E-D0EC-4877-8496-EE00D14C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CBD8FA-1BE8-445D-A9E7-17F6D171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0B056F-A62E-401E-A37C-765A3BE1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A558F6-F813-4B97-B114-FA3801A8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08C9ED-F7D4-4F5C-8B33-80B07D7B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C795C4-323B-4A9A-80D9-207182CD8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9E353A-96F5-4649-BF33-134A5FF49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F2066-660E-433C-9B8F-D5263D957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2AC63-DEFC-4DCB-B3F0-E8D683DD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FE6A3-8569-4A6A-894C-14FC38D7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1BB0-C8A1-4F24-85EF-5B55EF38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97734-4808-4918-9939-58DC214E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BB286-A3CA-441F-B8CF-81249B20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075C3-F373-4870-A94C-34BC79E1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A835B-418C-40E2-9974-EA177ADF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E3A5B-CD82-4704-84F0-9BE6D132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F7B29-AE0C-43A2-89F8-8D4A3378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6E0A8-BAAE-4DAA-91AB-BF412255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C5CBD-9A09-47F6-BCB1-73042A114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F968B-E5F0-43A1-8040-BFA3FC681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AE17-F61F-4B60-9763-C4787BEC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1777-8859-4A59-870B-0C182CD2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0792-A49E-4889-8F23-B1EB6540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8BE7-741A-4208-A989-C100308F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B4BB-1D77-4B9A-B05C-31126EC9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538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38022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56FE-5532-4549-9A93-0FC9EB2805D7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538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38022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E65D-6FDF-40E2-8009-EFCF040DFF81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538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38022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ACC3-8D97-4729-A609-CBDEDBF19643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5380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38022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3D13-0C20-473E-9C3B-71749617602F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3680" y="380880"/>
            <a:ext cx="8229600" cy="247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Статус стран с переходной экономикой в контексте переговорного процесса РКИК ООН/КП</a:t>
            </a: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371600" y="4928760"/>
            <a:ext cx="64008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8022"/>
                </a:solidFill>
                <a:latin typeface="Georgia"/>
              </a:rPr>
              <a:t>Nastassia Haliak, Green Alliance Belaru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8022"/>
                </a:solidFill>
                <a:latin typeface="Georgia"/>
              </a:rPr>
              <a:t>CAN Eastern Europe, Caucasus and Central Asia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8022"/>
                </a:solidFill>
                <a:latin typeface="Georgia"/>
              </a:rPr>
              <a:t>28 April 2011, Kyev, Ukrain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Рисунок 3" descr="logo.jpg"/>
          <p:cNvPicPr/>
          <p:nvPr/>
        </p:nvPicPr>
        <p:blipFill>
          <a:blip r:embed="rId1"/>
          <a:stretch/>
        </p:blipFill>
        <p:spPr>
          <a:xfrm>
            <a:off x="1428840" y="3929040"/>
            <a:ext cx="1285920" cy="9651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CANIntl-logo_l"/>
          <p:cNvPicPr/>
          <p:nvPr/>
        </p:nvPicPr>
        <p:blipFill>
          <a:blip r:embed="rId2"/>
          <a:stretch/>
        </p:blipFill>
        <p:spPr>
          <a:xfrm>
            <a:off x="2857680" y="4071960"/>
            <a:ext cx="160956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0040" y="7855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38022"/>
                </a:solidFill>
                <a:latin typeface="Trebuchet MS"/>
              </a:rPr>
              <a:t>Страны с переходной экономикой в РКИК ООН</a:t>
            </a:r>
            <a:endParaRPr b="0" lang="en-US" sz="36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071800"/>
            <a:ext cx="822960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Статус «стран с переходной экономикой» зафиксирован в РКИК ООН и может быть упразднен только через внесение изменений в Конвенцию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Страны с переходной экономикой 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IT) 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те страны Центральной, Восточной Европы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и бывшего СССР, которые находятс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в процессе перехода от командно-      административной к рыночной экономик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38022"/>
                </a:solidFill>
                <a:latin typeface="Trebuchet MS"/>
              </a:rPr>
              <a:t>В Приложении 1 РКИК ООН находится 14 стран с переходной экономикой:</a:t>
            </a:r>
            <a:br>
              <a:rPr sz="3600"/>
            </a:br>
            <a:endParaRPr b="0" lang="en-US" sz="3200" spc="-1" strike="noStrike">
              <a:solidFill>
                <a:srgbClr val="538022"/>
              </a:solidFill>
              <a:latin typeface="Trebuchet MS"/>
            </a:endParaRPr>
          </a:p>
        </p:txBody>
      </p:sp>
      <p:pic>
        <p:nvPicPr>
          <p:cNvPr id="221" name="Содержимое 2" descr=""/>
          <p:cNvPicPr/>
          <p:nvPr/>
        </p:nvPicPr>
        <p:blipFill>
          <a:blip r:embed="rId1"/>
          <a:stretch/>
        </p:blipFill>
        <p:spPr>
          <a:xfrm>
            <a:off x="450720" y="1974960"/>
            <a:ext cx="824256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38022"/>
                </a:solidFill>
                <a:latin typeface="Trebuchet MS"/>
              </a:rPr>
              <a:t>Основные «больные» вопросы</a:t>
            </a: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857240"/>
            <a:ext cx="8229600" cy="47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еобходимость предоставления финансовых ресурсов развивающимся страна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Финансовые вливания в Адаптационный фонд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глеродное налогообложение (налоги на выбросы/транзакции/углеродоемкое производство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ехнологическая помощь развивающимся страна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RV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случае доступа к финансовым механизмам и трансферу технологи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38022"/>
                </a:solidFill>
                <a:latin typeface="Trebuchet MS"/>
              </a:rPr>
              <a:t>Чего хотят госделегации?</a:t>
            </a: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тсутствие обязательств по финансовой и технологической помощи развивающимся странам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частие в механизме трансфера технологий в качестве реципиентов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ивлечение инвестиционных ресурсов (кредитование и двустороннее сотрудничество в сфере науки и технологий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крепление потенциала посредством увеличения количества проектов технической помощи, осуществляемых ПРООН, ГЭФ и другими многосторонними организациями, программами и целевыми фондами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38022"/>
                </a:solidFill>
                <a:latin typeface="Trebuchet MS"/>
              </a:rPr>
              <a:t>СОР17 в Канкуне</a:t>
            </a: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857240"/>
            <a:ext cx="8229600" cy="47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Решение КС в рамках трека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СРГ-ДМС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признается важность «заботы» о странах с переходной экономикой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запрос на дальнейшее обсуждение возможности доступа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IT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 трансферу технологий, финансам и укреплению потенциал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38022"/>
                </a:solidFill>
                <a:latin typeface="Trebuchet MS"/>
              </a:rPr>
              <a:t>Сессия в Бангкоке</a:t>
            </a: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28520"/>
            <a:ext cx="822960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прос по странам с переходной экономикой внесен на рассмотрение СРГ-ДМС на сессии в Бонне (раздел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“other”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аявление Республики Беларусь от имени Беларуси, России и Украины – ожидают от Дурбана практически значимых решений по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I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38022"/>
                </a:solidFill>
                <a:latin typeface="Trebuchet MS"/>
              </a:rPr>
              <a:t>Бонн/Дурбан</a:t>
            </a: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литические противореч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Развивающиеся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s.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ереходны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Евросоюз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s.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ереходны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суждение практического наполнения Канкун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38022"/>
                </a:solidFill>
                <a:latin typeface="Trebuchet MS"/>
              </a:rPr>
              <a:t>Вопросы для обсуждения</a:t>
            </a:r>
            <a:endParaRPr b="0" lang="en-US" sz="4000" spc="-1" strike="noStrike">
              <a:solidFill>
                <a:srgbClr val="538022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елевантность статуса «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conomy in transition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» реальному экономическому положению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Финансовые аспекты (чего же они действительно хотят?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оступ к технология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7T16:46:39Z</dcterms:created>
  <dc:creator>Yar</dc:creator>
  <dc:description/>
  <dc:language>en-US</dc:language>
  <cp:lastModifiedBy>Yar</cp:lastModifiedBy>
  <dcterms:modified xsi:type="dcterms:W3CDTF">2011-04-28T08:43:22Z</dcterms:modified>
  <cp:revision>28</cp:revision>
  <dc:subject/>
  <dc:title>Статус стран с переходной экономикой в контексте переговорного процесса РКИК ООН/КП</dc:title>
</cp:coreProperties>
</file>