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49C5-8E7E-4303-BAE3-2F1D000FF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EAE55-73A0-45BB-8E9A-B2B97E325B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B128C-A9AF-4210-B3E0-1D2B2B053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8CA9-7596-4597-9A92-3189F2A99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3449-D022-4F1E-9C09-BF651A59E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ADAF-CC94-4083-95B3-B619F4338E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EBC06-38E3-4EE8-94CC-69038A61C9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71866-2411-4FAE-ACD9-5D07343742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CD980-4FA9-4E27-BD23-8D25B58132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EB93C-8074-4C66-B4B1-5F68F1D721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87B1-31B2-46B1-B78E-5127AC3F28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446A-5193-465E-894F-F916243F2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839DE-CB4E-4335-8350-552FC1B3F8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596D-1426-4C87-8EFF-E8DCF22F9A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25E9-CB91-4E38-B674-5A08E7B9CC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C0731-C64E-4FA8-8ACF-D3803B7704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352BF-A388-44AE-B055-F3D7B0296E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CE5-6B88-4D26-9FAF-04412B803A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7423-4D93-46C9-8C78-6576590DB9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213-63F2-4C26-9ED9-BC60435BF9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75E-BC7D-446A-812E-EF91210D45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57F4-FC07-4474-8CD1-267D4E3CA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083E-845A-4E3F-BE5E-C2B7A1EB40D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ECD7-D7C6-4648-8274-728E57E9D9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B331-EC4E-4939-8F84-888621DBB1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571-BF1E-4835-AE3A-BB671644371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811-2609-4222-AD2E-9384B6E6BB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869-A7FB-4043-A1D3-451930A03A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F420-CDF2-417F-AE8A-E4CA390C50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1DF-589D-42E1-9071-C2471252B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1A816-F267-4C17-8588-CB457BBB2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77CCD-2BFC-4CA4-B032-7B5FC63C7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FE6F4-0F9E-45DC-BD2C-5868FE261A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FDF2-7587-4690-8C78-69FBC2188D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104B8-8ACA-4002-B637-2B74A6FB3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31D5-D250-48AA-B41A-6D319B209E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600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8880" y="3049200"/>
            <a:ext cx="6248520" cy="38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6360"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2081-023E-44C8-A58E-A53C5986F2BF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47772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77328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06668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38420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14DB-C2BF-4D71-95CA-327388ACFD7E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2848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82404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11744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43496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474-60AD-41B6-B141-D9AC3B1438F7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mailto:is@necu.org.ua" TargetMode="External"/><Relationship Id="rId3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978760" y="838080"/>
            <a:ext cx="1800" cy="44960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94680" y="3271680"/>
            <a:ext cx="1054080" cy="2189160"/>
            <a:chOff x="7294680" y="3271680"/>
            <a:chExt cx="1054080" cy="2189160"/>
          </a:xfrm>
        </p:grpSpPr>
        <p:sp>
          <p:nvSpPr>
            <p:cNvPr id="119" name=""/>
            <p:cNvSpPr/>
            <p:nvPr/>
          </p:nvSpPr>
          <p:spPr>
            <a:xfrm>
              <a:off x="729468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7872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9468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872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63120" y="35557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94680" y="38401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787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631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47160" y="384012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468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7872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63120" y="41227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4680" y="44067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87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31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47160" y="4406760"/>
              <a:ext cx="201600" cy="203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9468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872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3120" y="46908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94680" y="49752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631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468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6312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24960" cy="18036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old"/>
              </a:rPr>
              <a:t>Обзор хода международных переговоров ООН по изменению климата</a:t>
            </a:r>
            <a:endParaRPr b="0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5" name=""/>
          <p:cNvSpPr/>
          <p:nvPr/>
        </p:nvSpPr>
        <p:spPr>
          <a:xfrm>
            <a:off x="2854800" y="6362640"/>
            <a:ext cx="367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Ирина Ставчук,           Киев 2011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38720" y="171360"/>
            <a:ext cx="514440" cy="782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5200">
            <a:off x="407880" y="3119040"/>
            <a:ext cx="392436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676760" y="3106800"/>
            <a:ext cx="3962520" cy="284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03040" y="165240"/>
            <a:ext cx="1565280" cy="79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05640" y="304920"/>
            <a:ext cx="401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Национальный Экоцентр Украины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47240"/>
            <a:ext cx="7543800" cy="93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Копенгагенское соглашение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21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36a"/>
                </a:solidFill>
                <a:latin typeface="Arial Bold"/>
                <a:ea typeface="Arial Bold"/>
              </a:rPr>
              <a:t>2С потеплени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как можно быстрее стабилизировать уровень глобального потепления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36a"/>
                </a:solidFill>
                <a:latin typeface="Arial Bold"/>
                <a:ea typeface="Arial Bold"/>
              </a:rPr>
              <a:t>срочная финансовая помощь наиболее уязвимым странам 30 млрд на 2010-2012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936a"/>
                </a:solidFill>
                <a:latin typeface="Arial Bold"/>
                <a:ea typeface="Arial Bold"/>
              </a:rPr>
              <a:t>финансовые обязательства 100 млрд в год к 2020 году, будет создан Копенгагенский климатический фонд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развитые страны вписывают обязательства в таблицу, развивающиеся шлют список мероприятий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овый Технологический механизм для передачи технологий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пересмотр в 2015 году.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Канкунские соглашен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Принят пакет технических и политических решений по отдельным вопросам: система управления адаптационным фондом, механизм REDD, правила для измерения, отчетности и проверки действий развивающихся стран по сокращению выбросов, создание Зеленого климатического фонда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Основа решений для принятия нового соглашения в Южной Африке в 2011 году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BBDC-7E80-41E1-A3D9-66811D7E0E7A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AA5A-8AF8-42AA-8366-3678474787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Что важно для Центральной Азии на переговорах?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4456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Мир принимает решения о сокращении выбросов, как советуют ученые, чтобы минимизировать негативные последствия в будущем (минимум на 50% от 1990 года к 2050 в мире)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4183200"/>
            <a:ext cx="82296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  <a:ea typeface="Arial"/>
              </a:rPr>
              <a:t>Техническая бумага про экономические и социальные последствия удержания потепления на уровне 1.5С (ваши делегации должны говорить с теми, кто блокирует это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160200"/>
            <a:ext cx="7543800" cy="673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тые страны: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9480"/>
            <a:ext cx="8229600" cy="558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обязательство сократить выбросы на 40% от 1990 года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огласиться что каждая страна разработает к 2012 году план безуглеродного развития экономик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твердить систему отчетности, проверки и верификации действий развитых стран по сокращению выброс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Прозрачные правила в LULUCF, минимизация вреда от неиспользованных квот и двойной отчетности по рыночным механизмам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D201-57CF-48A6-BDCF-68789673CE93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7F9-890B-48CD-8322-F73AA8E2D35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8680" y="13500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вающиеся стран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17520" y="13003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e936a"/>
                </a:solidFill>
                <a:latin typeface="Arial"/>
              </a:rPr>
              <a:t>Готовность разрабатывать планы низкоуглеродного развития (не обязательно для наиболее бедных стран) при условии финансовой и технической помощи со стороны развитых стран (NAMA)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Утвердить правила для измерения, отчетности и проверки результатов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ациональные планы по сокращению выбросов должны быть выражены в % снижения выбросов по сравнению со сценарием бизнес как обычно.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3068-0C0F-46D8-850E-7C420B530C9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Что важно для ЦА на переговорах?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5680" y="1512720"/>
            <a:ext cx="8432640" cy="4267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e936a"/>
                </a:solidFill>
                <a:latin typeface="Arial"/>
              </a:rPr>
              <a:t>Создание прозрачной схемы управления фондом по адаптаци: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79600" indent="-347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озрачная структура управления, регионально представленная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79600" indent="-347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ямой доступ к фонду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79600" indent="-3477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решения о приоритетах и направлениях финансирования принимались на конференциях сторон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2FDB-03AA-4CA9-9A61-78863C432BF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147240"/>
            <a:ext cx="7543800" cy="8254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Вывод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4732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Не ожидать большого прорыва на международных переговорах и стараться самостоятельно планировать и постепенно реализовывать мероприятия, которые будут способствовать адаптации;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Быть готовыми использовать возможности международных механизмов (МЧР, Адаптационный Фонд, NAMA);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Arial"/>
              </a:rPr>
              <a:t>Для НПО: активно вовлекаться в процесс планирования программ по климату от международной помощи - они должны работать на нужды людей</a:t>
            </a:r>
            <a:endParaRPr b="0" lang="en-US" sz="2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A36-571F-447E-AB7A-A806011B654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240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Спасибо за внимание!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14360" y="1371600"/>
            <a:ext cx="3720960" cy="5423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012920" y="2087640"/>
            <a:ext cx="4660920" cy="36828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s@necu.org.u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www.infoclimate.or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www.climatenetwork.org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211400"/>
            <a:ext cx="8229600" cy="5207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ет прописанных общих целей по сокращению выбросов на 2050 год и помежуточных 2020-2030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Страны выделили деньги на срочную помощь, но меньше обещанного и проблемы с дополнительностью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Вписанные обязательства развитых стран в таблицу приведут мир к 3-5С потепления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е решен принципиальный вопрос как будет формироваться Копенгагенский Фонд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74760" indent="-3358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Пересмотр к 2015 году слишком поздно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456840" y="147240"/>
            <a:ext cx="7543800" cy="939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Копенгагенское соглашение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82400" y="12204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Объявленные цели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0202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4000"/>
          </a:bodyPr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С-3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орвегия -4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Япония -25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ША, Канада, Австралия - выйти на уровень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оссия 15-25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ларусь 5-1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краина -2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Казахстан -15% от 1992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5964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 вместе 15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-127440"/>
            <a:ext cx="7543800" cy="20955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Зачем нужны международные переговоры по климату?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71880" y="2219400"/>
            <a:ext cx="4572000" cy="45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321D-08A5-4EEA-87A1-723C9DFCD1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61720"/>
            <a:ext cx="754380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овые механизм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30120" y="122400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AMA - National Appropriate Mitigation Actions (Национальные соответствующие действия по сокращению выбросов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лан мероприятий по сокращению выбросов в контексте устойчивого развития, реализумый при технической и финансовой поддержке и возможный к оценке, отчетности и проверке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имеры: внедрение стандартов по энергосбережению в зданиях, стимулирование использования солнечных коллекторов, стимулы на покупку энергоэффективных приборов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9440" y="114120"/>
            <a:ext cx="7543800" cy="14173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 Bold"/>
              </a:rPr>
              <a:t>Что будет с гибкими механизмами Киотского Протокола?</a:t>
            </a:r>
            <a:endParaRPr b="0" lang="en-US" sz="33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5240" y="1944360"/>
            <a:ext cx="8813520" cy="4102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 случае нового соглашения - реформирование и продолжение МЧР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еопределенность с СВ и торговлей квотам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 случае отсутствия нового соглашения - только МЧР будет работать на рынок Европейской системы торговли квотами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Идея гибких механизмов 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38000"/>
            <a:ext cx="7467480" cy="497844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 fontScale="98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влечение бизнеса в процессы сокращения выбросов парниковых газов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зможность получения дополнительного финансирования на проекты модернизации промышленности, сектора энергетики, сокращения выбросов в других секторах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Возможность сотрудничества с развитыми странами по передаче передовых технологи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D8CE-55BB-442F-94C8-A719E82FE2D5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" y="1447920"/>
            <a:ext cx="8077320" cy="1440"/>
          </a:xfrm>
          <a:prstGeom prst="line">
            <a:avLst/>
          </a:prstGeom>
          <a:ln w="19080">
            <a:solidFill>
              <a:srgbClr val="99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480440" y="203040"/>
            <a:ext cx="1600200" cy="217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7D2-2EB0-4F9D-A3A1-9982F83EE46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Гибкие механизм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42720" y="1528560"/>
            <a:ext cx="7708680" cy="49021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еформирование МЧР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МЧР не достигает поставленных на него целей и должен быть доработан. По анализу, в половине проектов есть проблемы с «дополнительностью» (то есть проекты и так были бы реализованы, без помощи МЧР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овые механизмы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Необходимость введения новых механизмов, позволяющих получать финансирование на государственные и секторальные программы по сокращению выбросов ПГ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505640" y="177840"/>
            <a:ext cx="1536840" cy="194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37CD-8CE1-468D-9DCA-10C6B9705B8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8392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Предложен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6000" y="1587600"/>
            <a:ext cx="8889840" cy="52704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t">
            <a:normAutofit/>
          </a:bodyPr>
          <a:p>
            <a:pPr marL="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2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недрение коэффициентов на количество единиц сокращения выбросов в зависимости от типа проектов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ключение дополнительных положительных результатов в критерии проектов МЧР (социальные и экологические стандарты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144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Исключение лесных проектов; проектов атомной энергетики и технологии «Улавливание и захоронение углерода» в МЧР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8E5E-D1F9-4B82-8832-792B562A8C45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08B1-A693-4899-AEBA-A57A1BA970C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Предложен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55680" y="15919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40" tIns="50760" bIns="50760" anchor="t">
            <a:normAutofit fontScale="68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Секторальный МЧР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Сектор отдельной страны (например энергетика, производство металла) должен подготовить план мероприятий по сокращению выбросов на предприятиях относительно базовой линии развития и объема выбросов. Мероприятия, выходящие за пределы финансовых возможностей будут финансироваться в рамках механизма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- Сектор отдельной страны получит обязательство на сокращение, из которого часть сокращений (экономически выгодные) реализуются за собственные средства, а остальное за счет МЧР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p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тив проектов СУУ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B59A-F407-45B3-AC9F-3A5025AAB4A5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648-8161-415D-B1FB-FD08BBDFE32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2400" y="286920"/>
            <a:ext cx="7543800" cy="825480"/>
          </a:xfrm>
          <a:prstGeom prst="rect">
            <a:avLst/>
          </a:prstGeom>
          <a:noFill/>
          <a:ln w="0">
            <a:noFill/>
          </a:ln>
        </p:spPr>
        <p:txBody>
          <a:bodyPr lIns="50760" rIns="3060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Финансирование: принцип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28240" y="1728360"/>
            <a:ext cx="8674200" cy="4483080"/>
          </a:xfrm>
          <a:prstGeom prst="rect">
            <a:avLst/>
          </a:prstGeom>
          <a:noFill/>
          <a:ln w="0">
            <a:noFill/>
          </a:ln>
        </p:spPr>
        <p:txBody>
          <a:bodyPr lIns="50760" rIns="0" tIns="50760" bIns="50760" anchor="t">
            <a:normAutofit fontScale="96000"/>
          </a:bodyPr>
          <a:p>
            <a:pPr marL="658080" indent="-328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Дополнительное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финансирование к помощи по экономическому развитию (ODA)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Объем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финансирования достаточный для покрытия потребностей, без учета МЧР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 algn="just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Гарантированость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наполнения фонда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 algn="just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Представительство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от разных стран при принятии решений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658080" indent="-328680" algn="just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аличие </a:t>
            </a:r>
            <a:r>
              <a:rPr b="0" lang="en-US" sz="3000" spc="-1" strike="noStrike">
                <a:solidFill>
                  <a:srgbClr val="ffffcc"/>
                </a:solidFill>
                <a:latin typeface="Arial Bold"/>
                <a:ea typeface="Arial Bold"/>
              </a:rPr>
              <a:t>единого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фонда для прозрачности и отчетност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AD8-B101-47D7-92E2-64BA6A5865E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Экономические основания для действ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 rot="21595800">
            <a:off x="5968800" y="2125440"/>
            <a:ext cx="3073320" cy="4108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4160" y="1440000"/>
            <a:ext cx="530856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% глобального ВВП достаточно для стабилизации и постепенного сокращения выбросов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здействие приведет к потере 5-20% ВВП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е ко всему можно адаптировать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аука изменения климата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Концентрация парниковых газов в атмосфере уже достигла 379 ч.н.м.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Изменения климата происходят намного быстрее, чем это ранее прогнозировали ученые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Темпы выбросов парниковых газов соотносятся с самым худшим сценарием МГЭИК (IPCC)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C567-C086-482B-83E3-89DA9647118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914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159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40840"/>
            <a:ext cx="7543800" cy="1359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2С уже не предел: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 Bold"/>
              </a:rPr>
              <a:t>малые островные страны 1.5С, CAN пересмотрел позицию</a:t>
            </a:r>
            <a:endParaRPr b="0" lang="en-US" sz="2400" spc="-1" strike="noStrike">
              <a:solidFill>
                <a:srgbClr val="ffffff"/>
              </a:solidFill>
              <a:latin typeface="Arial Bold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1" name=""/>
          <p:cNvSpPr/>
          <p:nvPr/>
        </p:nvSpPr>
        <p:spPr>
          <a:xfrm>
            <a:off x="75603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178-8F4A-45D5-9AC8-7C0D55F083F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87200" y="173520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248520" y="1257480"/>
            <a:ext cx="2832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25-40% к 202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80-95% к 205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вающиес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15-30%</a:t>
            </a:r>
            <a:r>
              <a:rPr b="0" lang="en-US" sz="2400" spc="-1" strike="noStrike">
                <a:solidFill>
                  <a:srgbClr val="dd2067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от базового уровня развития экономики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0"/>
            <a:ext cx="7543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30600" tIns="25560" bIns="2556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  <a:ea typeface="Arial Bold"/>
              </a:rPr>
              <a:t>На сколько нужно сократить выбросы?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-1440"/>
            <a:ext cx="8242200" cy="142056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dd5"/>
                </a:solidFill>
                <a:latin typeface="Tahoma"/>
                <a:ea typeface="Lucida Grande"/>
              </a:rPr>
              <a:t>Структура международных соглашений по климату</a:t>
            </a:r>
            <a:endParaRPr b="0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644720" y="2271240"/>
            <a:ext cx="3240" cy="2071800"/>
          </a:xfrm>
          <a:prstGeom prst="line">
            <a:avLst/>
          </a:prstGeom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92040" y="1803240"/>
            <a:ext cx="8494560" cy="419040"/>
            <a:chOff x="392040" y="1803240"/>
            <a:chExt cx="8494560" cy="419040"/>
          </a:xfrm>
        </p:grpSpPr>
        <p:sp>
          <p:nvSpPr>
            <p:cNvPr id="198" name=""/>
            <p:cNvSpPr/>
            <p:nvPr/>
          </p:nvSpPr>
          <p:spPr>
            <a:xfrm>
              <a:off x="1165320" y="1803240"/>
              <a:ext cx="6825960" cy="419040"/>
            </a:xfrm>
            <a:prstGeom prst="roundRect">
              <a:avLst>
                <a:gd name="adj" fmla="val 16491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2040" y="1827000"/>
              <a:ext cx="84945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92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cc"/>
                  </a:solidFill>
                  <a:latin typeface="Arial"/>
                  <a:ea typeface="Arial"/>
                </a:rPr>
                <a:t>Рамочная Конвенция ООН по изменению климата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38240" y="3110040"/>
            <a:ext cx="3276360" cy="672840"/>
            <a:chOff x="138240" y="3110040"/>
            <a:chExt cx="3276360" cy="672840"/>
          </a:xfrm>
        </p:grpSpPr>
        <p:sp>
          <p:nvSpPr>
            <p:cNvPr id="201" name=""/>
            <p:cNvSpPr/>
            <p:nvPr/>
          </p:nvSpPr>
          <p:spPr>
            <a:xfrm>
              <a:off x="209160" y="3116160"/>
              <a:ext cx="3009600" cy="656640"/>
            </a:xfrm>
            <a:prstGeom prst="roundRect">
              <a:avLst>
                <a:gd name="adj" fmla="val 16699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8240" y="3110040"/>
              <a:ext cx="32763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иотский протокол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І-ый период 2008-2012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9800" y="4365720"/>
            <a:ext cx="2763720" cy="675720"/>
            <a:chOff x="3349800" y="4365720"/>
            <a:chExt cx="2763720" cy="675720"/>
          </a:xfrm>
        </p:grpSpPr>
        <p:sp>
          <p:nvSpPr>
            <p:cNvPr id="204" name=""/>
            <p:cNvSpPr/>
            <p:nvPr/>
          </p:nvSpPr>
          <p:spPr>
            <a:xfrm>
              <a:off x="3349800" y="4373640"/>
              <a:ext cx="2763720" cy="658440"/>
            </a:xfrm>
            <a:prstGeom prst="roundRect">
              <a:avLst>
                <a:gd name="adj" fmla="val 16625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11680" y="4365720"/>
              <a:ext cx="1949400" cy="67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??? Протокол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-20??</a:t>
              </a:r>
              <a:endParaRPr b="0" lang="en-US" sz="21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08000" y="4313160"/>
            <a:ext cx="3073320" cy="774720"/>
            <a:chOff x="108000" y="4313160"/>
            <a:chExt cx="3073320" cy="774720"/>
          </a:xfrm>
        </p:grpSpPr>
        <p:sp>
          <p:nvSpPr>
            <p:cNvPr id="207" name=""/>
            <p:cNvSpPr/>
            <p:nvPr/>
          </p:nvSpPr>
          <p:spPr>
            <a:xfrm>
              <a:off x="303120" y="4373640"/>
              <a:ext cx="2767320" cy="657000"/>
            </a:xfrm>
            <a:prstGeom prst="roundRect">
              <a:avLst>
                <a:gd name="adj" fmla="val 16620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8000" y="4313160"/>
              <a:ext cx="307332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ІІ-ой период действия 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 flipH="1" flipV="1">
            <a:off x="1623600" y="3784680"/>
            <a:ext cx="1800" cy="558720"/>
          </a:xfrm>
          <a:prstGeom prst="line">
            <a:avLst/>
          </a:prstGeom>
          <a:ln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689120" y="2247840"/>
            <a:ext cx="1930320" cy="825480"/>
          </a:xfrm>
          <a:prstGeom prst="line">
            <a:avLst/>
          </a:prstGeom>
          <a:ln w="255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14480" y="5407200"/>
            <a:ext cx="3073320" cy="657000"/>
            <a:chOff x="114480" y="5407200"/>
            <a:chExt cx="3073320" cy="657000"/>
          </a:xfrm>
        </p:grpSpPr>
        <p:sp>
          <p:nvSpPr>
            <p:cNvPr id="212" name=""/>
            <p:cNvSpPr/>
            <p:nvPr/>
          </p:nvSpPr>
          <p:spPr>
            <a:xfrm>
              <a:off x="309600" y="5407200"/>
              <a:ext cx="2767320" cy="657000"/>
            </a:xfrm>
            <a:prstGeom prst="roundRect">
              <a:avLst>
                <a:gd name="adj" fmla="val 16620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4480" y="5524200"/>
              <a:ext cx="30733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G KP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00400" y="5407200"/>
            <a:ext cx="3073320" cy="657000"/>
            <a:chOff x="3200400" y="5407200"/>
            <a:chExt cx="3073320" cy="657000"/>
          </a:xfrm>
        </p:grpSpPr>
        <p:sp>
          <p:nvSpPr>
            <p:cNvPr id="215" name=""/>
            <p:cNvSpPr/>
            <p:nvPr/>
          </p:nvSpPr>
          <p:spPr>
            <a:xfrm>
              <a:off x="3395520" y="5407200"/>
              <a:ext cx="2767320" cy="657000"/>
            </a:xfrm>
            <a:prstGeom prst="roundRect">
              <a:avLst>
                <a:gd name="adj" fmla="val 16620"/>
              </a:avLst>
            </a:prstGeom>
            <a:solidFill>
              <a:srgbClr val="cccc00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200400" y="5524200"/>
              <a:ext cx="307332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7848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G LCA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76320" y="194760"/>
            <a:ext cx="8991360" cy="25657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Arial"/>
              </a:rPr>
              <a:t>«Страны больше боятся нового соглашения по изменению климата, чем будущих последствий от изменения климата»</a:t>
            </a:r>
            <a:endParaRPr b="0" lang="en-US" sz="3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66680" y="1892160"/>
            <a:ext cx="6769080" cy="462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EF2F-54FD-45C2-AB7E-2257271255D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49120"/>
            <a:ext cx="7543800" cy="749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ет доверия друг к другу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72880"/>
            <a:ext cx="8229600" cy="3035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азвитые &lt;-&gt; развивающиеся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нутри развитых стран (США &lt;-&gt; ЕС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Внутри развивающихся стран (Китай - Саудовская Аравия - Островные и Африканские государства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C056B-F9D7-4964-A967-B5E792F95C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/>
  <cp:revision>0</cp:revision>
  <dc:subject/>
  <dc:title>Головні питання на міжнародних переговорах Позиції різних країн</dc:title>
</cp:coreProperties>
</file>