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0F0B8-C7D1-46DA-B905-4A426E3B3E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40352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890FC-05B2-4091-B9D4-F6D07E0203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CA77A-0D23-495A-BF5F-0012D0768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4035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4035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4035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E730C-92D3-4D2C-A2B7-7EC5952F0C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B7888-B2ED-4C92-8649-2F949F94F9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13711-0DF6-49CC-8121-8C4DC93D80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79E7C-2D29-4297-9C12-DCC8522ABC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782D2-E740-4691-9397-0FACCFC714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4FF2C-C93C-4746-BE65-02CD099995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6840" y="0"/>
            <a:ext cx="75438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3E636-1510-488D-BDD4-41B9B69F83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88D85-DBEC-4FA3-BE24-D3A6DDED97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95942-2E05-4C3E-B554-AAD11FA6FD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60C0E-327E-4EFB-B569-5B0060441C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A2436-B9D9-4CA4-ADFE-E3C64B0BE6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40352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72935-7E4E-4F63-A2B5-785AC05618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39884-3319-44F3-B97D-A4FE773830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4035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4035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4035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BC2D9-CB10-4205-B88E-10E9F9A4D94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F744-6ED9-45DA-AC6F-04E6D600D83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5BA9-28FC-43BF-A845-2EC4CBCB3F3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97AE-66A9-4D93-9CF3-F2B7889774F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47E5-A48E-479F-93A9-F79957BF647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E786-1DBD-4F35-99E1-DF2FDD4A06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089E3-373E-418A-9614-E8ED9CF6CE7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6840" y="0"/>
            <a:ext cx="75438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942E-D324-4099-AA5E-FA559568AB1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E93A-C7B0-4852-B80C-B70E2242093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B875-8474-423A-A18F-8CD4499A8CB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A11A-BACA-47B4-91CE-8ED9DAAC8D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440352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99FA-3031-4C83-9D63-46EDF35E857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6CA5-FE71-41E6-AACD-43E60D46AB5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44035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44035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44035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64D4-73CE-4FE8-B399-AF4ECDC53B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B31F8-C1A3-43FE-A759-4F9C5A4A51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16679-4275-40E1-B015-1012412ABB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0"/>
            <a:ext cx="75438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F292C-0F00-479A-8F40-70D493B038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21F9C-16A1-47C2-834D-41DC3BC138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D167C-05D7-4A22-A37D-D42B188227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C7621-B40B-46C0-8D56-437C70BA3A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-360"/>
            <a:ext cx="6781680" cy="2600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8880" y="3049200"/>
            <a:ext cx="6248520" cy="3808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92000"/>
          </a:bodyPr>
          <a:p>
            <a:pPr marL="36360"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6360" algn="r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6360" algn="r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6360" algn="r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6360" algn="r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6360" algn="r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6360" algn="r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88360" y="6248520"/>
            <a:ext cx="255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8FAB-EB1E-4945-B522-3D0F063C27BA}" type="slidenum">
              <a:rPr b="0" lang="en-US" sz="1000" spc="-1" strike="noStrike">
                <a:solidFill>
                  <a:srgbClr val="ffffc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477720" indent="-347400">
              <a:spcBef>
                <a:spcPts val="700"/>
              </a:spcBef>
              <a:buClr>
                <a:srgbClr val="669999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2" marL="773280" indent="-293760">
              <a:spcBef>
                <a:spcPts val="700"/>
              </a:spcBef>
              <a:buClr>
                <a:srgbClr val="cccc00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3" marL="1066680" indent="-2919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4" marL="1384200" indent="-315720">
              <a:spcBef>
                <a:spcPts val="700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5" marL="1384200" indent="-31572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6" marL="1384200" indent="-31572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488360" y="6248520"/>
            <a:ext cx="255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B86D-421A-428F-A513-9B2FC5FB02B9}" type="slidenum">
              <a:rPr b="0" lang="en-US" sz="1000" spc="-1" strike="noStrike">
                <a:solidFill>
                  <a:srgbClr val="ffffc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528480" indent="-347400">
              <a:spcBef>
                <a:spcPts val="700"/>
              </a:spcBef>
              <a:buClr>
                <a:srgbClr val="669999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2" marL="824040" indent="-293760">
              <a:spcBef>
                <a:spcPts val="700"/>
              </a:spcBef>
              <a:buClr>
                <a:srgbClr val="cccc00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3" marL="1117440" indent="-2919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4" marL="1434960" indent="-315720">
              <a:spcBef>
                <a:spcPts val="700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5" marL="1434960" indent="-31572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6" marL="1434960" indent="-31572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7489800" y="6248520"/>
            <a:ext cx="2541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1A75-1979-4C18-94D3-FDA7B2C02CB3}" type="slidenum">
              <a:rPr b="0" lang="en-US" sz="1000" spc="-1" strike="noStrike">
                <a:solidFill>
                  <a:srgbClr val="ffffc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mailto:is@necu.org.ua" TargetMode="External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978760" y="838080"/>
            <a:ext cx="1800" cy="4496040"/>
          </a:xfrm>
          <a:prstGeom prst="line">
            <a:avLst/>
          </a:prstGeom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7294680" y="3271680"/>
            <a:ext cx="1054080" cy="2189160"/>
            <a:chOff x="7294680" y="3271680"/>
            <a:chExt cx="1054080" cy="2189160"/>
          </a:xfrm>
        </p:grpSpPr>
        <p:sp>
          <p:nvSpPr>
            <p:cNvPr id="119" name=""/>
            <p:cNvSpPr/>
            <p:nvPr/>
          </p:nvSpPr>
          <p:spPr>
            <a:xfrm>
              <a:off x="7294680" y="3271680"/>
              <a:ext cx="20160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78720" y="3271680"/>
              <a:ext cx="20160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94680" y="3555720"/>
              <a:ext cx="20160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78720" y="3555720"/>
              <a:ext cx="20160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863120" y="355572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94680" y="3840120"/>
              <a:ext cx="20160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78720" y="384012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863120" y="384012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147160" y="384012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4680" y="412272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78720" y="412272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863120" y="412272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294680" y="44067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78720" y="440676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3120" y="440676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147160" y="4406760"/>
              <a:ext cx="201600" cy="2030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94680" y="469080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78720" y="469080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63120" y="4690800"/>
              <a:ext cx="20160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94680" y="497520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78720" y="4975200"/>
              <a:ext cx="20160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863120" y="4975200"/>
              <a:ext cx="20160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94680" y="5259240"/>
              <a:ext cx="20160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863120" y="5259240"/>
              <a:ext cx="20160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04920" y="2819520"/>
            <a:ext cx="8229600" cy="1440"/>
          </a:xfrm>
          <a:prstGeom prst="line">
            <a:avLst/>
          </a:prstGeom>
          <a:ln w="64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8724960" cy="180360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b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old"/>
              </a:rPr>
              <a:t>Обзор хода международных переговоров ООН по изменению климата</a:t>
            </a:r>
            <a:endParaRPr b="0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45" name=""/>
          <p:cNvSpPr/>
          <p:nvPr/>
        </p:nvSpPr>
        <p:spPr>
          <a:xfrm>
            <a:off x="2854800" y="6362640"/>
            <a:ext cx="36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 Bold"/>
                <a:ea typeface="Arial Bold"/>
              </a:rPr>
              <a:t>Ирина Ставчук,           Киев 2011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338720" y="171360"/>
            <a:ext cx="514440" cy="782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 rot="25200">
            <a:off x="407880" y="3119040"/>
            <a:ext cx="3924360" cy="2793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676760" y="3106800"/>
            <a:ext cx="3962520" cy="2844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203040" y="165240"/>
            <a:ext cx="1565280" cy="799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805640" y="304920"/>
            <a:ext cx="401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 Bold"/>
                <a:ea typeface="Arial Bold"/>
              </a:rPr>
              <a:t>Национальный Экоцентр Украины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47240"/>
            <a:ext cx="7543800" cy="939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Копенгагенское соглашение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7000"/>
          </a:bodyPr>
          <a:p>
            <a:pPr marL="371160" indent="-332640">
              <a:lnSpc>
                <a:spcPct val="100000"/>
              </a:lnSpc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936a"/>
                </a:solidFill>
                <a:latin typeface="Arial Bold"/>
                <a:ea typeface="Arial Bold"/>
              </a:rPr>
              <a:t>2С потепления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71160" indent="-3326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как можно быстрее стабилизировать уровень глобального потепления;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71160" indent="-3326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936a"/>
                </a:solidFill>
                <a:latin typeface="Arial Bold"/>
                <a:ea typeface="Arial Bold"/>
              </a:rPr>
              <a:t>срочная финансовая помощь наиболее уязвимым странам 30 млрд на 2010-2012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71160" indent="-3326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936a"/>
                </a:solidFill>
                <a:latin typeface="Arial Bold"/>
                <a:ea typeface="Arial Bold"/>
              </a:rPr>
              <a:t>финансовые обязательства 100 млрд в год к 2020 году, будет создан Копенгагенский климатический фонд;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71160" indent="-3326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развитые страны вписывают обязательства в таблицу, развивающиеся шлют список мероприятий;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71160" indent="-3326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новый Технологический механизм для передачи технологий;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71160" indent="-3326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пересмотр в 2015 году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Канкунские соглашения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5139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Принят пакет технических и политических решений по отдельным вопросам: система управления адаптационным фондом, механизм REDD, правила для измерения, отчетности и проверки действий развивающихся стран по сокращению выбросов, создание Зеленого климатического фонда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Основа решений для принятия нового соглашения в Южной Африке в 2011 году.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488360" y="6248520"/>
            <a:ext cx="255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8864-57E8-48F1-A194-F9067002958C}" type="slidenum">
              <a:rPr b="0" lang="en-US" sz="1000" spc="-1" strike="noStrike">
                <a:solidFill>
                  <a:srgbClr val="ffffc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B564B-E621-4838-8761-59E98D91CD9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Что важно для Центральной Азии на переговорах?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44560"/>
            <a:ext cx="822960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Мир принимает решения о сокращении выбросов, как советуют ученые, чтобы минимизировать негативные последствия в будущем (минимум на 50% от 1990 года к 2050 в мире).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4183200"/>
            <a:ext cx="82296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  <a:ea typeface="Arial"/>
              </a:rPr>
              <a:t>Техническая бумага про экономические и социальные последствия удержания потепления на уровне 1.5С (ваши делегации должны говорить с теми, кто блокирует это)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160200"/>
            <a:ext cx="7543800" cy="673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Развитые страны: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969480"/>
            <a:ext cx="8229600" cy="5588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5000"/>
          </a:bodyPr>
          <a:p>
            <a:pPr marL="363240" indent="-325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обязательство сократить выбросы на 40% от 1990 года к 2020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63240" indent="-325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Согласиться что каждая страна разработает к 2012 году план безуглеродного развития экономики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63240" indent="-325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Утвердить систему отчетности, проверки и верификации действий развитых стран по сокращению выбросов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63240" indent="-325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Прозрачные правила в LULUCF, минимизация вреда от неиспользованных квот и двойной отчетности по рыночным механизмам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489800" y="6248520"/>
            <a:ext cx="2541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17F7-4AD3-4780-AFC6-4093A786C22E}" type="slidenum">
              <a:rPr b="0" lang="en-US" sz="1000" spc="-1" strike="noStrike">
                <a:solidFill>
                  <a:srgbClr val="ffffc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C4B6-C8BE-4A2A-AD3E-4ABAE7191AE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18680" y="13500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Развивающиеся страны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17520" y="130032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e936a"/>
                </a:solidFill>
                <a:latin typeface="Arial"/>
              </a:rPr>
              <a:t>Готовность разрабатывать планы низкоуглеродного развития (не обязательно для наиболее бедных стран) при условии финансовой и технической помощи со стороны развитых стран (NAMA);</a:t>
            </a:r>
            <a:endParaRPr b="0" lang="en-US" sz="2900" spc="-1" strike="noStrike">
              <a:solidFill>
                <a:srgbClr val="ffffcc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Arial"/>
              </a:rPr>
              <a:t>Утвердить правила для измерения, отчетности и проверки результатов;</a:t>
            </a:r>
            <a:endParaRPr b="0" lang="en-US" sz="2900" spc="-1" strike="noStrike">
              <a:solidFill>
                <a:srgbClr val="ffffcc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Arial"/>
              </a:rPr>
              <a:t>Национальные планы по сокращению выбросов должны быть выражены в % снижения выбросов по сравнению со сценарием бизнес как обычно.</a:t>
            </a:r>
            <a:endParaRPr b="0" lang="en-US" sz="2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7555-87DD-4B2F-8351-81E24700488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Что важно для ЦА на переговорах?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55680" y="1512720"/>
            <a:ext cx="8432640" cy="42674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e936a"/>
                </a:solidFill>
                <a:latin typeface="Arial"/>
              </a:rPr>
              <a:t>Создание прозрачной схемы управления фондом по адаптаци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579600" indent="-3477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прозрачная структура управления, регионально представленная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579600" indent="-3477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прямой доступ к фонду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579600" indent="-3477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решения о приоритетах и направлениях финансирования принимались на конференциях сторон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121A-779D-4389-8D5E-A691B5336AA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160" y="147240"/>
            <a:ext cx="7543800" cy="825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Выводы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147320"/>
            <a:ext cx="8229600" cy="5139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8000"/>
          </a:bodyPr>
          <a:p>
            <a:pPr marL="374760" indent="-335880">
              <a:lnSpc>
                <a:spcPct val="100000"/>
              </a:lnSpc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Arial"/>
              </a:rPr>
              <a:t>Не ожидать большого прорыва на международных переговорах и стараться самостоятельно планировать и постепенно реализовывать мероприятия, которые будут способствовать адаптации;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  <a:p>
            <a:pPr marL="374760" indent="-3358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Arial"/>
              </a:rPr>
              <a:t>Быть готовыми использовать возможности международных механизмов (МЧР, Адаптационный Фонд, NAMA);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  <a:p>
            <a:pPr marL="374760" indent="-3358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Arial"/>
              </a:rPr>
              <a:t>Для НПО: активно вовлекаться в процесс планирования программ по климату от международной помощи - они должны работать на нужды людей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E614-849A-468C-923E-5DCE6573E5A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8151840" y="152280"/>
            <a:ext cx="792000" cy="1293840"/>
            <a:chOff x="8151840" y="152280"/>
            <a:chExt cx="792000" cy="1293840"/>
          </a:xfrm>
        </p:grpSpPr>
        <p:sp>
          <p:nvSpPr>
            <p:cNvPr id="240" name=""/>
            <p:cNvSpPr/>
            <p:nvPr/>
          </p:nvSpPr>
          <p:spPr>
            <a:xfrm>
              <a:off x="8151840" y="1522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318520" y="152280"/>
              <a:ext cx="120600" cy="11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86640" y="152280"/>
              <a:ext cx="120960" cy="11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51840" y="318960"/>
              <a:ext cx="119160" cy="12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18520" y="318960"/>
              <a:ext cx="120600" cy="12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486640" y="318960"/>
              <a:ext cx="120960" cy="12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655120" y="318960"/>
              <a:ext cx="12060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151840" y="487080"/>
              <a:ext cx="119160" cy="120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18520" y="487080"/>
              <a:ext cx="120600" cy="120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86640" y="487080"/>
              <a:ext cx="12096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655120" y="487080"/>
              <a:ext cx="12060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823240" y="487080"/>
              <a:ext cx="120600" cy="120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51840" y="655560"/>
              <a:ext cx="119160" cy="11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18520" y="65556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486640" y="655560"/>
              <a:ext cx="1209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655120" y="65556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151840" y="823680"/>
              <a:ext cx="1191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18520" y="82368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486640" y="823680"/>
              <a:ext cx="12096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655120" y="82368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823240" y="823680"/>
              <a:ext cx="120600" cy="1191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51840" y="990360"/>
              <a:ext cx="11916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318520" y="99036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486640" y="990360"/>
              <a:ext cx="1209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55120" y="990360"/>
              <a:ext cx="120600" cy="120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151840" y="1158840"/>
              <a:ext cx="1191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18520" y="115884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486640" y="1158840"/>
              <a:ext cx="120960" cy="120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55120" y="1158840"/>
              <a:ext cx="120600" cy="120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18520" y="1326960"/>
              <a:ext cx="120600" cy="1191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655120" y="1326960"/>
              <a:ext cx="120600" cy="1191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b">
            <a:noAutofit/>
          </a:bodyPr>
          <a:p>
            <a:pPr marL="65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Спасибо за внимание!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14360" y="1371600"/>
            <a:ext cx="3720960" cy="54230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012920" y="2087640"/>
            <a:ext cx="4660920" cy="3682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s@necu.org.ua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cc"/>
                </a:solidFill>
                <a:uFillTx/>
                <a:latin typeface="Arial"/>
              </a:rPr>
              <a:t>www.infoclimate.org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cc"/>
                </a:solidFill>
                <a:uFillTx/>
                <a:latin typeface="Arial"/>
              </a:rPr>
              <a:t>www.climatenetwork.org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1211400"/>
            <a:ext cx="8229600" cy="5207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8000"/>
          </a:bodyPr>
          <a:p>
            <a:pPr marL="374760" indent="-335880">
              <a:lnSpc>
                <a:spcPct val="100000"/>
              </a:lnSpc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Arial"/>
              </a:rPr>
              <a:t>Нет прописанных общих целей по сокращению выбросов на 2050 год и помежуточных 2020-2030;</a:t>
            </a:r>
            <a:endParaRPr b="0" lang="en-US" sz="2900" spc="-1" strike="noStrike">
              <a:solidFill>
                <a:srgbClr val="ffffcc"/>
              </a:solidFill>
              <a:latin typeface="Arial"/>
            </a:endParaRPr>
          </a:p>
          <a:p>
            <a:pPr marL="374760" indent="-33588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Arial"/>
              </a:rPr>
              <a:t>Страны выделили деньги на срочную помощь, но меньше обещанного и проблемы с дополнительностью;</a:t>
            </a:r>
            <a:endParaRPr b="0" lang="en-US" sz="2900" spc="-1" strike="noStrike">
              <a:solidFill>
                <a:srgbClr val="ffffcc"/>
              </a:solidFill>
              <a:latin typeface="Arial"/>
            </a:endParaRPr>
          </a:p>
          <a:p>
            <a:pPr marL="374760" indent="-33588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Arial"/>
              </a:rPr>
              <a:t>Вписанные обязательства развитых стран в таблицу приведут мир к 3-5С потепления;</a:t>
            </a:r>
            <a:endParaRPr b="0" lang="en-US" sz="2900" spc="-1" strike="noStrike">
              <a:solidFill>
                <a:srgbClr val="ffffcc"/>
              </a:solidFill>
              <a:latin typeface="Arial"/>
            </a:endParaRPr>
          </a:p>
          <a:p>
            <a:pPr marL="374760" indent="-33588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Arial"/>
              </a:rPr>
              <a:t>Не решен принципиальный вопрос как будет формироваться Копенгагенский Фонд;</a:t>
            </a:r>
            <a:endParaRPr b="0" lang="en-US" sz="2900" spc="-1" strike="noStrike">
              <a:solidFill>
                <a:srgbClr val="ffffcc"/>
              </a:solidFill>
              <a:latin typeface="Arial"/>
            </a:endParaRPr>
          </a:p>
          <a:p>
            <a:pPr marL="374760" indent="-33588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Arial"/>
              </a:rPr>
              <a:t>Пересмотр к 2015 году слишком поздно</a:t>
            </a:r>
            <a:endParaRPr b="0" lang="en-US" sz="2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456840" y="147240"/>
            <a:ext cx="7543800" cy="939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Копенгагенское соглашение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82400" y="122040"/>
            <a:ext cx="7543800" cy="812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Объявленные цели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020240"/>
            <a:ext cx="8229600" cy="5139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4000"/>
          </a:bodyPr>
          <a:p>
            <a:pPr marL="35964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EС-30% от 1990 к 2020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5964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Норвегия -40% от 1990 к 2020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5964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Япония -25% от 1990 к 2020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5964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США, Канада, Австралия - выйти на уровень 1990 к 2020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5964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Россия 15-25% от 1990 к 2020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5964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Беларусь 5-10% от 1990 к 2020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5964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Украина -20% от 1990 к 2020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5964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Казахстан -15% от 1992 к 2020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5964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old"/>
                <a:ea typeface="Arial Bold"/>
              </a:rPr>
              <a:t>Развитые страны вместе 15%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-127440"/>
            <a:ext cx="754380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Зачем нужны международные переговоры по климату?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71880" y="2219400"/>
            <a:ext cx="4572000" cy="45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A30D3-9FA3-4EE3-B61E-EF85A19CC8C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61720"/>
            <a:ext cx="7543800" cy="749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Новые механизмы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30120" y="122400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8000"/>
          </a:bodyPr>
          <a:p>
            <a:pPr marL="37476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NAMA - National Appropriate Mitigation Actions (Национальные соответствующие действия по сокращению выбросов)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567720" indent="-3405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План мероприятий по сокращению выбросов в контексте устойчивого развития, реализумый при технической и финансовой поддержке и возможный к оценке, отчетности и проверке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567720" indent="-3405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Примеры: внедрение стандартов по энергосбережению в зданиях, стимулирование использования солнечных коллекторов, стимулы на покупку энергоэффективных приборов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9440" y="114120"/>
            <a:ext cx="7543800" cy="1417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old"/>
              </a:rPr>
              <a:t>Что будет с гибкими механизмами Киотского Протокола?</a:t>
            </a:r>
            <a:endParaRPr b="0" lang="en-US" sz="33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65240" y="1944360"/>
            <a:ext cx="8813520" cy="4102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В случае нового соглашения - реформирование и продолжение МЧР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Неопределенность с СВ и торговлей квотами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В случае отсутствия нового соглашения - только МЧР будет работать на рынок Европейской системы торговли квотами.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Идея гибких механизмов 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638000"/>
            <a:ext cx="7467480" cy="49784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 fontScale="98000"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Вовлечение бизнеса в процессы сокращения выбросов парниковых газов;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Возможность получения дополнительного финансирования на проекты модернизации промышленности, сектора энергетики, сокращения выбросов в других секторах;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Возможность сотрудничества с развитыми странами по передаче передовых технологий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7489800" y="6248520"/>
            <a:ext cx="2541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C410-2642-496F-98A6-840CDBD3916D}" type="slidenum">
              <a:rPr b="0" lang="en-US" sz="1000" spc="-1" strike="noStrike">
                <a:solidFill>
                  <a:srgbClr val="ffffc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" y="1447920"/>
            <a:ext cx="8077320" cy="1440"/>
          </a:xfrm>
          <a:prstGeom prst="line">
            <a:avLst/>
          </a:prstGeom>
          <a:ln w="19080">
            <a:solidFill>
              <a:srgbClr val="99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7480440" y="203040"/>
            <a:ext cx="1600200" cy="217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C93C-DFDB-45B5-A8F9-B495AF88085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Гибкие механизмы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42720" y="1528560"/>
            <a:ext cx="7708680" cy="4902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Реформирование МЧР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МЧР не достигает поставленных на него целей и должен быть доработан. По анализу, в половине проектов есть проблемы с «дополнительностью» (то есть проекты и так были бы реализованы, без помощи МЧР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Новые механизмы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Необходимость введения новых механизмов, позволяющих получать финансирование на государственные и секторальные программы по сокращению выбросов ПГ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7505640" y="177840"/>
            <a:ext cx="1536840" cy="194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BD8C-11AC-48A3-A4B1-E5909E7FECF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8392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Предложения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6000" y="1587600"/>
            <a:ext cx="8889840" cy="5270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14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2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Внедрение коэффициентов на количество единиц сокращения выбросов в зависимости от типа проектов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14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Включение дополнительных положительных результатов в критерии проектов МЧР (социальные и экологические стандарты)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14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Исключение лесных проектов; проектов атомной энергетики и технологии «Улавливание и захоронение углерода» в МЧР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489800" y="6248520"/>
            <a:ext cx="2541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1C48-F875-4670-9C0E-E4A3BDB04EEA}" type="slidenum">
              <a:rPr b="0" lang="en-US" sz="1000" spc="-1" strike="noStrike">
                <a:solidFill>
                  <a:srgbClr val="ffffc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330D-4A09-43E0-99A5-F6DEC1A1CB0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Предложения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55680" y="159192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40" tIns="50760" bIns="50760" anchor="t">
            <a:normAutofit fontScale="68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old"/>
                <a:ea typeface="Arial Bold"/>
              </a:rPr>
              <a:t>Секторальный МЧР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- Сектор отдельной страны (например энергетика, производство металла) должен подготовить план мероприятий по сокращению выбросов на предприятиях относительно базовой линии развития и объема выбросов. Мероприятия, выходящие за пределы финансовых возможностей будут финансироваться в рамках механизма;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- Сектор отдельной страны получит обязательство на сокращение, из которого часть сокращений (экономически выгодные) реализуются за собственные средства, а остальное за счет МЧР;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p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Против проектов СУУ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489800" y="6248520"/>
            <a:ext cx="2541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5C63-DEFB-4F01-97FB-926BE69CB8B2}" type="slidenum">
              <a:rPr b="0" lang="en-US" sz="1000" spc="-1" strike="noStrike">
                <a:solidFill>
                  <a:srgbClr val="ffffc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BC9D-C988-4DCB-8F04-899B021D08D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82400" y="286920"/>
            <a:ext cx="7543800" cy="8254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Финансирование: принципы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240" y="1728360"/>
            <a:ext cx="86742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0" tIns="50760" bIns="50760" anchor="t">
            <a:normAutofit fontScale="96000"/>
          </a:bodyPr>
          <a:p>
            <a:pPr marL="658080" indent="-328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 Bold"/>
                <a:ea typeface="Arial Bold"/>
              </a:rPr>
              <a:t>Дополнительное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финансирование к помощи по экономическому развитию (ODA)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658080" indent="-328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 Bold"/>
                <a:ea typeface="Arial Bold"/>
              </a:rPr>
              <a:t>Объем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финансирования достаточный для покрытия потребностей, без учета МЧР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658080" indent="-328680" algn="just">
              <a:lnSpc>
                <a:spcPct val="100000"/>
              </a:lnSpc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 Bold"/>
                <a:ea typeface="Arial Bold"/>
              </a:rPr>
              <a:t>Гарантированость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наполнения фонда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658080" indent="-328680" algn="just">
              <a:lnSpc>
                <a:spcPct val="100000"/>
              </a:lnSpc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 Bold"/>
                <a:ea typeface="Arial Bold"/>
              </a:rPr>
              <a:t>Представительство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от разных стран при принятии решений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658080" indent="-328680" algn="just">
              <a:lnSpc>
                <a:spcPct val="100000"/>
              </a:lnSpc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Наличие </a:t>
            </a:r>
            <a:r>
              <a:rPr b="0" lang="en-US" sz="3000" spc="-1" strike="noStrike">
                <a:solidFill>
                  <a:srgbClr val="ffffcc"/>
                </a:solidFill>
                <a:latin typeface="Arial Bold"/>
                <a:ea typeface="Arial Bold"/>
              </a:rPr>
              <a:t>единого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фонда для прозрачности и отчетности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3AC8-C7F7-4899-9B3A-45EFC4BB0F7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348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Экономические основания для действия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 rot="21595800">
            <a:off x="5968800" y="2125440"/>
            <a:ext cx="3073320" cy="4108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54160" y="1440000"/>
            <a:ext cx="530856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1% глобального ВВП достаточно для стабилизации и постепенного сокращения выбросов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Бездействие приведет к потере 5-20% ВВП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Не ко всему можно адаптироваться.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Наука изменения климата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Концентрация парниковых газов в атмосфере уже достигла 379 ч.н.м.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Изменения климата происходят намного быстрее, чем это ранее прогнозировали ученые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Темпы выбросов парниковых газов соотносятся с самым худшим сценарием МГЭИК (IPCC)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6D9B3-D1D5-40FF-85B9-8F587C4B05E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1762200"/>
            <a:ext cx="8229600" cy="4914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8151840" y="152280"/>
            <a:ext cx="792000" cy="1293840"/>
            <a:chOff x="8151840" y="152280"/>
            <a:chExt cx="792000" cy="1293840"/>
          </a:xfrm>
        </p:grpSpPr>
        <p:sp>
          <p:nvSpPr>
            <p:cNvPr id="159" name=""/>
            <p:cNvSpPr/>
            <p:nvPr/>
          </p:nvSpPr>
          <p:spPr>
            <a:xfrm>
              <a:off x="8151840" y="1522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318520" y="152280"/>
              <a:ext cx="120600" cy="11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486640" y="152280"/>
              <a:ext cx="120960" cy="11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1840" y="318960"/>
              <a:ext cx="119160" cy="12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318520" y="318960"/>
              <a:ext cx="120600" cy="12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486640" y="318960"/>
              <a:ext cx="120960" cy="12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655120" y="318960"/>
              <a:ext cx="12060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51840" y="487080"/>
              <a:ext cx="119160" cy="120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18520" y="487080"/>
              <a:ext cx="120600" cy="120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86640" y="487080"/>
              <a:ext cx="12096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55120" y="487080"/>
              <a:ext cx="12060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23240" y="487080"/>
              <a:ext cx="120600" cy="120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1840" y="655560"/>
              <a:ext cx="119160" cy="11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18520" y="65556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486640" y="655560"/>
              <a:ext cx="1209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655120" y="65556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151840" y="823680"/>
              <a:ext cx="1191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318520" y="82368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486640" y="823680"/>
              <a:ext cx="12096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655120" y="82368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823240" y="823680"/>
              <a:ext cx="120600" cy="1191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51840" y="990360"/>
              <a:ext cx="11916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18520" y="99036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486640" y="990360"/>
              <a:ext cx="1209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655120" y="990360"/>
              <a:ext cx="120600" cy="120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151840" y="1158840"/>
              <a:ext cx="1191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318520" y="115884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486640" y="1158840"/>
              <a:ext cx="120960" cy="120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655120" y="1158840"/>
              <a:ext cx="120600" cy="120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318520" y="1326960"/>
              <a:ext cx="120600" cy="1191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655120" y="1326960"/>
              <a:ext cx="120600" cy="1191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31280" y="240840"/>
            <a:ext cx="7543800" cy="1359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2С уже не предел: </a:t>
            </a:r>
            <a:br>
              <a:rPr sz="3900"/>
            </a:br>
            <a:r>
              <a:rPr b="0" lang="en-US" sz="2400" spc="-1" strike="noStrike">
                <a:solidFill>
                  <a:srgbClr val="ffffff"/>
                </a:solidFill>
                <a:latin typeface="Arial Bold"/>
              </a:rPr>
              <a:t>малые островные страны 1.5С, CAN пересмотрел позицию</a:t>
            </a:r>
            <a:endParaRPr b="0" lang="en-US" sz="2400" spc="-1" strike="noStrike">
              <a:solidFill>
                <a:srgbClr val="ffffff"/>
              </a:solidFill>
              <a:latin typeface="Arial Bold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91" name=""/>
          <p:cNvSpPr/>
          <p:nvPr/>
        </p:nvSpPr>
        <p:spPr>
          <a:xfrm>
            <a:off x="7560360" y="6248520"/>
            <a:ext cx="15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  <a:ea typeface="Arial"/>
              </a:rPr>
              <a:t>6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0616-2843-4412-8072-8DAF56AD419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87200" y="1735200"/>
            <a:ext cx="5943600" cy="4521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248520" y="1257480"/>
            <a:ext cx="2832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old"/>
                <a:ea typeface="Arial Bold"/>
              </a:rPr>
              <a:t>Развитые страны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Arial Bold"/>
                <a:ea typeface="Arial Bold"/>
              </a:rPr>
              <a:t>-25-40% к 2020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 от уровня 199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Arial Bold"/>
                <a:ea typeface="Arial Bold"/>
              </a:rPr>
              <a:t>-80-95% к 2050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 от уровня 199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old"/>
                <a:ea typeface="Arial Bold"/>
              </a:rPr>
              <a:t>Развивающиеся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Arial Bold"/>
                <a:ea typeface="Arial Bold"/>
              </a:rPr>
              <a:t>15-30%</a:t>
            </a:r>
            <a:r>
              <a:rPr b="0" lang="en-US" sz="2400" spc="-1" strike="noStrike">
                <a:solidFill>
                  <a:srgbClr val="dd2067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от базового уровня развития экономики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0"/>
            <a:ext cx="75438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30600" tIns="25560" bIns="2556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  <a:ea typeface="Arial Bold"/>
              </a:rPr>
              <a:t>На сколько нужно сократить выбросы?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-1440"/>
            <a:ext cx="8242200" cy="142056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b">
            <a:noAutofit/>
          </a:bodyPr>
          <a:p>
            <a:pPr marL="65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dd5"/>
                </a:solidFill>
                <a:latin typeface="Tahoma"/>
                <a:ea typeface="Lucida Grande"/>
              </a:rPr>
              <a:t>Структура международных соглашений по климату</a:t>
            </a:r>
            <a:endParaRPr b="0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4644720" y="2271240"/>
            <a:ext cx="3240" cy="2071800"/>
          </a:xfrm>
          <a:prstGeom prst="line">
            <a:avLst/>
          </a:prstGeom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92040" y="1803240"/>
            <a:ext cx="8494560" cy="419040"/>
            <a:chOff x="392040" y="1803240"/>
            <a:chExt cx="8494560" cy="419040"/>
          </a:xfrm>
        </p:grpSpPr>
        <p:sp>
          <p:nvSpPr>
            <p:cNvPr id="198" name=""/>
            <p:cNvSpPr/>
            <p:nvPr/>
          </p:nvSpPr>
          <p:spPr>
            <a:xfrm>
              <a:off x="1165320" y="1803240"/>
              <a:ext cx="6825960" cy="419040"/>
            </a:xfrm>
            <a:prstGeom prst="roundRect">
              <a:avLst>
                <a:gd name="adj" fmla="val 16491"/>
              </a:avLst>
            </a:prstGeom>
            <a:solidFill>
              <a:srgbClr val="cccc00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2040" y="1827000"/>
              <a:ext cx="84945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7920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cc"/>
                  </a:solidFill>
                  <a:latin typeface="Arial"/>
                  <a:ea typeface="Arial"/>
                </a:rPr>
                <a:t>Рамочная Конвенция ООН по изменению климата</a:t>
              </a:r>
              <a:endParaRPr b="0" lang="en-US" sz="21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38240" y="3110040"/>
            <a:ext cx="3276360" cy="672840"/>
            <a:chOff x="138240" y="3110040"/>
            <a:chExt cx="3276360" cy="672840"/>
          </a:xfrm>
        </p:grpSpPr>
        <p:sp>
          <p:nvSpPr>
            <p:cNvPr id="201" name=""/>
            <p:cNvSpPr/>
            <p:nvPr/>
          </p:nvSpPr>
          <p:spPr>
            <a:xfrm>
              <a:off x="209160" y="3116160"/>
              <a:ext cx="3009600" cy="656640"/>
            </a:xfrm>
            <a:prstGeom prst="roundRect">
              <a:avLst>
                <a:gd name="adj" fmla="val 16699"/>
              </a:avLst>
            </a:prstGeom>
            <a:solidFill>
              <a:srgbClr val="cccc00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8240" y="3110040"/>
              <a:ext cx="32763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7848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иотский протокол</a:t>
              </a:r>
              <a:endParaRPr b="0" lang="en-US" sz="2100" spc="-1" strike="noStrike">
                <a:solidFill>
                  <a:srgbClr val="ffffc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І-ый период 2008-2012</a:t>
              </a:r>
              <a:endParaRPr b="0" lang="en-US" sz="21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349800" y="4365720"/>
            <a:ext cx="2763720" cy="675720"/>
            <a:chOff x="3349800" y="4365720"/>
            <a:chExt cx="2763720" cy="675720"/>
          </a:xfrm>
        </p:grpSpPr>
        <p:sp>
          <p:nvSpPr>
            <p:cNvPr id="204" name=""/>
            <p:cNvSpPr/>
            <p:nvPr/>
          </p:nvSpPr>
          <p:spPr>
            <a:xfrm>
              <a:off x="3349800" y="4373640"/>
              <a:ext cx="2763720" cy="658440"/>
            </a:xfrm>
            <a:prstGeom prst="roundRect">
              <a:avLst>
                <a:gd name="adj" fmla="val 16625"/>
              </a:avLst>
            </a:prstGeom>
            <a:solidFill>
              <a:srgbClr val="cccc00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11680" y="4365720"/>
              <a:ext cx="1949400" cy="67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7848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??? Протокол</a:t>
              </a:r>
              <a:endParaRPr b="0" lang="en-US" sz="2100" spc="-1" strike="noStrike">
                <a:solidFill>
                  <a:srgbClr val="ffffc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3-20??</a:t>
              </a:r>
              <a:endParaRPr b="0" lang="en-US" sz="21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08000" y="4313160"/>
            <a:ext cx="3073320" cy="774720"/>
            <a:chOff x="108000" y="4313160"/>
            <a:chExt cx="3073320" cy="774720"/>
          </a:xfrm>
        </p:grpSpPr>
        <p:sp>
          <p:nvSpPr>
            <p:cNvPr id="207" name=""/>
            <p:cNvSpPr/>
            <p:nvPr/>
          </p:nvSpPr>
          <p:spPr>
            <a:xfrm>
              <a:off x="303120" y="4373640"/>
              <a:ext cx="2767320" cy="657000"/>
            </a:xfrm>
            <a:prstGeom prst="roundRect">
              <a:avLst>
                <a:gd name="adj" fmla="val 16620"/>
              </a:avLst>
            </a:prstGeom>
            <a:solidFill>
              <a:srgbClr val="cccc00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8000" y="4313160"/>
              <a:ext cx="307332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7848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ІІ-ой период действия 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 flipH="1" flipV="1">
            <a:off x="1623600" y="3784680"/>
            <a:ext cx="1800" cy="558720"/>
          </a:xfrm>
          <a:prstGeom prst="line">
            <a:avLst/>
          </a:prstGeom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689120" y="2247840"/>
            <a:ext cx="1930320" cy="825480"/>
          </a:xfrm>
          <a:prstGeom prst="line">
            <a:avLst/>
          </a:prstGeom>
          <a:ln w="255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14480" y="5407200"/>
            <a:ext cx="3073320" cy="657000"/>
            <a:chOff x="114480" y="5407200"/>
            <a:chExt cx="3073320" cy="657000"/>
          </a:xfrm>
        </p:grpSpPr>
        <p:sp>
          <p:nvSpPr>
            <p:cNvPr id="212" name=""/>
            <p:cNvSpPr/>
            <p:nvPr/>
          </p:nvSpPr>
          <p:spPr>
            <a:xfrm>
              <a:off x="309600" y="5407200"/>
              <a:ext cx="2767320" cy="657000"/>
            </a:xfrm>
            <a:prstGeom prst="roundRect">
              <a:avLst>
                <a:gd name="adj" fmla="val 16620"/>
              </a:avLst>
            </a:prstGeom>
            <a:solidFill>
              <a:srgbClr val="cccc00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4480" y="5524200"/>
              <a:ext cx="307332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7848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WG KP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200400" y="5407200"/>
            <a:ext cx="3073320" cy="657000"/>
            <a:chOff x="3200400" y="5407200"/>
            <a:chExt cx="3073320" cy="657000"/>
          </a:xfrm>
        </p:grpSpPr>
        <p:sp>
          <p:nvSpPr>
            <p:cNvPr id="215" name=""/>
            <p:cNvSpPr/>
            <p:nvPr/>
          </p:nvSpPr>
          <p:spPr>
            <a:xfrm>
              <a:off x="3395520" y="5407200"/>
              <a:ext cx="2767320" cy="657000"/>
            </a:xfrm>
            <a:prstGeom prst="roundRect">
              <a:avLst>
                <a:gd name="adj" fmla="val 16620"/>
              </a:avLst>
            </a:prstGeom>
            <a:solidFill>
              <a:srgbClr val="cccc00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00400" y="5524200"/>
              <a:ext cx="307332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7848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WG LCA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76320" y="194760"/>
            <a:ext cx="8991360" cy="2565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Arial"/>
              </a:rPr>
              <a:t>«Страны больше боятся нового соглашения по изменению климата, чем будущих последствий от изменения климата»</a:t>
            </a: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66680" y="1892160"/>
            <a:ext cx="6769080" cy="462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05B21-9321-4D75-9FBA-1BB9190C7F7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49120"/>
            <a:ext cx="7543800" cy="749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Нет доверия друг к другу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172880"/>
            <a:ext cx="822960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Развитые &lt;-&gt; развивающиеся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Внутри развитых стран (США &lt;-&gt; ЕС)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Внутри развивающихся стран (Китай - Саудовская Аравия - Островные и Африканские государства)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748B8-986F-4B41-8F0A-5702B652731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rina</dc:creator>
  <dc:description/>
  <dc:language>en-US</dc:language>
  <cp:lastModifiedBy/>
  <cp:revision>0</cp:revision>
  <dc:subject/>
  <dc:title>Головні питання на міжнародних переговорах Позиції різних країн</dc:title>
</cp:coreProperties>
</file>