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E211-9554-4015-A191-27F7821D3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61F2-19DB-4C63-BD03-08E457A18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453-2FB9-409E-A4C2-134C6089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826-C592-4A22-B78F-52075A67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AEE-7F61-4178-920E-C5B9FE64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04A-B033-4BB9-A1F8-3BD6C0CC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211-09A6-4416-B75F-AD885423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10B-5F97-4D97-B7C7-599E649F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F1A-91FD-43DC-86CB-18633A6F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E92-E693-4103-A2BE-917399DE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BF8-2B5A-4472-8C17-F155354B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CDC-6236-4B86-B3D3-B8CE1272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CF9-1C2C-4D6F-9F50-0CAA9B63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010-F12B-472B-8F1B-9845A12F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bankwatch.or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4828-59C7-4F12-BD4F-28DFE3314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3887640" cy="50472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Ирина Голов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6308280"/>
            <a:ext cx="590364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84360" y="1413000"/>
            <a:ext cx="770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3971"/>
                </a:solidFill>
                <a:latin typeface="Lucida Sans Unicode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3971"/>
                </a:solidFill>
                <a:latin typeface="Lucida Sans Unicode"/>
              </a:rPr>
              <a:t>Кампания против строительства Каневской ГАЭС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Documents and Settings\Iryna\org doc\Trainings\kgaesss.JPG"/>
          <p:cNvPicPr/>
          <p:nvPr/>
        </p:nvPicPr>
        <p:blipFill>
          <a:blip r:embed="rId2"/>
          <a:stretch/>
        </p:blipFill>
        <p:spPr>
          <a:xfrm>
            <a:off x="857160" y="3357720"/>
            <a:ext cx="417852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Действия \ тактика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63971"/>
                </a:solidFill>
                <a:latin typeface="Lucida Sans Unicode"/>
              </a:rPr>
              <a:t>І. </a:t>
            </a: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Подготовка аргумент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Исследование – «Что не так с Каневской ГАЭС?», перевод на анг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Информационные материалы для местной власти/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Мониторинговый тур в район стройки + фото-отчет по результат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идео про проблемы строительства ГАЕС с акцентом на негативном влиянии на местное население (30 мин. + ролик 10 мин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Действия \ тактика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6760" y="1571400"/>
            <a:ext cx="85726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63971"/>
                </a:solidFill>
                <a:latin typeface="Lucida Sans Unicode"/>
              </a:rPr>
              <a:t>І І. </a:t>
            </a: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Прямое лоббирование бан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прос в банк о рассмотрении ими проекта КГАЭ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исьмо + исследование (на анг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стреча с сотрудниками экологического департамента банка, когда они в Кие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Ежегодное собрание ЕБРР – презентация про проблемы КГАЭС от нас + выступления против проекта других Н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есс-релиз на англ. для европейской прес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исьмо + фото-отчет по результатам мониторинговой поез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исьмо -  Всемирный Банк отказался от подобног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Действия \ тактика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844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63971"/>
                </a:solidFill>
                <a:latin typeface="Lucida Sans Unicode"/>
              </a:rPr>
              <a:t> </a:t>
            </a:r>
            <a:r>
              <a:rPr b="1" lang="uk-UA" sz="3200" spc="-1" strike="noStrike">
                <a:solidFill>
                  <a:srgbClr val="463971"/>
                </a:solidFill>
                <a:latin typeface="Lucida Sans Unicode"/>
              </a:rPr>
              <a:t>І І І . </a:t>
            </a: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Влияние через сторон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3971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3971"/>
                </a:solidFill>
                <a:latin typeface="Lucida Sans Unicode"/>
              </a:rPr>
              <a:t>( донести до местных властей, что выгод от проекта они не увидят, а только проблемы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оиск местных НПО – найдено 2 организации – работа с ними, информ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одготовка и показ фильма про проблемы ГАЭС во время общественных слушаний – как результат не принято позитивных резолюций слушани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убликации в местной прес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Участие в слушаниях в районном совете + убедили приехать депутата В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844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63971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63971"/>
                </a:solidFill>
                <a:latin typeface="Lucida Sans Unicode"/>
              </a:rPr>
              <a:t>     </a:t>
            </a: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В 2008 ЕБРР остановил рассмотрение возможности финансирования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     </a:t>
            </a: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Строительство КГАЭС не вед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971"/>
                </a:solidFill>
                <a:latin typeface="Lucida Sans Unicode"/>
              </a:rPr>
              <a:t>Спасибо за внимание</a:t>
            </a:r>
            <a:r>
              <a:rPr b="1" lang="en-US" sz="4000" spc="-1" strike="noStrike">
                <a:solidFill>
                  <a:srgbClr val="463971"/>
                </a:solidFill>
                <a:latin typeface="Lucida Sans Unicode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716360" y="3573360"/>
            <a:ext cx="3232080" cy="18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Ирина Голов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ryna@bankwatch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EE Bankwatch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Na Rozcesti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90 00 Praha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zech Re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4372920" y="304488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463971"/>
                </a:solidFill>
                <a:latin typeface="Lucida Sans Unicode"/>
              </a:rPr>
              <a:t>І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4200" y="260280"/>
            <a:ext cx="8483760" cy="115272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ПОЧЕМУ КАМПАНИЯ НУЖ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400" y="1844280"/>
            <a:ext cx="82580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ГАЭС (гидроаккумулирующие электростанции) – устаревшая, дорогая и затратная технология, нужная только для поддержки работы А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ыбранное место строительства имеет высокую духовную и рекреационную ценность -будет полностью уничтож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ысокий риск аварий + другие негативные влияния на насе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Цель камп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3971"/>
                </a:solidFill>
                <a:latin typeface="Lucida Sans Unicode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3971"/>
                </a:solidFill>
                <a:latin typeface="Lucida Sans Unicode"/>
              </a:rPr>
              <a:t>    </a:t>
            </a:r>
            <a:r>
              <a:rPr b="1" lang="ru-RU" sz="2800" spc="-1" strike="noStrike">
                <a:solidFill>
                  <a:srgbClr val="463971"/>
                </a:solidFill>
                <a:latin typeface="Lucida Sans Unicode"/>
              </a:rPr>
              <a:t>Не допустить реализацию проекта строительства КГАЭС в его текущем варианте (на 2007 год) через остановку финансирования со стороны ЕБР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2</a:t>
            </a:r>
            <a:r>
              <a:rPr b="0" lang="ru-RU" sz="3200" spc="-1" strike="noStrike">
                <a:solidFill>
                  <a:srgbClr val="463971"/>
                </a:solidFill>
                <a:latin typeface="Lucida Sans Unicode"/>
              </a:rPr>
              <a:t>. </a:t>
            </a: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Целевая группа: </a:t>
            </a:r>
            <a:r>
              <a:rPr b="0" lang="ru-RU" sz="3200" spc="-1" strike="noStrike">
                <a:solidFill>
                  <a:srgbClr val="463971"/>
                </a:solidFill>
                <a:latin typeface="Lucida Sans Unicode"/>
              </a:rPr>
              <a:t>ЕБР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Механизм принятия решения:  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совет директоров ЕБРР или на этапе предварительной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3</a:t>
            </a:r>
            <a:r>
              <a:rPr b="0" lang="ru-RU" sz="3200" spc="-1" strike="noStrike">
                <a:solidFill>
                  <a:srgbClr val="463971"/>
                </a:solidFill>
                <a:latin typeface="Lucida Sans Unicode"/>
              </a:rPr>
              <a:t>. </a:t>
            </a: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Сторонники</a:t>
            </a:r>
            <a:r>
              <a:rPr b="0" lang="ru-RU" sz="3200" spc="-1" strike="noStrike">
                <a:solidFill>
                  <a:srgbClr val="463971"/>
                </a:solidFill>
                <a:latin typeface="Lucida Sans Unicod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бщенациональные и  местные НПО (экологические и социально-культур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Местные органы власти разных уровн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Местная пр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отрудники Каневского национального заповед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есколько депутатов Верховной Р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екоторые известные культурные дея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4.</a:t>
            </a:r>
            <a:r>
              <a:rPr b="0" lang="ru-RU" sz="3200" spc="-1" strike="noStrike">
                <a:solidFill>
                  <a:srgbClr val="463971"/>
                </a:solidFill>
                <a:latin typeface="Lucida Sans Unicode"/>
              </a:rPr>
              <a:t> </a:t>
            </a: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Оппоненты</a:t>
            </a:r>
            <a:r>
              <a:rPr b="0" lang="ru-RU" sz="3200" spc="-1" strike="noStrike">
                <a:solidFill>
                  <a:srgbClr val="463971"/>
                </a:solidFill>
                <a:latin typeface="Lucida Sans Unicod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ЕК «Укренерго» - компания-заказчик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АО «Укргидропроект» – разработчик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Министерство энергетики Укра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авительство страны через местные органы власти разных уровней (более вероятно уровня области) или напрям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5. Стратегия</a:t>
            </a:r>
            <a:r>
              <a:rPr b="0" lang="ru-RU" sz="3200" spc="-1" strike="noStrike">
                <a:solidFill>
                  <a:srgbClr val="463971"/>
                </a:solidFill>
                <a:latin typeface="Lucida Sans Unicod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иоритетные направления действий:</a:t>
            </a:r>
            <a:r>
              <a:rPr b="0" lang="ru-RU" sz="2400" spc="-1" strike="noStrike">
                <a:solidFill>
                  <a:srgbClr val="463971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биться решения ЕБРР не финансировать – отражен в цел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ыбраны аргументы, наиболее значимые именно для целевой группы - ЕБР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экономическая нецелесообразность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ысокие техногенные р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егативное отношение местного населения \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5. Стратегия </a:t>
            </a:r>
            <a:r>
              <a:rPr b="1" lang="ru-RU" sz="2400" spc="-1" strike="noStrike">
                <a:solidFill>
                  <a:srgbClr val="463971"/>
                </a:solidFill>
                <a:latin typeface="Lucida Sans Unicode"/>
              </a:rPr>
              <a:t>(продолжение)</a:t>
            </a:r>
            <a:r>
              <a:rPr b="0" lang="ru-RU" sz="2400" spc="-1" strike="noStrike">
                <a:solidFill>
                  <a:srgbClr val="463971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еграды: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возможна сильная заинтересованность правительст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Lucida Sans Unicode"/>
              </a:rPr>
              <a:t>Благоприятн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ые обстоятельства</a:t>
            </a:r>
            <a:r>
              <a:rPr b="0" lang="uk-UA" sz="24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Lucida Sans Unicode"/>
              </a:rPr>
              <a:t>проект на ранней стадии рассмотрения в ЕБР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Lucida Sans Unicode"/>
              </a:rPr>
              <a:t>других источников финансирования у Укренерго н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Lucida Sans Unicode"/>
              </a:rPr>
              <a:t>Любая задержка играет в нашу пользу – с каждым годом проект “старее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6. Действия \ такт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3 группы дейст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одготовка          Влияние                     Прямое лобб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аргументации      через сторонников     ЕБ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низ 5"/>
          <p:cNvSpPr/>
          <p:nvPr/>
        </p:nvSpPr>
        <p:spPr>
          <a:xfrm>
            <a:off x="642960" y="2928960"/>
            <a:ext cx="214200" cy="78588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Стрелка вниз 6"/>
          <p:cNvSpPr/>
          <p:nvPr/>
        </p:nvSpPr>
        <p:spPr>
          <a:xfrm>
            <a:off x="3500280" y="2928960"/>
            <a:ext cx="214560" cy="78588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Стрелка вниз 7"/>
          <p:cNvSpPr/>
          <p:nvPr/>
        </p:nvSpPr>
        <p:spPr>
          <a:xfrm>
            <a:off x="6572160" y="3000240"/>
            <a:ext cx="214560" cy="714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2:55:35Z</dcterms:created>
  <dc:creator>Dmytro</dc:creator>
  <dc:description/>
  <dc:language>en-US</dc:language>
  <cp:lastModifiedBy>Dmytro</cp:lastModifiedBy>
  <dcterms:modified xsi:type="dcterms:W3CDTF">2011-07-27T06:51:30Z</dcterms:modified>
  <cp:revision>32</cp:revision>
  <dc:subject/>
  <dc:title>Ирина Головко</dc:title>
</cp:coreProperties>
</file>