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7FB-7284-4DA5-99CD-5136CADC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889-B498-40C7-AB90-DD377AFD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7C-FB13-4DC6-A61C-5C4BBA5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25A-ADD2-44D5-A104-A4DECFE9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6FB-0795-4490-BFB8-358ABFB2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1233-F871-4622-96A6-F0D19CC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C2EC-BD65-4849-BE68-5E4DF08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E6DF-D757-4FA5-AD57-BF22A0E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93C9-89E8-4136-83B0-4000A5E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1E3-75CA-411D-922A-15B39CA2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21BF-9E37-4DE4-97A9-4ABF7BF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FEF-C83D-47C1-BB05-A5A099C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BF6-3E56-4895-B3D5-775DBF8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6DB-F183-4202-B10C-E8F78DC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4952-6D81-49CC-AD53-7B3B940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4751-1D3D-40B1-A59E-FC304AAA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0985-4347-493E-957F-66AFA302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A4512-A4C3-4A47-BA2D-378475AF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35D28-C7A7-442A-B0DC-1478558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99589-18A8-4C68-B5BF-8351A6C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EEED2-711C-4E66-B5B8-7B33EAC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55124-559C-4279-9D24-B0482D6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FE8-5C1D-4D4D-B013-3D1CAB9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9F4C8-F209-42D3-BAB6-47BF49E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910BF-90F6-4C08-BDC8-8217D6E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68A4C-3B95-4BE3-8205-60A04E37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B3554-BA93-436F-AEF0-E8F60288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F19F1-F846-40AC-BACC-D9F2D11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4642D-0843-42A0-AD5B-CE943FE1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A06D3-1BA9-4A23-8D71-48D767C6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D531-24B2-4B43-B120-98996861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055A-5F5C-4E8A-9CC1-3ED4ED69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4BA1-20EA-43B2-BAD0-473C7B1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542-11A8-42C1-B972-BF201A0D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ACB3-2AE2-4538-BAEF-004CC3F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6ECF-DB5E-455E-AC57-1BCC0FD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CC4B-787C-42B6-BD2E-8DB669B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DA94-31A8-4FCD-8B21-AB60DE6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1766-9961-47C0-BB68-4FEF679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6CD0-C588-4683-B9C0-CFF0C70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7153-32F7-4F52-89E5-C510A9A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E641A-70A0-471A-9C33-3B2032CC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6E10-1A2E-421F-9731-05B97835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1CF-4CF5-4B0E-88E3-B2B6CD60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3E5-9EF4-427B-A74E-37B296C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DFC-F311-41D0-9B9B-4C2A4FA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707-550E-46F1-8788-3DD5E2C8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5D9-4BBE-41C1-848F-46551AA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34D0-59EC-4283-BC56-719DFEBD75F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720B-CDB0-488C-9958-0A74FAB6377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5932-CBA1-42FD-8CEA-3838132EFD9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9E0-1D75-42EE-99DF-DCB714E7C56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логическая кампания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Ирина Головко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НЕЦУ/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EE Bankwatch Net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иев, июль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2249640"/>
            <a:ext cx="81867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ействия / тактик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каждый шаг направленный на убеждение целевой групп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 мобилизовать друзей и обезвредить оппонентов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События, работа с прессой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Документы, информация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7. Что вам на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/ определитесь с тем что е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Информация, финансирование, подготовка документов…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Действия – инструменты НП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стречи с чиновник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исьм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коалиц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сс-релизы и медиа-работ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то – и видео материалы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зентации на конференциях и круглых стол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писание позиций НПО и отчет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астие в общественных слушания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зависимый мониторинг/инспек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ологическая камп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400" y="4500720"/>
            <a:ext cx="8186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одуман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3600" spc="-1" strike="noStrike" u="sng">
                <a:solidFill>
                  <a:srgbClr val="326064"/>
                </a:solidFill>
                <a:uFillTx/>
                <a:latin typeface="Arial Narrow"/>
              </a:rPr>
              <a:t>организованные во времен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Lucida Console"/>
              </a:rPr>
              <a:t>пространстве</a:t>
            </a:r>
            <a:r>
              <a:rPr b="0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оллектив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действия для достижения     </a:t>
            </a: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C:\Documents and Settings\Iryna\ЛЭП\second backbone\Chernobyl report\phpThumb_generated_thumbnailjpg.jpg"/>
          <p:cNvPicPr/>
          <p:nvPr/>
        </p:nvPicPr>
        <p:blipFill>
          <a:blip r:embed="rId1"/>
          <a:stretch/>
        </p:blipFill>
        <p:spPr>
          <a:xfrm>
            <a:off x="428760" y="1857240"/>
            <a:ext cx="258588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\\Necu_drive\necu\Photo\ByDates\030609 - meeting Kyiv EfE confererence\k2003_1.jpg"/>
          <p:cNvPicPr/>
          <p:nvPr/>
        </p:nvPicPr>
        <p:blipFill>
          <a:blip r:embed="rId2"/>
          <a:stretch/>
        </p:blipFill>
        <p:spPr>
          <a:xfrm>
            <a:off x="2955960" y="2571840"/>
            <a:ext cx="290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Documents and Settings\Dmytro\Мои документы\Мои рисунки\TL web page.JPG"/>
          <p:cNvPicPr/>
          <p:nvPr/>
        </p:nvPicPr>
        <p:blipFill>
          <a:blip r:embed="rId3"/>
          <a:stretch/>
        </p:blipFill>
        <p:spPr>
          <a:xfrm>
            <a:off x="5715000" y="1857240"/>
            <a:ext cx="3166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428760" y="713880"/>
            <a:ext cx="86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чем тратить время на планирование кампании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ринятие решения о приоритет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что важнее, что эффективне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где больше всего шансов достичь изменени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есть ли достаточно ресурсов выполнить задач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Развитие ваших НП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8086"/>
                </a:solidFill>
                <a:latin typeface="Trebuchet MS"/>
              </a:rPr>
              <a:t>Общее понимание</a:t>
            </a: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 что и зачем делаем (мотивация) 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Основа для создание национальных и международных коалици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чем тратить время на планирование кампании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Фандрейзин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Планы можно продемонстрировать донора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План дает вам представление о необходимом бюджете и денежном поток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омогает в принятии каждодневных решен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и кампан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лгосрочные и среднесроч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ь по принципам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RT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Significa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уществен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Measurable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измеряем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chievable 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достижимы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Relevant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уместная, обоснован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imely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определены во времени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йдите 5 отличий </a:t>
            </a:r>
            <a:r>
              <a:rPr b="0" lang="ru-RU" sz="4000" spc="-1" strike="noStrike">
                <a:solidFill>
                  <a:srgbClr val="42445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!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Не правильна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5480" y="35719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Правильна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228564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инг реализаци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PCR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Таджикистан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480" y="4214520"/>
            <a:ext cx="8286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 2015 году сместить финансирование в рамках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PCR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 Таджикистане с проектов модернизации ГЕС на проекты стимулирования эффективного использования воды на частных ферма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571680"/>
            <a:ext cx="83818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ще прим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Неправильная цель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5840" y="11430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Правильна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3840" y="2285640"/>
            <a:ext cx="404172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сети НПО Украины по клима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ышения информированности населения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лиять на политику Украины в секторе транспорта по вопросу изменения клима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6160" y="1999800"/>
            <a:ext cx="48578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 протяжении 2011-2012 3 организации из РГ пройдут как минимум 3 тренинга по стратегическому планированию и тактике работы НП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В 2011 году проинформировать учеников как минимум 5 школ о проблемах изменения клима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Добиться разработки и принятия нац. программы Украины по сокращению выбросов парниковых газов в транспортном секторе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ел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какие решения / действия вы хотите что бы были выполнен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елевая групп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орган, принимающий решение) и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еханизм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ринятия реш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ронник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те, кто </a:t>
            </a:r>
            <a:r>
              <a:rPr b="0" lang="ru-RU" sz="2800" spc="-1" strike="noStrike">
                <a:solidFill>
                  <a:srgbClr val="438086"/>
                </a:solidFill>
                <a:latin typeface="Trebuchet MS"/>
              </a:rPr>
              <a:t>будут, или кого можно убеди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влиять на целевую групп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ппонент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 все, а те </a:t>
            </a:r>
            <a:r>
              <a:rPr b="0" lang="ru-RU" sz="2800" spc="-1" strike="noStrike">
                <a:solidFill>
                  <a:srgbClr val="438086"/>
                </a:solidFill>
                <a:latin typeface="Trebuchet MS"/>
              </a:rPr>
              <a:t>кто будут активно работа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что бы убедить не принимать нужного вам реше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5. Стратег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бщий план как убедить целевую групп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38086"/>
                </a:solidFill>
                <a:uFillTx/>
                <a:latin typeface="Trebuchet MS"/>
              </a:rPr>
              <a:t>Убедительные</a:t>
            </a: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 аргументы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Анализ ситуации: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ие существуют преграды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ие обстоятельства благоприятны для вас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Приоритеты –из всего задуманного, </a:t>
            </a:r>
            <a:r>
              <a:rPr b="0" lang="ru-RU" sz="2400" spc="-1" strike="noStrike" u="sng">
                <a:solidFill>
                  <a:srgbClr val="438086"/>
                </a:solidFill>
                <a:uFillTx/>
                <a:latin typeface="Trebuchet MS"/>
              </a:rPr>
              <a:t>какие 3-4 вещи с наибольшей вероятностью приведут к достижению цели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9:28:15Z</dcterms:created>
  <dc:creator>Dmytro</dc:creator>
  <dc:description/>
  <dc:language>en-US</dc:language>
  <cp:lastModifiedBy>Dmytro</cp:lastModifiedBy>
  <dcterms:modified xsi:type="dcterms:W3CDTF">2011-07-27T06:51:37Z</dcterms:modified>
  <cp:revision>104</cp:revision>
  <dc:subject/>
  <dc:title>Экологическая кампания </dc:title>
</cp:coreProperties>
</file>