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A96E-BB15-4ABE-B33D-3369E365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BCF0-8662-47F6-95DA-958323F0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8CBF-7A8B-4B93-AE93-58B5E8F2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3B4F-A665-4F89-A6F9-F0BE345F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2F9C-B305-4F68-9255-3B2EFEEF8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FAFA-57B7-414D-BFEF-842B4AF5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2960-A04D-4BED-A854-84A91E39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5758-BA85-4425-A4AC-CDB2EE4B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0D9C-23E9-44DA-BC64-5DA8CFCE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D55B-77F2-4587-B503-4CCBED14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6862-36F1-4248-B47B-C9189970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6F0B-80B8-4CBB-917E-62495B50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01AD-B3AF-448E-916B-E8F00F44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3D97-4D47-46AC-A8F5-74207222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5EBF-F24B-4F2A-B21C-23497294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58F4-7788-4FA1-8784-6E2CEC03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188B-D47A-4FEA-BEB8-F3998998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86D460-1CED-4C69-9921-E5E3271C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8F97CB-615B-4634-881D-E13A884B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46484F-4CB0-4614-B882-6347D020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46E23-E653-4EFC-8C64-DF86AA71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C9DDFF-E119-4FAA-ADAC-53CDE985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19B5-8410-4333-A09D-CBD1560D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DCFC1-52D4-42B7-A44A-51CC2862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C48EAE-9EEC-41F3-B09B-1E88394A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A6C71B-9623-43B2-AA86-A9B41ED3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19AFBA-1AEF-4E24-B943-061FC952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71D8AC-F650-4C09-BC91-A0ED4F6E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C80553-7CBA-45D9-BA45-0C184839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41EF90-78FC-4E70-A59F-553D6157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205A4-3B9E-4F0D-B897-751F4565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E4717-E10E-4BF1-A160-4F97882F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40F77-5172-431D-972C-CE6A7955E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EAEB-E3A0-4198-A623-3BE38469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A6F3C-DAED-4AF6-B620-2CD1A9E4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303C1-C7E4-4DE5-AE99-2B75D926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6F7EA-63B0-4051-A01A-960B0793C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0D022-FF9C-4F3A-921F-2BEA55B7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8D2E5-C4E0-48AD-87B5-8C60D634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80749-2982-407B-95E7-B7266CE0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AE4BF-E4C4-4C18-B885-F91B7ACF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826EA-F2C8-427D-BE61-A65733C3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A8788-7BB0-4F28-B1CF-A0E5845B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9CA0-44C9-4942-9B83-63B3F3E1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AC31-F853-4D5C-B36F-D5856D6F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6EDC-6D6E-4F5D-80E5-B6E3C860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5D39-6A02-409A-BF23-5FB835AB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A35B-FFC5-40F3-9D5A-58C8C91B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AEB9-42F3-45C3-986F-DE504D91904C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3A3D-888D-4969-9344-5F0B7305A08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F0A2-FF4D-4C8C-BAF3-81FE0353E53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B16C-783A-48E5-93B8-9AC159AC871A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Экологическая кампания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Ирина Головко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НЕЦУ/</a:t>
            </a: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CEE Bankwatch Networ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Киев, июль 2011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ЭТАПЫ ПЛАНИРОВА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2249640"/>
            <a:ext cx="818676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6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Действия / тактика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(каждый шаг направленный на убеждение целевой группы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8086"/>
                </a:solidFill>
                <a:latin typeface="Trebuchet MS"/>
              </a:rPr>
              <a:t>Как мобилизовать друзей и обезвредить оппонентов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8086"/>
                </a:solidFill>
                <a:latin typeface="Trebuchet MS"/>
              </a:rPr>
              <a:t>События, работа с прессой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8086"/>
                </a:solidFill>
                <a:latin typeface="Trebuchet MS"/>
              </a:rPr>
              <a:t>Документы, информация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7. Что вам надо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/ определитесь с тем что ест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8086"/>
                </a:solidFill>
                <a:latin typeface="Trebuchet MS"/>
              </a:rPr>
              <a:t>Информация, финансирование, подготовка документов…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Trebuchet MS"/>
              </a:rPr>
              <a:t>Действия – инструменты НПО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28760" y="171432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Встречи с чиновникам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исьм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оздание коалиц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есс-релизы и медиа-работа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Фото – и видео материалы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езентации на конференциях и круглых стола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аписание позиций НПО и отчетов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частие в общественных слушания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езависимый мониторинг/инспекц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584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    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Экологическая кампа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400" y="4500720"/>
            <a:ext cx="81867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2212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продуманные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3600" spc="-1" strike="noStrike" u="sng">
                <a:solidFill>
                  <a:srgbClr val="326064"/>
                </a:solidFill>
                <a:uFillTx/>
                <a:latin typeface="Arial Narrow"/>
              </a:rPr>
              <a:t>организованные во времени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0" lang="ru-RU" sz="3600" spc="-1" strike="noStrike" u="sng">
                <a:solidFill>
                  <a:srgbClr val="c00000"/>
                </a:solidFill>
                <a:uFillTx/>
                <a:latin typeface="Lucida Console"/>
              </a:rPr>
              <a:t>пространстве</a:t>
            </a:r>
            <a:r>
              <a:rPr b="0" lang="ru-RU" sz="36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коллективные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424456"/>
                </a:solidFill>
                <a:latin typeface="Trebuchet MS"/>
              </a:rPr>
              <a:t>действия для достижения     </a:t>
            </a: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цел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17520" indent="-22212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8" name="Picture 2" descr="C:\Documents and Settings\Iryna\ЛЭП\second backbone\Chernobyl report\phpThumb_generated_thumbnailjpg.jpg"/>
          <p:cNvPicPr/>
          <p:nvPr/>
        </p:nvPicPr>
        <p:blipFill>
          <a:blip r:embed="rId1"/>
          <a:stretch/>
        </p:blipFill>
        <p:spPr>
          <a:xfrm>
            <a:off x="428760" y="1857240"/>
            <a:ext cx="2585880" cy="1928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\\Necu_drive\necu\Photo\ByDates\030609 - meeting Kyiv EfE confererence\k2003_1.jpg"/>
          <p:cNvPicPr/>
          <p:nvPr/>
        </p:nvPicPr>
        <p:blipFill>
          <a:blip r:embed="rId2"/>
          <a:stretch/>
        </p:blipFill>
        <p:spPr>
          <a:xfrm>
            <a:off x="2955960" y="2571840"/>
            <a:ext cx="2901960" cy="19335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C:\Documents and Settings\Dmytro\Мои документы\Мои рисунки\TL web page.JPG"/>
          <p:cNvPicPr/>
          <p:nvPr/>
        </p:nvPicPr>
        <p:blipFill>
          <a:blip r:embed="rId3"/>
          <a:stretch/>
        </p:blipFill>
        <p:spPr>
          <a:xfrm>
            <a:off x="5715000" y="1857240"/>
            <a:ext cx="3166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428760" y="713880"/>
            <a:ext cx="86868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чем тратить время на планирование кампании?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4964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Принятие решения о приоритета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11280" indent="-22896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38086"/>
                </a:solidFill>
                <a:latin typeface="Trebuchet MS"/>
              </a:rPr>
              <a:t>что важнее, что эффективнее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11280" indent="-22896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38086"/>
                </a:solidFill>
                <a:latin typeface="Trebuchet MS"/>
              </a:rPr>
              <a:t>где больше всего шансов достичь изменений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11280" indent="-22896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38086"/>
                </a:solidFill>
                <a:latin typeface="Trebuchet MS"/>
              </a:rPr>
              <a:t>есть ли достаточно ресурсов выполнить задачи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11280" indent="-228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39480" indent="-237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Развитие ваших НП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11280" indent="-22896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38086"/>
                </a:solidFill>
                <a:latin typeface="Trebuchet MS"/>
              </a:rPr>
              <a:t>Общее понимание</a:t>
            </a:r>
            <a:r>
              <a:rPr b="0" lang="ru-RU" sz="2600" spc="-1" strike="noStrike">
                <a:solidFill>
                  <a:srgbClr val="438086"/>
                </a:solidFill>
                <a:latin typeface="Trebuchet MS"/>
              </a:rPr>
              <a:t> что и зачем делаем (мотивация) 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11280" indent="-22896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38086"/>
                </a:solidFill>
                <a:latin typeface="Trebuchet MS"/>
              </a:rPr>
              <a:t>Основа для создание национальных и международных коалиций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14240" y="8571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Зачем тратить время на планирование кампании?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Фандрейзинг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38086"/>
                </a:solidFill>
                <a:latin typeface="Trebuchet MS"/>
              </a:rPr>
              <a:t>Планы можно продемонстрировать донорам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38086"/>
                </a:solidFill>
                <a:latin typeface="Trebuchet MS"/>
              </a:rPr>
              <a:t>План дает вам представление о необходимом бюджете и денежном потоке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Помогает в принятии каждодневных решений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Цели кампани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57120" y="192888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лгосрочные и среднесрочны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Цель по принципам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MART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Significant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ущественная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Measurable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измеряемая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Achievable </a:t>
            </a:r>
            <a:r>
              <a:rPr b="0" lang="ru-RU" sz="28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достижимые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Relevant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уместная, обоснованная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eorgia"/>
              </a:rPr>
              <a:t>Timely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(определены во времени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4200" y="571680"/>
            <a:ext cx="838224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       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Найдите 5 отличий </a:t>
            </a:r>
            <a:r>
              <a:rPr b="0" lang="ru-RU" sz="4000" spc="-1" strike="noStrike">
                <a:solidFill>
                  <a:srgbClr val="424456"/>
                </a:solidFill>
                <a:latin typeface="Wingdings"/>
                <a:ea typeface="Wingdings"/>
              </a:rPr>
              <a:t>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!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56760" y="164304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f3f3f"/>
                </a:solidFill>
                <a:latin typeface="Georgia"/>
              </a:rPr>
              <a:t>Не правильная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85480" y="357192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f3f3f"/>
                </a:solidFill>
                <a:latin typeface="Georgia"/>
              </a:rPr>
              <a:t>Правильная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57120" y="2285640"/>
            <a:ext cx="842976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Мониторинг реализации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PCR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Таджикистан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85480" y="4214520"/>
            <a:ext cx="82868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К 2015 году сместить финансирование в рамках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PPCR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в Таджикистане с проектов модернизации ГЕС на проекты стимулирования эффективного использования воды на частных фермах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571680"/>
            <a:ext cx="838188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   </a:t>
            </a: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Еще пример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56760" y="164304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f3f3f"/>
                </a:solidFill>
                <a:latin typeface="Georgia"/>
              </a:rPr>
              <a:t>Неправильная цель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85840" y="1143000"/>
            <a:ext cx="4041720" cy="457200"/>
          </a:xfrm>
          <a:prstGeom prst="rect">
            <a:avLst/>
          </a:prstGeom>
          <a:solidFill>
            <a:srgbClr val="328e97">
              <a:alpha val="25000"/>
            </a:srgbClr>
          </a:solidFill>
          <a:ln w="12600">
            <a:solidFill>
              <a:srgbClr val="438086"/>
            </a:solidFill>
            <a:miter/>
          </a:ln>
        </p:spPr>
        <p:txBody>
          <a:bodyPr anchor="ctr">
            <a:normAutofit/>
          </a:bodyPr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f3f3f"/>
                </a:solidFill>
                <a:latin typeface="Georgia"/>
              </a:rPr>
              <a:t>Правильная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13840" y="2285640"/>
            <a:ext cx="404172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Развитие сети НПО Украины по климату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вышения информированности населения по изменению климата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влиять на политику Украины в секторе транспорта по вопросу изменения климат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286160" y="1999800"/>
            <a:ext cx="48578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На протяжении 2011-2012 3 организации из РГ пройдут как минимум 3 тренинга по стратегическому планированию и тактике работы НПО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В 2011 году проинформировать учеников как минимум 5 школ о проблемах изменения климат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Добиться разработки и принятия нац. программы Украины по сокращению выбросов парниковых газов в транспортном секторе  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ЭТАПЫ ПЛАНИРОВА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28760" y="2286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78520" indent="-478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Цели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(какие решения / действия вы хотите что бы были выполнены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78520" indent="-478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Целевая группа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(орган, принимающий решение) и </a:t>
            </a: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механизм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принятия решен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78520" indent="-478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Сторонники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(те, кто </a:t>
            </a:r>
            <a:r>
              <a:rPr b="0" lang="ru-RU" sz="2800" spc="-1" strike="noStrike">
                <a:solidFill>
                  <a:srgbClr val="438086"/>
                </a:solidFill>
                <a:latin typeface="Trebuchet MS"/>
              </a:rPr>
              <a:t>будут, или кого можно убедить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влиять на целевую группу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78520" indent="-478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Оппоненты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е все, а те </a:t>
            </a:r>
            <a:r>
              <a:rPr b="0" lang="ru-RU" sz="2800" spc="-1" strike="noStrike">
                <a:solidFill>
                  <a:srgbClr val="438086"/>
                </a:solidFill>
                <a:latin typeface="Trebuchet MS"/>
              </a:rPr>
              <a:t>кто будут активно работать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что бы убедить не принимать нужного вам решения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78520" indent="-478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78520" indent="-478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78520" indent="-478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78520" indent="-478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78520" indent="-47808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ЭТАПЫ ПЛАНИРОВАНИЯ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2876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rebuchet MS"/>
              </a:rPr>
              <a:t>5. Стратегия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 (общий план как убедить целевую группу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38086"/>
                </a:solidFill>
                <a:uFillTx/>
                <a:latin typeface="Trebuchet MS"/>
              </a:rPr>
              <a:t>Убедительные</a:t>
            </a:r>
            <a:r>
              <a:rPr b="0" lang="ru-RU" sz="2400" spc="-1" strike="noStrike">
                <a:solidFill>
                  <a:srgbClr val="438086"/>
                </a:solidFill>
                <a:latin typeface="Trebuchet MS"/>
              </a:rPr>
              <a:t> аргументы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8086"/>
                </a:solidFill>
                <a:latin typeface="Trebuchet MS"/>
              </a:rPr>
              <a:t>Анализ ситуации: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8086"/>
                </a:solidFill>
                <a:latin typeface="Trebuchet MS"/>
              </a:rPr>
              <a:t>какие существуют преграды?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8086"/>
                </a:solidFill>
                <a:latin typeface="Trebuchet MS"/>
              </a:rPr>
              <a:t>какие обстоятельства благоприятны для вас?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8086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8086"/>
                </a:solidFill>
                <a:latin typeface="Trebuchet MS"/>
              </a:rPr>
              <a:t>Приоритеты –из всего задуманного, </a:t>
            </a:r>
            <a:r>
              <a:rPr b="0" lang="ru-RU" sz="2400" spc="-1" strike="noStrike" u="sng">
                <a:solidFill>
                  <a:srgbClr val="438086"/>
                </a:solidFill>
                <a:uFillTx/>
                <a:latin typeface="Trebuchet MS"/>
              </a:rPr>
              <a:t>какие 3-4 вещи с наибольшей вероятностью приведут к достижению цели?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6224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2440" indent="-5144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4T09:28:15Z</dcterms:created>
  <dc:creator>Dmytro</dc:creator>
  <dc:description/>
  <dc:language>en-US</dc:language>
  <cp:lastModifiedBy>Dmytro</cp:lastModifiedBy>
  <dcterms:modified xsi:type="dcterms:W3CDTF">2011-07-27T06:51:37Z</dcterms:modified>
  <cp:revision>104</cp:revision>
  <dc:subject/>
  <dc:title>Экологическая кампания </dc:title>
</cp:coreProperties>
</file>