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866600" y="1409760"/>
            <a:ext cx="9271080" cy="79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1269720" y="6082920"/>
            <a:ext cx="1046484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631920" y="312408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2697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631920" y="6082920"/>
            <a:ext cx="5106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80816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346600" y="312408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126972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480816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8346600" y="6082920"/>
            <a:ext cx="3369600" cy="27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7320" y="7543800"/>
            <a:ext cx="11430000" cy="168912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76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2ee"/>
                </a:solidFill>
                <a:latin typeface="Stone Sans ITC TT-Semi"/>
              </a:rPr>
              <a:t>Click to edit the outline text format</a:t>
            </a:r>
            <a:endParaRPr b="0" lang="en-US" sz="2800" spc="-1" strike="noStrike">
              <a:solidFill>
                <a:srgbClr val="d7e2ee"/>
              </a:solidFill>
              <a:latin typeface="Stone Sans ITC TT-Semi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2ee"/>
                </a:solidFill>
                <a:latin typeface="Stone Sans ITC TT-Semi"/>
              </a:rPr>
              <a:t>Second Outline Level</a:t>
            </a:r>
            <a:endParaRPr b="0" lang="en-US" sz="2800" spc="-1" strike="noStrike">
              <a:solidFill>
                <a:srgbClr val="d7e2ee"/>
              </a:solidFill>
              <a:latin typeface="Stone Sans ITC TT-Semi"/>
            </a:endParaRPr>
          </a:p>
          <a:p>
            <a:pPr lvl="2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2ee"/>
                </a:solidFill>
                <a:latin typeface="Stone Sans ITC TT-Semi"/>
              </a:rPr>
              <a:t>Third Outline Level</a:t>
            </a:r>
            <a:endParaRPr b="0" lang="en-US" sz="2800" spc="-1" strike="noStrike">
              <a:solidFill>
                <a:srgbClr val="d7e2ee"/>
              </a:solidFill>
              <a:latin typeface="Stone Sans ITC TT-Semi"/>
            </a:endParaRPr>
          </a:p>
          <a:p>
            <a:pPr lvl="3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2ee"/>
                </a:solidFill>
                <a:latin typeface="Stone Sans ITC TT-Semi"/>
              </a:rPr>
              <a:t>Fourth Outline Level</a:t>
            </a:r>
            <a:endParaRPr b="0" lang="en-US" sz="2800" spc="-1" strike="noStrike">
              <a:solidFill>
                <a:srgbClr val="d7e2ee"/>
              </a:solidFill>
              <a:latin typeface="Stone Sans ITC TT-Semi"/>
            </a:endParaRPr>
          </a:p>
          <a:p>
            <a:pPr lvl="4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2ee"/>
                </a:solidFill>
                <a:latin typeface="Stone Sans ITC TT-Semi"/>
              </a:rPr>
              <a:t>Fifth Outline Level</a:t>
            </a:r>
            <a:endParaRPr b="0" lang="en-US" sz="2800" spc="-1" strike="noStrike">
              <a:solidFill>
                <a:srgbClr val="d7e2ee"/>
              </a:solidFill>
              <a:latin typeface="Stone Sans ITC TT-Semi"/>
            </a:endParaRPr>
          </a:p>
          <a:p>
            <a:pPr lvl="5">
              <a:spcBef>
                <a:spcPts val="700"/>
              </a:spcBef>
              <a:buClr>
                <a:srgbClr val="d7e2ee"/>
              </a:buClr>
              <a:buFont typeface="Stone Sans ITC TT-S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2ee"/>
                </a:solidFill>
                <a:latin typeface="Stone Sans ITC TT-Semi"/>
              </a:rPr>
              <a:t>Sixth Outline Level</a:t>
            </a:r>
            <a:endParaRPr b="0" lang="en-US" sz="2800" spc="-1" strike="noStrike">
              <a:solidFill>
                <a:srgbClr val="d7e2ee"/>
              </a:solidFill>
              <a:latin typeface="Stone Sans ITC TT-Semi"/>
            </a:endParaRPr>
          </a:p>
          <a:p>
            <a:pPr lvl="6">
              <a:spcBef>
                <a:spcPts val="700"/>
              </a:spcBef>
              <a:buClr>
                <a:srgbClr val="d7e2ee"/>
              </a:buClr>
              <a:buFont typeface="Stone Sans ITC TT-S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2ee"/>
                </a:solidFill>
                <a:latin typeface="Stone Sans ITC TT-Semi"/>
              </a:rPr>
              <a:t>Seventh Outline Level</a:t>
            </a:r>
            <a:endParaRPr b="0" lang="en-US" sz="2800" spc="-1" strike="noStrike">
              <a:solidFill>
                <a:srgbClr val="d7e2ee"/>
              </a:solidFill>
              <a:latin typeface="Stone Sans ITC TT-S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1269720" y="1727280"/>
            <a:ext cx="10464840" cy="7061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731520" indent="-582840">
              <a:spcBef>
                <a:spcPts val="42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298520" indent="-582840">
              <a:spcBef>
                <a:spcPts val="42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847160" indent="-582840">
              <a:spcBef>
                <a:spcPts val="42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2411640" indent="-583200">
              <a:spcBef>
                <a:spcPts val="42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2960280" indent="-582840">
              <a:spcBef>
                <a:spcPts val="42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2960280" indent="-582840">
              <a:spcBef>
                <a:spcPts val="42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2960280" indent="-582840">
              <a:spcBef>
                <a:spcPts val="42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2000"/>
          </a:bodyPr>
          <a:p>
            <a:pPr marL="671400" indent="-51948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253160" indent="-52164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813680" indent="-52128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2388960" indent="-51984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2950200" indent="-51984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2950200" indent="-51984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2950200" indent="-51984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47720" indent="-595800">
              <a:spcBef>
                <a:spcPts val="20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327320" indent="-595800">
              <a:spcBef>
                <a:spcPts val="20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888200" indent="-595800">
              <a:spcBef>
                <a:spcPts val="20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2465280" indent="-596160">
              <a:spcBef>
                <a:spcPts val="20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3026160" indent="-595800">
              <a:spcBef>
                <a:spcPts val="20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3026160" indent="-595800">
              <a:spcBef>
                <a:spcPts val="20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3026160" indent="-595800">
              <a:spcBef>
                <a:spcPts val="20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447920" y="3124080"/>
            <a:ext cx="463536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8000"/>
          </a:bodyPr>
          <a:p>
            <a:pPr marL="496440" indent="-38376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926280" indent="-38556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340640" indent="-38520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765800" indent="-38412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2180520" indent="-38412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2180520" indent="-38412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2180520" indent="-38412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0" y="0"/>
            <a:ext cx="13004640" cy="9753480"/>
            <a:chOff x="0" y="0"/>
            <a:chExt cx="13004640" cy="9753480"/>
          </a:xfrm>
        </p:grpSpPr>
        <p:pic>
          <p:nvPicPr>
            <p:cNvPr id="153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3004640" cy="975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4"/>
            <a:stretch/>
          </p:blipFill>
          <p:spPr>
            <a:xfrm>
              <a:off x="6832440" y="2222640"/>
              <a:ext cx="4724640" cy="605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4600" y="2476440"/>
            <a:ext cx="6248160" cy="281952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76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44600" y="5397120"/>
            <a:ext cx="6248160" cy="25146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  <p:txBody>
          <a:bodyPr lIns="50760" rIns="50760" tIns="50760" bIns="50760" anchor="t">
            <a:normAutofit fontScale="62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Click to edit the outline text format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1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Second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2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Third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3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Fourth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4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Fifth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5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Sixth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  <a:p>
            <a:pPr lvl="6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</a:rPr>
              <a:t>Seventh Outline Level</a:t>
            </a:r>
            <a:endParaRPr b="0" lang="en-US" sz="3600" spc="-1" strike="noStrike">
              <a:solidFill>
                <a:srgbClr val="d7e2ee"/>
              </a:solidFill>
              <a:latin typeface="Stone Sans ITC TT-S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87320" y="3568320"/>
            <a:ext cx="11430000" cy="29084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87320" y="2387160"/>
            <a:ext cx="11430000" cy="29084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84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87320" y="5397120"/>
            <a:ext cx="11430000" cy="31878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  <p:txBody>
          <a:bodyPr lIns="50760" rIns="50760" tIns="50760" bIns="50760" anchor="t">
            <a:normAutofit fontScale="9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Click to edit the outline text format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1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Second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2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Third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3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Fourth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4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Fifth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5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Sixth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  <a:p>
            <a:pPr lvl="6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7e2ee"/>
                </a:solidFill>
                <a:latin typeface="Stone Sans ITC TT-Semi"/>
              </a:rPr>
              <a:t>Seventh Outline Level</a:t>
            </a:r>
            <a:endParaRPr b="0" lang="en-US" sz="3200" spc="-1" strike="noStrike">
              <a:solidFill>
                <a:srgbClr val="d7e2ee"/>
              </a:solidFill>
              <a:latin typeface="Stone Sans ITC TT-S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1447920" y="3124080"/>
            <a:ext cx="463536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8000"/>
          </a:bodyPr>
          <a:p>
            <a:pPr marL="496440" indent="-38376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926280" indent="-38556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340640" indent="-38520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765800" indent="-38412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2180520" indent="-38412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2180520" indent="-38412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2180520" indent="-38412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8051400" y="3124080"/>
            <a:ext cx="368316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2000"/>
          </a:bodyPr>
          <a:p>
            <a:pPr marL="452520" indent="-34992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844560" indent="-35136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222200" indent="-35100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609920" indent="-35028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1987920" indent="-35028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1987920" indent="-35028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1987920" indent="-350280">
              <a:spcBef>
                <a:spcPts val="33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3695760" y="3009960"/>
            <a:ext cx="5638680" cy="431784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00280" y="1600200"/>
            <a:ext cx="11430000" cy="11174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d7e2ee"/>
                </a:solidFill>
                <a:latin typeface="Stone Sans ITC TT-Semi"/>
                <a:ea typeface="Lucida Grande"/>
              </a:rPr>
              <a:t>Советы по проведению встреч</a:t>
            </a:r>
            <a:endParaRPr b="0" lang="en-US" sz="55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456" name=""/>
          <p:cNvSpPr/>
          <p:nvPr/>
        </p:nvSpPr>
        <p:spPr>
          <a:xfrm>
            <a:off x="3394800" y="7682040"/>
            <a:ext cx="6235560" cy="5490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7e2ee"/>
                </a:solidFill>
                <a:latin typeface="Stone Sans ITC TT-Semi"/>
                <a:ea typeface="Lucida Grande"/>
              </a:rPr>
              <a:t>Ирина Ставчук     Киев 2011</a:t>
            </a:r>
            <a:endParaRPr b="0" lang="en-US" sz="3600" spc="-1" strike="noStrike">
              <a:solidFill>
                <a:srgbClr val="d7e2ee"/>
              </a:solidFill>
              <a:latin typeface="Bradley Hand ITC TT-Bol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  <a:ea typeface="Lucida Grande"/>
              </a:rPr>
              <a:t>Спасибо за внимание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4572000" y="2781360"/>
            <a:ext cx="4102200" cy="614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846360" indent="-63468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Bradley Hand ITC TT-Bold"/>
                <a:ea typeface="Times New Roman"/>
              </a:rPr>
              <a:t>Процедури ЄБРР участі у прийнятті рішень</a:t>
            </a:r>
            <a:endParaRPr b="0" lang="en-US" sz="3700" spc="-1" strike="noStrike">
              <a:solidFill>
                <a:srgbClr val="000000"/>
              </a:solidFill>
              <a:latin typeface="Bradley Hand ITC TT-Bold"/>
            </a:endParaRPr>
          </a:p>
          <a:p>
            <a:pPr marL="846360" indent="-634680">
              <a:lnSpc>
                <a:spcPct val="100000"/>
              </a:lnSpc>
              <a:spcBef>
                <a:spcPts val="17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Bradley Hand ITC TT-Bold"/>
                <a:ea typeface="Times New Roman"/>
              </a:rPr>
              <a:t>Знати що відбуваються консультації – Бути у списках банку</a:t>
            </a:r>
            <a:endParaRPr b="0" lang="en-US" sz="3700" spc="-1" strike="noStrike">
              <a:solidFill>
                <a:srgbClr val="000000"/>
              </a:solidFill>
              <a:latin typeface="Bradley Hand ITC TT-Bold"/>
            </a:endParaRPr>
          </a:p>
          <a:p>
            <a:pPr marL="846360" indent="-634680">
              <a:lnSpc>
                <a:spcPct val="100000"/>
              </a:lnSpc>
              <a:spcBef>
                <a:spcPts val="17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Bradley Hand ITC TT-Bold"/>
                <a:ea typeface="Times New Roman"/>
              </a:rPr>
              <a:t>Мати інформацію про конкретні проекти</a:t>
            </a:r>
            <a:endParaRPr b="0" lang="en-US" sz="3700" spc="-1" strike="noStrike">
              <a:solidFill>
                <a:srgbClr val="000000"/>
              </a:solidFill>
              <a:latin typeface="Bradley Hand ITC TT-Bold"/>
            </a:endParaRPr>
          </a:p>
          <a:p>
            <a:pPr marL="846360" indent="-634680">
              <a:lnSpc>
                <a:spcPct val="100000"/>
              </a:lnSpc>
              <a:spcBef>
                <a:spcPts val="177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Bradley Hand ITC TT-Bold"/>
                <a:ea typeface="Times New Roman"/>
              </a:rPr>
              <a:t>Вимагати дотримання процедур</a:t>
            </a:r>
            <a:endParaRPr b="0" lang="en-US" sz="3700" spc="-1" strike="noStrike">
              <a:solidFill>
                <a:srgbClr val="000000"/>
              </a:solidFill>
              <a:latin typeface="Bradley Hand ITC TT-Bold"/>
            </a:endParaRPr>
          </a:p>
          <a:p>
            <a:pPr marL="846360" indent="-634680">
              <a:lnSpc>
                <a:spcPct val="100000"/>
              </a:lnSpc>
              <a:spcBef>
                <a:spcPts val="177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Bradley Hand ITC TT-Bold"/>
                <a:ea typeface="Times New Roman"/>
              </a:rPr>
              <a:t>Вплив на установу ззовні</a:t>
            </a:r>
            <a:endParaRPr b="0" lang="en-US" sz="3700" spc="-1" strike="noStrike">
              <a:solidFill>
                <a:srgbClr val="000000"/>
              </a:solidFill>
              <a:latin typeface="Bradley Hand ITC TT-Bold"/>
            </a:endParaRPr>
          </a:p>
          <a:p>
            <a:pPr marL="846360" indent="-634680">
              <a:lnSpc>
                <a:spcPct val="100000"/>
              </a:lnSpc>
              <a:spcBef>
                <a:spcPts val="1774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Bradley Hand ITC TT-Bold"/>
                <a:ea typeface="Times New Roman"/>
              </a:rPr>
              <a:t>Вплив на окремих співробітників</a:t>
            </a:r>
            <a:endParaRPr b="0" lang="en-US" sz="37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8000"/>
          </a:bodyPr>
          <a:p>
            <a:pPr marL="846360" indent="-63468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Bradley Hand ITC TT-Bold"/>
                <a:ea typeface="Times New Roman"/>
              </a:rPr>
              <a:t>Процедури ЄБРР участі у прийнятті рішень</a:t>
            </a:r>
            <a:endParaRPr b="0" lang="en-US" sz="3700" spc="-1" strike="noStrike">
              <a:solidFill>
                <a:srgbClr val="000000"/>
              </a:solidFill>
              <a:latin typeface="Bradley Hand ITC TT-Bold"/>
            </a:endParaRPr>
          </a:p>
          <a:p>
            <a:pPr marL="846360" indent="-634680">
              <a:lnSpc>
                <a:spcPct val="100000"/>
              </a:lnSpc>
              <a:spcBef>
                <a:spcPts val="17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Bradley Hand ITC TT-Bold"/>
                <a:ea typeface="Times New Roman"/>
              </a:rPr>
              <a:t>Вплив на установу ззовні</a:t>
            </a:r>
            <a:endParaRPr b="0" lang="en-US" sz="3700" spc="-1" strike="noStrike">
              <a:solidFill>
                <a:srgbClr val="000000"/>
              </a:solidFill>
              <a:latin typeface="Bradley Hand ITC TT-Bold"/>
            </a:endParaRPr>
          </a:p>
          <a:p>
            <a:pPr marL="846360" indent="-634680">
              <a:lnSpc>
                <a:spcPct val="100000"/>
              </a:lnSpc>
              <a:spcBef>
                <a:spcPts val="17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Bradley Hand ITC TT-Bold"/>
                <a:ea typeface="Times New Roman"/>
              </a:rPr>
              <a:t>Інформувати директорів та владу країн-донорів</a:t>
            </a:r>
            <a:endParaRPr b="0" lang="en-US" sz="3700" spc="-1" strike="noStrike">
              <a:solidFill>
                <a:srgbClr val="000000"/>
              </a:solidFill>
              <a:latin typeface="Bradley Hand ITC TT-Bold"/>
            </a:endParaRPr>
          </a:p>
          <a:p>
            <a:pPr marL="846360" indent="-634680">
              <a:lnSpc>
                <a:spcPct val="100000"/>
              </a:lnSpc>
              <a:spcBef>
                <a:spcPts val="177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Bradley Hand ITC TT-Bold"/>
                <a:ea typeface="Times New Roman"/>
              </a:rPr>
              <a:t>Інформувати НПО в інших країнах</a:t>
            </a:r>
            <a:endParaRPr b="0" lang="en-US" sz="3700" spc="-1" strike="noStrike">
              <a:solidFill>
                <a:srgbClr val="000000"/>
              </a:solidFill>
              <a:latin typeface="Bradley Hand ITC TT-Bold"/>
            </a:endParaRPr>
          </a:p>
          <a:p>
            <a:pPr marL="846360" indent="-634680">
              <a:lnSpc>
                <a:spcPct val="100000"/>
              </a:lnSpc>
              <a:spcBef>
                <a:spcPts val="1774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Bradley Hand ITC TT-Bold"/>
                <a:ea typeface="Times New Roman"/>
              </a:rPr>
              <a:t>Інформувати пресу</a:t>
            </a:r>
            <a:endParaRPr b="0" lang="en-US" sz="3700" spc="-1" strike="noStrike">
              <a:solidFill>
                <a:srgbClr val="000000"/>
              </a:solidFill>
              <a:latin typeface="Bradley Hand ITC TT-Bold"/>
            </a:endParaRPr>
          </a:p>
          <a:p>
            <a:pPr marL="846360" indent="-634680">
              <a:lnSpc>
                <a:spcPct val="100000"/>
              </a:lnSpc>
              <a:spcBef>
                <a:spcPts val="1774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Bradley Hand ITC TT-Bold"/>
                <a:ea typeface="Times New Roman"/>
              </a:rPr>
              <a:t>Вплив на окремих співробітників</a:t>
            </a:r>
            <a:endParaRPr b="0" lang="en-US" sz="37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64764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Bradley Hand ITC TT-Bold"/>
                <a:ea typeface="Times New Roman"/>
              </a:rPr>
              <a:t>Процедури ЄБРР участі у прийнятті рішень</a:t>
            </a:r>
            <a:endParaRPr b="0" lang="en-US" sz="3700" spc="-1" strike="noStrike">
              <a:solidFill>
                <a:srgbClr val="000000"/>
              </a:solidFill>
              <a:latin typeface="Bradley Hand ITC TT-Bold"/>
            </a:endParaRPr>
          </a:p>
          <a:p>
            <a:pPr marL="863640" indent="-64764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Bradley Hand ITC TT-Bold"/>
                <a:ea typeface="Times New Roman"/>
              </a:rPr>
              <a:t>Вплив на установу ззовні</a:t>
            </a:r>
            <a:endParaRPr b="0" lang="en-US" sz="3700" spc="-1" strike="noStrike">
              <a:solidFill>
                <a:srgbClr val="000000"/>
              </a:solidFill>
              <a:latin typeface="Bradley Hand ITC TT-Bold"/>
            </a:endParaRPr>
          </a:p>
          <a:p>
            <a:pPr marL="863640" indent="-64764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Bradley Hand ITC TT-Bold"/>
                <a:ea typeface="Times New Roman"/>
              </a:rPr>
              <a:t>Вплив на окремих співробітників</a:t>
            </a:r>
            <a:endParaRPr b="0" lang="en-US" sz="3700" spc="-1" strike="noStrike">
              <a:solidFill>
                <a:srgbClr val="000000"/>
              </a:solidFill>
              <a:latin typeface="Bradley Hand ITC TT-Bold"/>
            </a:endParaRPr>
          </a:p>
          <a:p>
            <a:pPr marL="863640" indent="-64764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Bradley Hand ITC TT-Bold"/>
                <a:ea typeface="Times New Roman"/>
              </a:rPr>
              <a:t>Активно шукати зустрічей</a:t>
            </a:r>
            <a:endParaRPr b="0" lang="en-US" sz="3700" spc="-1" strike="noStrike">
              <a:solidFill>
                <a:srgbClr val="000000"/>
              </a:solidFill>
              <a:latin typeface="Bradley Hand ITC TT-Bold"/>
            </a:endParaRPr>
          </a:p>
          <a:p>
            <a:pPr marL="863640" indent="-64764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Bradley Hand ITC TT-Bold"/>
                <a:ea typeface="Times New Roman"/>
              </a:rPr>
              <a:t>Напряму звертатися листами</a:t>
            </a:r>
            <a:endParaRPr b="0" lang="en-US" sz="3700" spc="-1" strike="noStrike">
              <a:solidFill>
                <a:srgbClr val="000000"/>
              </a:solidFill>
              <a:latin typeface="Bradley Hand ITC TT-Bold"/>
            </a:endParaRPr>
          </a:p>
          <a:p>
            <a:pPr marL="863640" indent="-647640">
              <a:lnSpc>
                <a:spcPct val="100000"/>
              </a:lnSpc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Bradley Hand ITC TT-Bold"/>
                <a:ea typeface="Times New Roman"/>
              </a:rPr>
              <a:t>Йти на контакт на соціальних заходах</a:t>
            </a:r>
            <a:endParaRPr b="0" lang="en-US" sz="37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  <a:ea typeface="Lucida Grande"/>
              </a:rPr>
              <a:t>План презентации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81200" indent="-565200">
              <a:lnSpc>
                <a:spcPct val="100000"/>
              </a:lnSpc>
              <a:spcBef>
                <a:spcPts val="33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  <a:ea typeface="Times New Roman"/>
              </a:rPr>
              <a:t>Типы встреч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marL="781200" indent="-565200">
              <a:lnSpc>
                <a:spcPct val="100000"/>
              </a:lnSpc>
              <a:spcBef>
                <a:spcPts val="33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  <a:ea typeface="Times New Roman"/>
              </a:rPr>
              <a:t>Как организовать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marL="781200" indent="-565200">
              <a:lnSpc>
                <a:spcPct val="100000"/>
              </a:lnSpc>
              <a:spcBef>
                <a:spcPts val="33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  <a:ea typeface="Times New Roman"/>
              </a:rPr>
              <a:t>Важно перед встречей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marL="781200" indent="-565200">
              <a:lnSpc>
                <a:spcPct val="100000"/>
              </a:lnSpc>
              <a:spcBef>
                <a:spcPts val="33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  <a:ea typeface="Times New Roman"/>
              </a:rPr>
              <a:t>Важно на встрече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  <a:ea typeface="Lucida Grande"/>
              </a:rPr>
              <a:t>Типы встреч (1)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64764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  <a:ea typeface="Lucida Grande"/>
              </a:rPr>
              <a:t>(1) Часть круглого стола/конференции</a:t>
            </a:r>
            <a:endParaRPr b="0" lang="en-US" sz="33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494000" indent="-648000">
              <a:lnSpc>
                <a:spcPct val="100000"/>
              </a:lnSpc>
              <a:spcBef>
                <a:spcPts val="1576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частвуют: НПО, пресса, деловые круги, люди из правительств;</a:t>
            </a:r>
            <a:endParaRPr b="0" lang="en-US" sz="33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494000" indent="-648000">
              <a:lnSpc>
                <a:spcPct val="100000"/>
              </a:lnSpc>
              <a:spcBef>
                <a:spcPts val="1576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ожно задавать вопросы или делать публичные заявления (</a:t>
            </a:r>
            <a:r>
              <a:rPr b="0" lang="en-US" sz="3700" spc="-1" strike="noStrike">
                <a:solidFill>
                  <a:srgbClr val="671d00"/>
                </a:solidFill>
                <a:latin typeface="Arial Unicode MS"/>
                <a:ea typeface="Arial Unicode MS"/>
              </a:rPr>
              <a:t>на всю аудиторию</a:t>
            </a:r>
            <a:r>
              <a:rPr b="0" lang="en-US" sz="3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;</a:t>
            </a:r>
            <a:endParaRPr b="0" lang="en-US" sz="33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494000" indent="-648000">
              <a:lnSpc>
                <a:spcPct val="100000"/>
              </a:lnSpc>
              <a:spcBef>
                <a:spcPts val="1576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ы можете воспользоваться встречей, чтобы заинтересовать прессу вашей историей </a:t>
            </a:r>
            <a:endParaRPr b="0" lang="en-US" sz="33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  <a:ea typeface="Lucida Grande"/>
              </a:rPr>
              <a:t>Типы встреч (2)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01800" y="3124080"/>
            <a:ext cx="1181088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64764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Rounded MT Bold"/>
                <a:ea typeface="Lucida Grande"/>
              </a:rPr>
              <a:t>(2) Специально организованные встречи с НПО</a:t>
            </a:r>
            <a:endParaRPr b="0" lang="en-US" sz="34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494000" indent="-648000">
              <a:lnSpc>
                <a:spcPct val="100000"/>
              </a:lnSpc>
              <a:spcBef>
                <a:spcPts val="1613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Только НПО и лица, принимающие решения (1-5 человек)</a:t>
            </a:r>
            <a:endParaRPr b="0" lang="en-US" sz="34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494000" indent="-648000">
              <a:lnSpc>
                <a:spcPct val="100000"/>
              </a:lnSpc>
              <a:spcBef>
                <a:spcPts val="1613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Могут использоваться для выяснения разных вопросов вплоть до деталей, для лоббирования отдельных вопросов</a:t>
            </a:r>
            <a:endParaRPr b="0" lang="en-US" sz="3400" spc="-1" strike="noStrike">
              <a:solidFill>
                <a:srgbClr val="000000"/>
              </a:solidFill>
              <a:latin typeface="Bradley Hand ITC TT-Bold"/>
            </a:endParaRPr>
          </a:p>
          <a:p>
            <a:pPr marL="863640" indent="-647640">
              <a:lnSpc>
                <a:spcPct val="100000"/>
              </a:lnSpc>
              <a:spcBef>
                <a:spcPts val="1613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Rounded MT Bold"/>
                <a:ea typeface="Lucida Grande"/>
              </a:rPr>
              <a:t>(3) Неформальные встречи</a:t>
            </a:r>
            <a:endParaRPr b="0" lang="en-US" sz="34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494000" indent="-648000">
              <a:lnSpc>
                <a:spcPct val="100000"/>
              </a:lnSpc>
              <a:spcBef>
                <a:spcPts val="1613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Лучше всего подходят для лоббирования</a:t>
            </a:r>
            <a:endParaRPr b="0" lang="en-US" sz="34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  <a:ea typeface="Lucida Grande"/>
              </a:rPr>
              <a:t>Как организовать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64764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йдите контактное лицо, которое занимается вашим вопросом;</a:t>
            </a:r>
            <a:endParaRPr b="0" lang="en-US" sz="3600" spc="-1" strike="noStrike">
              <a:solidFill>
                <a:srgbClr val="000000"/>
              </a:solidFill>
              <a:latin typeface="Bradley Hand ITC TT-Bold"/>
            </a:endParaRPr>
          </a:p>
          <a:p>
            <a:pPr marL="863640" indent="-647640">
              <a:lnSpc>
                <a:spcPct val="100000"/>
              </a:lnSpc>
              <a:spcBef>
                <a:spcPts val="1738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звоните или при необходимости напишите отдельный запрос на встречу;</a:t>
            </a:r>
            <a:endParaRPr b="0" lang="en-US" sz="3600" spc="-1" strike="noStrike">
              <a:solidFill>
                <a:srgbClr val="000000"/>
              </a:solidFill>
              <a:latin typeface="Bradley Hand ITC TT-Bold"/>
            </a:endParaRPr>
          </a:p>
          <a:p>
            <a:pPr marL="863640" indent="-647640">
              <a:lnSpc>
                <a:spcPct val="100000"/>
              </a:lnSpc>
              <a:spcBef>
                <a:spcPts val="1738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едставьтесь кто Вы, какую организацию представляете, почему хотите встретиться;</a:t>
            </a:r>
            <a:endParaRPr b="0" lang="en-US" sz="3600" spc="-1" strike="noStrike">
              <a:solidFill>
                <a:srgbClr val="000000"/>
              </a:solidFill>
              <a:latin typeface="Bradley Hand ITC TT-Bold"/>
            </a:endParaRPr>
          </a:p>
          <a:p>
            <a:pPr marL="863640" indent="-647640">
              <a:lnSpc>
                <a:spcPct val="100000"/>
              </a:lnSpc>
              <a:spcBef>
                <a:spcPts val="1738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оговаривайтесь о встрече зараннее;</a:t>
            </a:r>
            <a:endParaRPr b="0" lang="en-US" sz="36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  <a:ea typeface="Lucida Grande"/>
              </a:rPr>
              <a:t>Перед встречей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70080" y="3124080"/>
            <a:ext cx="1111248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9000"/>
          </a:bodyPr>
          <a:p>
            <a:pPr marL="855000" indent="-64116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знайте основную информацию по вопросу заранее, соберите факты и аргументы;</a:t>
            </a:r>
            <a:endParaRPr b="0" lang="en-US" sz="3400" spc="-1" strike="noStrike">
              <a:solidFill>
                <a:srgbClr val="000000"/>
              </a:solidFill>
              <a:latin typeface="Bradley Hand ITC TT-Bold"/>
            </a:endParaRPr>
          </a:p>
          <a:p>
            <a:pPr marL="855000" indent="-641160">
              <a:lnSpc>
                <a:spcPct val="100000"/>
              </a:lnSpc>
              <a:spcBef>
                <a:spcPts val="1613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думайте что Вы хотите от принимающего решения – подготовьте и представьте конкретные требования, а не только жалобы и претензии;</a:t>
            </a:r>
            <a:endParaRPr b="0" lang="en-US" sz="3400" spc="-1" strike="noStrike">
              <a:solidFill>
                <a:srgbClr val="000000"/>
              </a:solidFill>
              <a:latin typeface="Bradley Hand ITC TT-Bold"/>
            </a:endParaRPr>
          </a:p>
          <a:p>
            <a:pPr marL="855000" indent="-641160">
              <a:lnSpc>
                <a:spcPct val="100000"/>
              </a:lnSpc>
              <a:spcBef>
                <a:spcPts val="1613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гда думаете про требования - поставьте себя на место чиновника и сформулируйте так, чтобы было понятно что именно чиновник может сделать.</a:t>
            </a:r>
            <a:endParaRPr b="0" lang="en-US" sz="34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  <a:ea typeface="Lucida Grande"/>
              </a:rPr>
              <a:t>Перед встречей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99920" y="2921040"/>
            <a:ext cx="11760120" cy="612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64764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Четко определите цель своего визита; </a:t>
            </a:r>
            <a:endParaRPr b="0" lang="en-US" sz="2600" spc="-1" strike="noStrike">
              <a:solidFill>
                <a:srgbClr val="000000"/>
              </a:solidFill>
              <a:latin typeface="Bradley Hand ITC TT-Bold"/>
            </a:endParaRPr>
          </a:p>
          <a:p>
            <a:pPr marL="863640" indent="-647640">
              <a:lnSpc>
                <a:spcPct val="100000"/>
              </a:lnSpc>
              <a:spcBef>
                <a:spcPts val="1276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оставьте план встречи: представление себя и организации, список вопросов, описание проблемы, предложения;</a:t>
            </a:r>
            <a:endParaRPr b="0" lang="en-US" sz="2600" spc="-1" strike="noStrike">
              <a:solidFill>
                <a:srgbClr val="000000"/>
              </a:solidFill>
              <a:latin typeface="Bradley Hand ITC TT-Bold"/>
            </a:endParaRPr>
          </a:p>
          <a:p>
            <a:pPr marL="863640" indent="-647640">
              <a:lnSpc>
                <a:spcPct val="100000"/>
              </a:lnSpc>
              <a:spcBef>
                <a:spcPts val="1276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дготовьте презентацию или другую визуальную информацию. Очень хорошо иметь вашу позицию оформленную на бумаге.</a:t>
            </a:r>
            <a:endParaRPr b="0" lang="en-US" sz="2600" spc="-1" strike="noStrike">
              <a:solidFill>
                <a:srgbClr val="000000"/>
              </a:solidFill>
              <a:latin typeface="Bradley Hand ITC TT-Bold"/>
            </a:endParaRPr>
          </a:p>
          <a:p>
            <a:pPr marL="863640" indent="-647640">
              <a:lnSpc>
                <a:spcPct val="100000"/>
              </a:lnSpc>
              <a:spcBef>
                <a:spcPts val="1276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концентрируйтесь на главных моментах, не вдавайтесь в мелкие подробности;</a:t>
            </a:r>
            <a:endParaRPr b="0" lang="en-US" sz="2600" spc="-1" strike="noStrike">
              <a:solidFill>
                <a:srgbClr val="000000"/>
              </a:solidFill>
              <a:latin typeface="Bradley Hand ITC TT-Bold"/>
            </a:endParaRPr>
          </a:p>
          <a:p>
            <a:pPr marL="863640" indent="-647640">
              <a:lnSpc>
                <a:spcPct val="100000"/>
              </a:lnSpc>
              <a:spcBef>
                <a:spcPts val="1276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Информация с места всегда более интересна чем общие рассуждения;</a:t>
            </a:r>
            <a:endParaRPr b="0" lang="en-US" sz="2600" spc="-1" strike="noStrike">
              <a:solidFill>
                <a:srgbClr val="000000"/>
              </a:solidFill>
              <a:latin typeface="Bradley Hand ITC TT-Bold"/>
            </a:endParaRPr>
          </a:p>
          <a:p>
            <a:pPr marL="863640" indent="-647640">
              <a:lnSpc>
                <a:spcPct val="100000"/>
              </a:lnSpc>
              <a:spcBef>
                <a:spcPts val="1276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сли вас несколько - выберите ведущего встречи (фасилитатора);</a:t>
            </a:r>
            <a:endParaRPr b="0" lang="en-US" sz="2600" spc="-1" strike="noStrike">
              <a:solidFill>
                <a:srgbClr val="000000"/>
              </a:solidFill>
              <a:latin typeface="Bradley Hand ITC TT-Bold"/>
            </a:endParaRPr>
          </a:p>
          <a:p>
            <a:pPr marL="863640" indent="-647640">
              <a:lnSpc>
                <a:spcPct val="100000"/>
              </a:lnSpc>
              <a:spcBef>
                <a:spcPts val="1276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равильно подбирайте одежду</a:t>
            </a:r>
            <a:endParaRPr b="0" lang="en-US" sz="23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  <a:ea typeface="Lucida Grande"/>
              </a:rPr>
              <a:t>На встрече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25120" y="2984040"/>
            <a:ext cx="11277720" cy="617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64764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делайте вступление к встрече (включая основные поднимаемые темы), уточните сколько на разговор есть времени;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  <a:p>
            <a:pPr marL="863640" indent="-647640">
              <a:lnSpc>
                <a:spcPct val="100000"/>
              </a:lnSpc>
              <a:spcBef>
                <a:spcPts val="1012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тремитесь высказаться коротко и ясно, уважайте своих коллег, которым тоже необходимо высказаться;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  <a:p>
            <a:pPr marL="863640" indent="-647640">
              <a:lnSpc>
                <a:spcPct val="100000"/>
              </a:lnSpc>
              <a:spcBef>
                <a:spcPts val="1012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ежливо прерывайте слишком длинные выступления;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  <a:p>
            <a:pPr marL="863640" indent="-647640">
              <a:lnSpc>
                <a:spcPct val="100000"/>
              </a:lnSpc>
              <a:spcBef>
                <a:spcPts val="1012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нтролируйте время;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  <a:p>
            <a:pPr marL="863640" indent="-647640">
              <a:lnSpc>
                <a:spcPct val="100000"/>
              </a:lnSpc>
              <a:spcBef>
                <a:spcPts val="1012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ести встречу должен человек с опытом;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  <a:p>
            <a:pPr marL="863640" indent="-647640">
              <a:lnSpc>
                <a:spcPct val="100000"/>
              </a:lnSpc>
              <a:spcBef>
                <a:spcPts val="1012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ешите какие темы приоритетные, кто их поднимет и сколько времени потратит;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  <a:p>
            <a:pPr marL="863640" indent="-647640">
              <a:lnSpc>
                <a:spcPct val="100000"/>
              </a:lnSpc>
              <a:spcBef>
                <a:spcPts val="1012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тавьте время для дополнительных вопросов;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  <a:p>
            <a:pPr marL="863640" indent="-647640">
              <a:lnSpc>
                <a:spcPct val="100000"/>
              </a:lnSpc>
              <a:spcBef>
                <a:spcPts val="1012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оговоритесь о дальнейших действиях;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  <a:p>
            <a:pPr marL="863640" indent="-647640">
              <a:lnSpc>
                <a:spcPct val="100000"/>
              </a:lnSpc>
              <a:spcBef>
                <a:spcPts val="1012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Решите кто ведет протокол.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866600" y="1409760"/>
            <a:ext cx="9271080" cy="171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3b3b3e"/>
                </a:solidFill>
                <a:latin typeface="Stone Sans ITC TT-Semi"/>
                <a:ea typeface="Lucida Grande"/>
              </a:rPr>
              <a:t>На встрече</a:t>
            </a:r>
            <a:endParaRPr b="0" lang="en-US" sz="6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269720" y="3124080"/>
            <a:ext cx="10464840" cy="5664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64764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ачинайте разговор с приятных слов, будьте вежливы;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marL="863640" indent="-647640">
              <a:lnSpc>
                <a:spcPct val="100000"/>
              </a:lnSpc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Говорите четко, громко и уверенно;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marL="863640" indent="-647640">
              <a:lnSpc>
                <a:spcPct val="100000"/>
              </a:lnSpc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нимательно слушайте, не перебивайте;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marL="863640" indent="-647640">
              <a:lnSpc>
                <a:spcPct val="100000"/>
              </a:lnSpc>
              <a:spcBef>
                <a:spcPts val="1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икогда не удовлетворяйтесь ответом «Нет»;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marL="863640" indent="-647640">
              <a:lnSpc>
                <a:spcPct val="100000"/>
              </a:lnSpc>
              <a:spcBef>
                <a:spcPts val="13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 ставьте в неловкое положение в присутствии начальника или коллег;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marL="863640" indent="-647640">
              <a:lnSpc>
                <a:spcPct val="100000"/>
              </a:lnSpc>
              <a:spcBef>
                <a:spcPts val="13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елайте заметки во время встречи;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marL="863640" indent="-647640">
              <a:lnSpc>
                <a:spcPct val="100000"/>
              </a:lnSpc>
              <a:spcBef>
                <a:spcPts val="13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 конце разговора подведите итог сказанному, поблагодарите и пожмите руку.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