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10972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15920" y="5753520"/>
            <a:ext cx="10972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1015920" y="545760"/>
            <a:ext cx="10972800" cy="85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015920" y="575352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638760" y="575352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015920" y="5753520"/>
            <a:ext cx="10972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10972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1015920" y="5753520"/>
            <a:ext cx="10972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1015920" y="575352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6638760" y="575352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26080" y="276840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436240" y="276840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1015920" y="575352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4726080" y="575352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8436240" y="575352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15920" y="575352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8760" y="575352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1015920" y="2768400"/>
            <a:ext cx="109728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10972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1015920" y="545760"/>
            <a:ext cx="10972800" cy="85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015920" y="575352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638760" y="575352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015920" y="5753520"/>
            <a:ext cx="10972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10972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1015920" y="5753520"/>
            <a:ext cx="10972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1015920" y="575352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6638760" y="575352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6080" y="276840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436240" y="276840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15920" y="575352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726080" y="575352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436240" y="575352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726080" y="276840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8436240" y="276840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1015920" y="575352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4726080" y="575352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8436240" y="575352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015920" y="2768400"/>
            <a:ext cx="109728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10972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1015920" y="545760"/>
            <a:ext cx="10972800" cy="85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1015920" y="575352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638760" y="575352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1015920" y="5753520"/>
            <a:ext cx="10972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10972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1015920" y="5753520"/>
            <a:ext cx="10972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015920" y="575352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638760" y="575352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726080" y="276840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8436240" y="276840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1015920" y="575352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4726080" y="575352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8436240" y="575352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1015920" y="2768400"/>
            <a:ext cx="109728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10972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1015920" y="545760"/>
            <a:ext cx="10972800" cy="85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1015920" y="575352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15920" y="2768400"/>
            <a:ext cx="109728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638760" y="575352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015920" y="5753520"/>
            <a:ext cx="10972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10972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1015920" y="5753520"/>
            <a:ext cx="10972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015920" y="575352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6638760" y="575352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726080" y="276840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8436240" y="276840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1015920" y="575352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4726080" y="575352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8436240" y="575352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1015920" y="2768400"/>
            <a:ext cx="109728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10972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10972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1015920" y="545760"/>
            <a:ext cx="10972800" cy="85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015920" y="575352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638760" y="575352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1015920" y="5753520"/>
            <a:ext cx="10972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10972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1015920" y="5753520"/>
            <a:ext cx="10972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1015920" y="575352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6638760" y="575352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26080" y="276840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8436240" y="276840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1015920" y="575352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4726080" y="575352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8436240" y="575352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1015920" y="2768400"/>
            <a:ext cx="109728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10972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1015920" y="545760"/>
            <a:ext cx="10972800" cy="85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1015920" y="575352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638760" y="575352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1015920" y="5753520"/>
            <a:ext cx="10972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10972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1015920" y="5753520"/>
            <a:ext cx="10972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1015920" y="575352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6638760" y="575352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726080" y="276840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8436240" y="276840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1015920" y="575352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4726080" y="575352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8436240" y="575352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1015920" y="2768400"/>
            <a:ext cx="109728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10972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1015920" y="545760"/>
            <a:ext cx="10972800" cy="85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1015920" y="575352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638760" y="575352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1015920" y="5753520"/>
            <a:ext cx="10972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10972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1015920" y="5753520"/>
            <a:ext cx="10972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1015920" y="575352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6638760" y="575352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15920" y="545760"/>
            <a:ext cx="10972800" cy="85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726080" y="276840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8436240" y="276840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1015920" y="575352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4726080" y="575352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8436240" y="575352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15920" y="575352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15920" y="2768400"/>
            <a:ext cx="109728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8760" y="575352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15920" y="5753520"/>
            <a:ext cx="10972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10972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15920" y="5753520"/>
            <a:ext cx="10972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15920" y="575352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8760" y="575352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26080" y="276840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436240" y="276840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15920" y="575352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726080" y="575352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436240" y="575352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015920" y="2768400"/>
            <a:ext cx="109728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10972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10972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015920" y="545760"/>
            <a:ext cx="10972800" cy="85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015920" y="575352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38760" y="575352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015920" y="5753520"/>
            <a:ext cx="10972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10972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015920" y="5753520"/>
            <a:ext cx="10972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015920" y="575352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38760" y="575352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26080" y="276840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436240" y="276840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015920" y="575352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726080" y="575352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436240" y="575352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015920" y="2768400"/>
            <a:ext cx="109728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10972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1015920" y="545760"/>
            <a:ext cx="10972800" cy="85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015920" y="575352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638760" y="575352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015920" y="5753520"/>
            <a:ext cx="10972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10972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1015920" y="5753520"/>
            <a:ext cx="10972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15920" y="575352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638760" y="575352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26080" y="276840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436240" y="276840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1015920" y="575352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4726080" y="575352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8436240" y="575352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015920" y="2768400"/>
            <a:ext cx="109728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10972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1015920" y="545760"/>
            <a:ext cx="10972800" cy="85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015920" y="575352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638760" y="575352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015920" y="5753520"/>
            <a:ext cx="10972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10972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1015920" y="5753520"/>
            <a:ext cx="10972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015920" y="575352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6638760" y="575352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15920" y="545760"/>
            <a:ext cx="10972800" cy="85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26080" y="276840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8436240" y="276840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1015920" y="575352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4726080" y="575352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8436240" y="575352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015920" y="2768400"/>
            <a:ext cx="109728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10972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1015920" y="545760"/>
            <a:ext cx="10972800" cy="85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015920" y="575352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638760" y="575352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015920" y="5753520"/>
            <a:ext cx="10972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15920" y="575352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10972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1015920" y="5753520"/>
            <a:ext cx="10972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1015920" y="575352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638760" y="575352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26080" y="276840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436240" y="276840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1015920" y="575352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4726080" y="575352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8436240" y="575352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015920" y="2768400"/>
            <a:ext cx="109728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10972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015920" y="545760"/>
            <a:ext cx="10972800" cy="85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015920" y="575352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8760" y="575352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638760" y="575352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015920" y="5753520"/>
            <a:ext cx="10972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10972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1015920" y="5753520"/>
            <a:ext cx="10972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015920" y="575352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6638760" y="575352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726080" y="276840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436240" y="276840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1015920" y="575352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4726080" y="575352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8436240" y="575352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015920" y="2768400"/>
            <a:ext cx="109728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10972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15920" y="5753520"/>
            <a:ext cx="10972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1015920" y="545760"/>
            <a:ext cx="10972800" cy="85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015920" y="575352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638760" y="575352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015920" y="5753520"/>
            <a:ext cx="10972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10972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1015920" y="5753520"/>
            <a:ext cx="10972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638760" y="276840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1015920" y="575352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6638760" y="5753520"/>
            <a:ext cx="5354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26080" y="276840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436240" y="276840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1015920" y="575352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4726080" y="575352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8436240" y="5753520"/>
            <a:ext cx="3533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1015920" y="2768400"/>
            <a:ext cx="109728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10972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5920" y="7353360"/>
            <a:ext cx="10972800" cy="1650960"/>
          </a:xfrm>
          <a:prstGeom prst="rect">
            <a:avLst/>
          </a:prstGeom>
          <a:noFill/>
          <a:ln w="0">
            <a:noFill/>
          </a:ln>
          <a:effectLst>
            <a:outerShdw dist="25455" dir="13500000" blurRad="0" rotWithShape="0">
              <a:srgbClr val="333333">
                <a:alpha val="5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500" spc="-1" strike="noStrike">
                <a:solidFill>
                  <a:srgbClr val="ffffff"/>
                </a:solidFill>
                <a:latin typeface="Cochin"/>
              </a:rPr>
              <a:t>Click to edit the title text format</a:t>
            </a:r>
            <a:endParaRPr b="0" lang="en-US" sz="10500" spc="-1" strike="noStrike">
              <a:solidFill>
                <a:srgbClr val="ffffff"/>
              </a:solidFill>
              <a:latin typeface="Cochi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chin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ochin"/>
            </a:endParaRPr>
          </a:p>
          <a:p>
            <a:pPr lvl="1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bef"/>
                </a:solidFill>
                <a:latin typeface="Copperplate"/>
              </a:rPr>
              <a:t>Second Outline Level</a:t>
            </a:r>
            <a:endParaRPr b="0" lang="en-US" sz="3600" spc="-1" strike="noStrike">
              <a:solidFill>
                <a:srgbClr val="fffbef"/>
              </a:solidFill>
              <a:latin typeface="Copperplate"/>
            </a:endParaRPr>
          </a:p>
          <a:p>
            <a:pPr lvl="2" algn="ctr">
              <a:buClr>
                <a:srgbClr val="fffbef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bef"/>
                </a:solidFill>
                <a:latin typeface="Copperplate"/>
              </a:rPr>
              <a:t>Third Outline Level</a:t>
            </a:r>
            <a:endParaRPr b="0" lang="en-US" sz="3600" spc="-1" strike="noStrike">
              <a:solidFill>
                <a:srgbClr val="fffbef"/>
              </a:solidFill>
              <a:latin typeface="Copperplate"/>
            </a:endParaRPr>
          </a:p>
          <a:p>
            <a:pPr lvl="3" algn="ctr">
              <a:buClr>
                <a:srgbClr val="fffbef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bef"/>
                </a:solidFill>
                <a:latin typeface="Copperplate"/>
              </a:rPr>
              <a:t>Fourth Outline Level</a:t>
            </a:r>
            <a:endParaRPr b="0" lang="en-US" sz="3600" spc="-1" strike="noStrike">
              <a:solidFill>
                <a:srgbClr val="fffbef"/>
              </a:solidFill>
              <a:latin typeface="Copperplate"/>
            </a:endParaRPr>
          </a:p>
          <a:p>
            <a:pPr lvl="4" algn="ctr">
              <a:buClr>
                <a:srgbClr val="fffbef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bef"/>
                </a:solidFill>
                <a:latin typeface="Copperplate"/>
              </a:rPr>
              <a:t>Fifth Outline Level</a:t>
            </a:r>
            <a:endParaRPr b="0" lang="en-US" sz="3600" spc="-1" strike="noStrike">
              <a:solidFill>
                <a:srgbClr val="fffbef"/>
              </a:solidFill>
              <a:latin typeface="Copperplate"/>
            </a:endParaRPr>
          </a:p>
          <a:p>
            <a:pPr lvl="5">
              <a:spcBef>
                <a:spcPts val="901"/>
              </a:spcBef>
              <a:buClr>
                <a:srgbClr val="636567"/>
              </a:buClr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bef"/>
                </a:solidFill>
                <a:latin typeface="Copperplate"/>
              </a:rPr>
              <a:t>Sixth Outline Level</a:t>
            </a:r>
            <a:endParaRPr b="0" lang="en-US" sz="3600" spc="-1" strike="noStrike">
              <a:solidFill>
                <a:srgbClr val="fffbef"/>
              </a:solidFill>
              <a:latin typeface="Copperplate"/>
            </a:endParaRPr>
          </a:p>
          <a:p>
            <a:pPr lvl="6">
              <a:spcBef>
                <a:spcPts val="901"/>
              </a:spcBef>
              <a:buClr>
                <a:srgbClr val="636567"/>
              </a:buClr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bef"/>
                </a:solidFill>
                <a:latin typeface="Copperplate"/>
              </a:rPr>
              <a:t>Seventh Outline Level</a:t>
            </a:r>
            <a:endParaRPr b="0" lang="en-US" sz="3600" spc="-1" strike="noStrike">
              <a:solidFill>
                <a:srgbClr val="fffbef"/>
              </a:solidFill>
              <a:latin typeface="Copperpla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"/>
          <p:cNvGrpSpPr/>
          <p:nvPr/>
        </p:nvGrpSpPr>
        <p:grpSpPr>
          <a:xfrm>
            <a:off x="977760" y="444600"/>
            <a:ext cx="11138040" cy="8610480"/>
            <a:chOff x="977760" y="444600"/>
            <a:chExt cx="11138040" cy="8610480"/>
          </a:xfrm>
        </p:grpSpPr>
        <p:sp>
          <p:nvSpPr>
            <p:cNvPr id="377" name=""/>
            <p:cNvSpPr/>
            <p:nvPr/>
          </p:nvSpPr>
          <p:spPr>
            <a:xfrm>
              <a:off x="1282680" y="800280"/>
              <a:ext cx="10477440" cy="789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636567"/>
                </a:solidFill>
                <a:latin typeface="Cochin"/>
              </a:endParaRPr>
            </a:p>
          </p:txBody>
        </p:sp>
        <p:pic>
          <p:nvPicPr>
            <p:cNvPr id="378" name="" descr=""/>
            <p:cNvPicPr/>
            <p:nvPr/>
          </p:nvPicPr>
          <p:blipFill>
            <a:blip r:embed="rId3"/>
            <a:stretch/>
          </p:blipFill>
          <p:spPr>
            <a:xfrm>
              <a:off x="977760" y="444600"/>
              <a:ext cx="11138040" cy="861048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5" name=""/>
          <p:cNvGrpSpPr/>
          <p:nvPr/>
        </p:nvGrpSpPr>
        <p:grpSpPr>
          <a:xfrm>
            <a:off x="977760" y="444600"/>
            <a:ext cx="11138040" cy="8610480"/>
            <a:chOff x="977760" y="444600"/>
            <a:chExt cx="11138040" cy="8610480"/>
          </a:xfrm>
        </p:grpSpPr>
        <p:sp>
          <p:nvSpPr>
            <p:cNvPr id="416" name=""/>
            <p:cNvSpPr/>
            <p:nvPr/>
          </p:nvSpPr>
          <p:spPr>
            <a:xfrm>
              <a:off x="1282680" y="800280"/>
              <a:ext cx="10477440" cy="789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636567"/>
                </a:solidFill>
                <a:latin typeface="Cochin"/>
              </a:endParaRPr>
            </a:p>
          </p:txBody>
        </p:sp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977760" y="444600"/>
              <a:ext cx="11138040" cy="861048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body"/>
          </p:nvPr>
        </p:nvSpPr>
        <p:spPr>
          <a:xfrm>
            <a:off x="1015920" y="1270080"/>
            <a:ext cx="109728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441720" indent="-441720">
              <a:spcBef>
                <a:spcPts val="4799"/>
              </a:spcBef>
              <a:buClr>
                <a:srgbClr val="aba79f"/>
              </a:buClr>
              <a:buSzPct val="50000"/>
              <a:buFont typeface="Zapf Dingbats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36567"/>
                </a:solidFill>
                <a:latin typeface="Cochin"/>
              </a:rPr>
              <a:t>Click to edit the outline text format</a:t>
            </a: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  <a:p>
            <a:pPr lvl="1" marL="1060560" indent="-441720">
              <a:spcBef>
                <a:spcPts val="4799"/>
              </a:spcBef>
              <a:buClr>
                <a:srgbClr val="aba79f"/>
              </a:buClr>
              <a:buSzPct val="50000"/>
              <a:buFont typeface="Zapf Dingbats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36567"/>
                </a:solidFill>
                <a:latin typeface="Cochin"/>
              </a:rPr>
              <a:t>Second Outline Level</a:t>
            </a: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  <a:p>
            <a:pPr lvl="2" marL="1447200" indent="-441720">
              <a:spcBef>
                <a:spcPts val="4799"/>
              </a:spcBef>
              <a:buClr>
                <a:srgbClr val="aba79f"/>
              </a:buClr>
              <a:buSzPct val="50000"/>
              <a:buFont typeface="Zapf Dingbats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36567"/>
                </a:solidFill>
                <a:latin typeface="Cochin"/>
              </a:rPr>
              <a:t>Third Outline Level</a:t>
            </a: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  <a:p>
            <a:pPr lvl="3" marL="1833840" indent="-441720">
              <a:spcBef>
                <a:spcPts val="4799"/>
              </a:spcBef>
              <a:buClr>
                <a:srgbClr val="aba79f"/>
              </a:buClr>
              <a:buSzPct val="50000"/>
              <a:buFont typeface="Zapf Dingbats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36567"/>
                </a:solidFill>
                <a:latin typeface="Cochin"/>
              </a:rPr>
              <a:t>Fourth Outline Level</a:t>
            </a: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  <a:p>
            <a:pPr lvl="4" marL="2220840" indent="-441720">
              <a:spcBef>
                <a:spcPts val="4799"/>
              </a:spcBef>
              <a:buClr>
                <a:srgbClr val="aba79f"/>
              </a:buClr>
              <a:buSzPct val="50000"/>
              <a:buFont typeface="Zapf Dingbats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36567"/>
                </a:solidFill>
                <a:latin typeface="Cochin"/>
              </a:rPr>
              <a:t>Fifth Outline Level</a:t>
            </a: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  <a:p>
            <a:pPr lvl="5" marL="2220840" indent="-441720">
              <a:spcBef>
                <a:spcPts val="4799"/>
              </a:spcBef>
              <a:buClr>
                <a:srgbClr val="636567"/>
              </a:buClr>
              <a:buSzPct val="50000"/>
              <a:buFont typeface="Zapf Dingbats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36567"/>
                </a:solidFill>
                <a:latin typeface="Cochin"/>
              </a:rPr>
              <a:t>Sixth Outline Level</a:t>
            </a: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  <a:p>
            <a:pPr lvl="6" marL="2220840" indent="-441720">
              <a:spcBef>
                <a:spcPts val="4799"/>
              </a:spcBef>
              <a:buClr>
                <a:srgbClr val="636567"/>
              </a:buClr>
              <a:buSzPct val="50000"/>
              <a:buFont typeface="Zapf Dingbats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36567"/>
                </a:solidFill>
                <a:latin typeface="Cochin"/>
              </a:rPr>
              <a:t>Seventh Outline Level</a:t>
            </a: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636567"/>
                </a:solidFill>
                <a:latin typeface="Cochin"/>
              </a:rPr>
              <a:t>Click to edit the title text format</a:t>
            </a: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1015920" y="2768400"/>
            <a:ext cx="10972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marL="441720" indent="-441720">
              <a:spcBef>
                <a:spcPts val="3399"/>
              </a:spcBef>
              <a:buClr>
                <a:srgbClr val="aba79f"/>
              </a:buClr>
              <a:buSzPct val="50000"/>
              <a:buFont typeface="Zapf Dingbats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36567"/>
                </a:solidFill>
                <a:latin typeface="Cochin"/>
              </a:rPr>
              <a:t>Click to edit the outline text format</a:t>
            </a:r>
            <a:endParaRPr b="0" lang="en-US" sz="3600" spc="-1" strike="noStrike">
              <a:solidFill>
                <a:srgbClr val="636567"/>
              </a:solidFill>
              <a:latin typeface="Cochin"/>
            </a:endParaRPr>
          </a:p>
          <a:p>
            <a:pPr lvl="1" marL="1060560" indent="-441720">
              <a:spcBef>
                <a:spcPts val="3399"/>
              </a:spcBef>
              <a:buClr>
                <a:srgbClr val="aba79f"/>
              </a:buClr>
              <a:buSzPct val="50000"/>
              <a:buFont typeface="Zapf Dingbats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36567"/>
                </a:solidFill>
                <a:latin typeface="Cochin"/>
              </a:rPr>
              <a:t>Second Outline Level</a:t>
            </a:r>
            <a:endParaRPr b="0" lang="en-US" sz="3600" spc="-1" strike="noStrike">
              <a:solidFill>
                <a:srgbClr val="636567"/>
              </a:solidFill>
              <a:latin typeface="Cochin"/>
            </a:endParaRPr>
          </a:p>
          <a:p>
            <a:pPr lvl="2" marL="1447200" indent="-441720">
              <a:spcBef>
                <a:spcPts val="3399"/>
              </a:spcBef>
              <a:buClr>
                <a:srgbClr val="aba79f"/>
              </a:buClr>
              <a:buSzPct val="50000"/>
              <a:buFont typeface="Zapf Dingbats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36567"/>
                </a:solidFill>
                <a:latin typeface="Cochin"/>
              </a:rPr>
              <a:t>Third Outline Level</a:t>
            </a:r>
            <a:endParaRPr b="0" lang="en-US" sz="3600" spc="-1" strike="noStrike">
              <a:solidFill>
                <a:srgbClr val="636567"/>
              </a:solidFill>
              <a:latin typeface="Cochin"/>
            </a:endParaRPr>
          </a:p>
          <a:p>
            <a:pPr lvl="3" marL="1833840" indent="-441720">
              <a:spcBef>
                <a:spcPts val="3399"/>
              </a:spcBef>
              <a:buClr>
                <a:srgbClr val="aba79f"/>
              </a:buClr>
              <a:buSzPct val="50000"/>
              <a:buFont typeface="Zapf Dingbats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36567"/>
                </a:solidFill>
                <a:latin typeface="Cochin"/>
              </a:rPr>
              <a:t>Fourth Outline Level</a:t>
            </a:r>
            <a:endParaRPr b="0" lang="en-US" sz="3600" spc="-1" strike="noStrike">
              <a:solidFill>
                <a:srgbClr val="636567"/>
              </a:solidFill>
              <a:latin typeface="Cochin"/>
            </a:endParaRPr>
          </a:p>
          <a:p>
            <a:pPr lvl="4" marL="2220840" indent="-441720">
              <a:spcBef>
                <a:spcPts val="3399"/>
              </a:spcBef>
              <a:buClr>
                <a:srgbClr val="aba79f"/>
              </a:buClr>
              <a:buSzPct val="50000"/>
              <a:buFont typeface="Zapf Dingbats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36567"/>
                </a:solidFill>
                <a:latin typeface="Cochin"/>
              </a:rPr>
              <a:t>Fifth Outline Level</a:t>
            </a:r>
            <a:endParaRPr b="0" lang="en-US" sz="3600" spc="-1" strike="noStrike">
              <a:solidFill>
                <a:srgbClr val="636567"/>
              </a:solidFill>
              <a:latin typeface="Cochin"/>
            </a:endParaRPr>
          </a:p>
          <a:p>
            <a:pPr lvl="5" marL="2220840" indent="-441720">
              <a:spcBef>
                <a:spcPts val="3399"/>
              </a:spcBef>
              <a:buClr>
                <a:srgbClr val="636567"/>
              </a:buClr>
              <a:buSzPct val="50000"/>
              <a:buFont typeface="Zapf Dingbats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36567"/>
                </a:solidFill>
                <a:latin typeface="Cochin"/>
              </a:rPr>
              <a:t>Sixth Outline Level</a:t>
            </a:r>
            <a:endParaRPr b="0" lang="en-US" sz="3600" spc="-1" strike="noStrike">
              <a:solidFill>
                <a:srgbClr val="636567"/>
              </a:solidFill>
              <a:latin typeface="Cochin"/>
            </a:endParaRPr>
          </a:p>
          <a:p>
            <a:pPr lvl="6" marL="2220840" indent="-441720">
              <a:spcBef>
                <a:spcPts val="3399"/>
              </a:spcBef>
              <a:buClr>
                <a:srgbClr val="636567"/>
              </a:buClr>
              <a:buSzPct val="50000"/>
              <a:buFont typeface="Zapf Dingbats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36567"/>
                </a:solidFill>
                <a:latin typeface="Cochin"/>
              </a:rPr>
              <a:t>Seventh Outline Level</a:t>
            </a:r>
            <a:endParaRPr b="0" lang="en-US" sz="36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636567"/>
                </a:solidFill>
                <a:latin typeface="Cochin"/>
              </a:rPr>
              <a:t>Click to edit the title text format</a:t>
            </a: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15920" y="2768400"/>
            <a:ext cx="10972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451800" indent="-451800">
              <a:spcBef>
                <a:spcPts val="2401"/>
              </a:spcBef>
              <a:buClr>
                <a:srgbClr val="aba79f"/>
              </a:buClr>
              <a:buSzPct val="50000"/>
              <a:buFont typeface="Zapf Dingbats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36567"/>
                </a:solidFill>
                <a:latin typeface="Cochin"/>
              </a:rPr>
              <a:t>Click to edit the outline text format</a:t>
            </a: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  <a:p>
            <a:pPr lvl="1" marL="1085040" indent="-451800">
              <a:spcBef>
                <a:spcPts val="2401"/>
              </a:spcBef>
              <a:buClr>
                <a:srgbClr val="aba79f"/>
              </a:buClr>
              <a:buSzPct val="50000"/>
              <a:buFont typeface="Zapf Dingbats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36567"/>
                </a:solidFill>
                <a:latin typeface="Cochin"/>
              </a:rPr>
              <a:t>Second Outline Level</a:t>
            </a: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  <a:p>
            <a:pPr lvl="2" marL="1480320" indent="-451800">
              <a:spcBef>
                <a:spcPts val="2401"/>
              </a:spcBef>
              <a:buClr>
                <a:srgbClr val="aba79f"/>
              </a:buClr>
              <a:buSzPct val="50000"/>
              <a:buFont typeface="Zapf Dingbats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36567"/>
                </a:solidFill>
                <a:latin typeface="Cochin"/>
              </a:rPr>
              <a:t>Third Outline Level</a:t>
            </a: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  <a:p>
            <a:pPr lvl="3" marL="1875960" indent="-451800">
              <a:spcBef>
                <a:spcPts val="2401"/>
              </a:spcBef>
              <a:buClr>
                <a:srgbClr val="aba79f"/>
              </a:buClr>
              <a:buSzPct val="50000"/>
              <a:buFont typeface="Zapf Dingbats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36567"/>
                </a:solidFill>
                <a:latin typeface="Cochin"/>
              </a:rPr>
              <a:t>Fourth Outline Level</a:t>
            </a: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  <a:p>
            <a:pPr lvl="4" marL="2271600" indent="-451800">
              <a:spcBef>
                <a:spcPts val="2401"/>
              </a:spcBef>
              <a:buClr>
                <a:srgbClr val="aba79f"/>
              </a:buClr>
              <a:buSzPct val="50000"/>
              <a:buFont typeface="Zapf Dingbats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36567"/>
                </a:solidFill>
                <a:latin typeface="Cochin"/>
              </a:rPr>
              <a:t>Fifth Outline Level</a:t>
            </a: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  <a:p>
            <a:pPr lvl="5" marL="2271600" indent="-451800">
              <a:spcBef>
                <a:spcPts val="2401"/>
              </a:spcBef>
              <a:buClr>
                <a:srgbClr val="636567"/>
              </a:buClr>
              <a:buSzPct val="50000"/>
              <a:buFont typeface="Zapf Dingbats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36567"/>
                </a:solidFill>
                <a:latin typeface="Cochin"/>
              </a:rPr>
              <a:t>Sixth Outline Level</a:t>
            </a: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  <a:p>
            <a:pPr lvl="6" marL="2271600" indent="-451800">
              <a:spcBef>
                <a:spcPts val="2401"/>
              </a:spcBef>
              <a:buClr>
                <a:srgbClr val="636567"/>
              </a:buClr>
              <a:buSzPct val="50000"/>
              <a:buFont typeface="Zapf Dingbats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36567"/>
                </a:solidFill>
                <a:latin typeface="Cochin"/>
              </a:rPr>
              <a:t>Seventh Outline Level</a:t>
            </a: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636567"/>
                </a:solidFill>
                <a:latin typeface="Cochin"/>
              </a:rPr>
              <a:t>Click to edit the title text format</a:t>
            </a: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1015920" y="2768400"/>
            <a:ext cx="54864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9000"/>
          </a:bodyPr>
          <a:p>
            <a:pPr marL="401040" indent="-401040">
              <a:spcBef>
                <a:spcPts val="3801"/>
              </a:spcBef>
              <a:buClr>
                <a:srgbClr val="aba79f"/>
              </a:buClr>
              <a:buSzPct val="50000"/>
              <a:buFont typeface="Zapf Dingbats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636567"/>
                </a:solidFill>
                <a:latin typeface="Cochin"/>
              </a:rPr>
              <a:t>Click to edit the outline text format</a:t>
            </a:r>
            <a:endParaRPr b="0" lang="en-US" sz="3300" spc="-1" strike="noStrike">
              <a:solidFill>
                <a:srgbClr val="636567"/>
              </a:solidFill>
              <a:latin typeface="Cochin"/>
            </a:endParaRPr>
          </a:p>
          <a:p>
            <a:pPr lvl="1" marL="963000" indent="-401040">
              <a:spcBef>
                <a:spcPts val="3801"/>
              </a:spcBef>
              <a:buClr>
                <a:srgbClr val="aba79f"/>
              </a:buClr>
              <a:buSzPct val="50000"/>
              <a:buFont typeface="Zapf Dingbats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636567"/>
                </a:solidFill>
                <a:latin typeface="Cochin"/>
              </a:rPr>
              <a:t>Second Outline Level</a:t>
            </a:r>
            <a:endParaRPr b="0" lang="en-US" sz="3300" spc="-1" strike="noStrike">
              <a:solidFill>
                <a:srgbClr val="636567"/>
              </a:solidFill>
              <a:latin typeface="Cochin"/>
            </a:endParaRPr>
          </a:p>
          <a:p>
            <a:pPr lvl="2" marL="1314000" indent="-401040">
              <a:spcBef>
                <a:spcPts val="3801"/>
              </a:spcBef>
              <a:buClr>
                <a:srgbClr val="aba79f"/>
              </a:buClr>
              <a:buSzPct val="50000"/>
              <a:buFont typeface="Zapf Dingbats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636567"/>
                </a:solidFill>
                <a:latin typeface="Cochin"/>
              </a:rPr>
              <a:t>Third Outline Level</a:t>
            </a:r>
            <a:endParaRPr b="0" lang="en-US" sz="3300" spc="-1" strike="noStrike">
              <a:solidFill>
                <a:srgbClr val="636567"/>
              </a:solidFill>
              <a:latin typeface="Cochin"/>
            </a:endParaRPr>
          </a:p>
          <a:p>
            <a:pPr lvl="3" marL="1665360" indent="-401040">
              <a:spcBef>
                <a:spcPts val="3801"/>
              </a:spcBef>
              <a:buClr>
                <a:srgbClr val="aba79f"/>
              </a:buClr>
              <a:buSzPct val="50000"/>
              <a:buFont typeface="Zapf Dingbats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636567"/>
                </a:solidFill>
                <a:latin typeface="Cochin"/>
              </a:rPr>
              <a:t>Fourth Outline Level</a:t>
            </a:r>
            <a:endParaRPr b="0" lang="en-US" sz="3300" spc="-1" strike="noStrike">
              <a:solidFill>
                <a:srgbClr val="636567"/>
              </a:solidFill>
              <a:latin typeface="Cochin"/>
            </a:endParaRPr>
          </a:p>
          <a:p>
            <a:pPr lvl="4" marL="2016360" indent="-401040">
              <a:spcBef>
                <a:spcPts val="3801"/>
              </a:spcBef>
              <a:buClr>
                <a:srgbClr val="aba79f"/>
              </a:buClr>
              <a:buSzPct val="50000"/>
              <a:buFont typeface="Zapf Dingbats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636567"/>
                </a:solidFill>
                <a:latin typeface="Cochin"/>
              </a:rPr>
              <a:t>Fifth Outline Level</a:t>
            </a:r>
            <a:endParaRPr b="0" lang="en-US" sz="3300" spc="-1" strike="noStrike">
              <a:solidFill>
                <a:srgbClr val="636567"/>
              </a:solidFill>
              <a:latin typeface="Cochin"/>
            </a:endParaRPr>
          </a:p>
          <a:p>
            <a:pPr lvl="5" marL="2016360" indent="-401040">
              <a:spcBef>
                <a:spcPts val="3801"/>
              </a:spcBef>
              <a:buClr>
                <a:srgbClr val="636567"/>
              </a:buClr>
              <a:buSzPct val="50000"/>
              <a:buFont typeface="Zapf Dingbats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636567"/>
                </a:solidFill>
                <a:latin typeface="Cochin"/>
              </a:rPr>
              <a:t>Sixth Outline Level</a:t>
            </a:r>
            <a:endParaRPr b="0" lang="en-US" sz="3300" spc="-1" strike="noStrike">
              <a:solidFill>
                <a:srgbClr val="636567"/>
              </a:solidFill>
              <a:latin typeface="Cochin"/>
            </a:endParaRPr>
          </a:p>
          <a:p>
            <a:pPr lvl="6" marL="2016360" indent="-401040">
              <a:spcBef>
                <a:spcPts val="3801"/>
              </a:spcBef>
              <a:buClr>
                <a:srgbClr val="636567"/>
              </a:buClr>
              <a:buSzPct val="50000"/>
              <a:buFont typeface="Zapf Dingbats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636567"/>
                </a:solidFill>
                <a:latin typeface="Cochin"/>
              </a:rPr>
              <a:t>Seventh Outline Level</a:t>
            </a:r>
            <a:endParaRPr b="0" lang="en-US" sz="33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636567"/>
                </a:solidFill>
                <a:latin typeface="Cochin"/>
              </a:rPr>
              <a:t>Click to edit the title text format</a:t>
            </a: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797600" y="2768400"/>
            <a:ext cx="41907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6000"/>
          </a:bodyPr>
          <a:p>
            <a:pPr marL="335160" indent="-335160">
              <a:spcBef>
                <a:spcPts val="3801"/>
              </a:spcBef>
              <a:buClr>
                <a:srgbClr val="aba79f"/>
              </a:buClr>
              <a:buSzPct val="50000"/>
              <a:buFont typeface="Zapf Dingbats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636567"/>
                </a:solidFill>
                <a:latin typeface="Cochin"/>
              </a:rPr>
              <a:t>Click to edit the outline text format</a:t>
            </a:r>
            <a:endParaRPr b="0" lang="en-US" sz="3300" spc="-1" strike="noStrike">
              <a:solidFill>
                <a:srgbClr val="636567"/>
              </a:solidFill>
              <a:latin typeface="Cochin"/>
            </a:endParaRPr>
          </a:p>
          <a:p>
            <a:pPr lvl="1" marL="804600" indent="-335160">
              <a:spcBef>
                <a:spcPts val="3801"/>
              </a:spcBef>
              <a:buClr>
                <a:srgbClr val="aba79f"/>
              </a:buClr>
              <a:buSzPct val="50000"/>
              <a:buFont typeface="Zapf Dingbats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636567"/>
                </a:solidFill>
                <a:latin typeface="Cochin"/>
              </a:rPr>
              <a:t>Second Outline Level</a:t>
            </a:r>
            <a:endParaRPr b="0" lang="en-US" sz="3300" spc="-1" strike="noStrike">
              <a:solidFill>
                <a:srgbClr val="636567"/>
              </a:solidFill>
              <a:latin typeface="Cochin"/>
            </a:endParaRPr>
          </a:p>
          <a:p>
            <a:pPr lvl="2" marL="1097640" indent="-335160">
              <a:spcBef>
                <a:spcPts val="3801"/>
              </a:spcBef>
              <a:buClr>
                <a:srgbClr val="aba79f"/>
              </a:buClr>
              <a:buSzPct val="50000"/>
              <a:buFont typeface="Zapf Dingbats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636567"/>
                </a:solidFill>
                <a:latin typeface="Cochin"/>
              </a:rPr>
              <a:t>Third Outline Level</a:t>
            </a:r>
            <a:endParaRPr b="0" lang="en-US" sz="3300" spc="-1" strike="noStrike">
              <a:solidFill>
                <a:srgbClr val="636567"/>
              </a:solidFill>
              <a:latin typeface="Cochin"/>
            </a:endParaRPr>
          </a:p>
          <a:p>
            <a:pPr lvl="3" marL="1391040" indent="-335160">
              <a:spcBef>
                <a:spcPts val="3801"/>
              </a:spcBef>
              <a:buClr>
                <a:srgbClr val="aba79f"/>
              </a:buClr>
              <a:buSzPct val="50000"/>
              <a:buFont typeface="Zapf Dingbats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636567"/>
                </a:solidFill>
                <a:latin typeface="Cochin"/>
              </a:rPr>
              <a:t>Fourth Outline Level</a:t>
            </a:r>
            <a:endParaRPr b="0" lang="en-US" sz="3300" spc="-1" strike="noStrike">
              <a:solidFill>
                <a:srgbClr val="636567"/>
              </a:solidFill>
              <a:latin typeface="Cochin"/>
            </a:endParaRPr>
          </a:p>
          <a:p>
            <a:pPr lvl="4" marL="1684800" indent="-335160">
              <a:spcBef>
                <a:spcPts val="3801"/>
              </a:spcBef>
              <a:buClr>
                <a:srgbClr val="aba79f"/>
              </a:buClr>
              <a:buSzPct val="50000"/>
              <a:buFont typeface="Zapf Dingbats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636567"/>
                </a:solidFill>
                <a:latin typeface="Cochin"/>
              </a:rPr>
              <a:t>Fifth Outline Level</a:t>
            </a:r>
            <a:endParaRPr b="0" lang="en-US" sz="3300" spc="-1" strike="noStrike">
              <a:solidFill>
                <a:srgbClr val="636567"/>
              </a:solidFill>
              <a:latin typeface="Cochin"/>
            </a:endParaRPr>
          </a:p>
          <a:p>
            <a:pPr lvl="5" marL="1684800" indent="-335160">
              <a:spcBef>
                <a:spcPts val="3801"/>
              </a:spcBef>
              <a:buClr>
                <a:srgbClr val="636567"/>
              </a:buClr>
              <a:buSzPct val="50000"/>
              <a:buFont typeface="Zapf Dingbats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636567"/>
                </a:solidFill>
                <a:latin typeface="Cochin"/>
              </a:rPr>
              <a:t>Sixth Outline Level</a:t>
            </a:r>
            <a:endParaRPr b="0" lang="en-US" sz="3300" spc="-1" strike="noStrike">
              <a:solidFill>
                <a:srgbClr val="636567"/>
              </a:solidFill>
              <a:latin typeface="Cochin"/>
            </a:endParaRPr>
          </a:p>
          <a:p>
            <a:pPr lvl="6" marL="1684800" indent="-335160">
              <a:spcBef>
                <a:spcPts val="3801"/>
              </a:spcBef>
              <a:buClr>
                <a:srgbClr val="636567"/>
              </a:buClr>
              <a:buSzPct val="50000"/>
              <a:buFont typeface="Zapf Dingbats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636567"/>
                </a:solidFill>
                <a:latin typeface="Cochin"/>
              </a:rPr>
              <a:t>Seventh Outline Level</a:t>
            </a:r>
            <a:endParaRPr b="0" lang="en-US" sz="33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636567"/>
                </a:solidFill>
                <a:latin typeface="Cochin"/>
              </a:rPr>
              <a:t>Click to edit the title text format</a:t>
            </a: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15920" y="3263400"/>
            <a:ext cx="10972800" cy="3225960"/>
          </a:xfrm>
          <a:prstGeom prst="rect">
            <a:avLst/>
          </a:prstGeom>
          <a:noFill/>
          <a:ln w="0">
            <a:noFill/>
          </a:ln>
          <a:effectLst>
            <a:outerShdw dist="25455" dir="13500000" blurRad="0" rotWithShape="0">
              <a:srgbClr val="333333">
                <a:alpha val="5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500" spc="-1" strike="noStrike">
                <a:solidFill>
                  <a:srgbClr val="ffffff"/>
                </a:solidFill>
                <a:latin typeface="Cochin"/>
              </a:rPr>
              <a:t>Click to edit the title text format</a:t>
            </a:r>
            <a:endParaRPr b="0" lang="en-US" sz="10500" spc="-1" strike="noStrike">
              <a:solidFill>
                <a:srgbClr val="ffffff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15920" y="2031480"/>
            <a:ext cx="10972800" cy="3225960"/>
          </a:xfrm>
          <a:prstGeom prst="rect">
            <a:avLst/>
          </a:prstGeom>
          <a:noFill/>
          <a:ln w="0">
            <a:noFill/>
          </a:ln>
          <a:effectLst>
            <a:outerShdw dist="25455" dir="13500000" blurRad="0" rotWithShape="0">
              <a:srgbClr val="333333">
                <a:alpha val="50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500" spc="-1" strike="noStrike">
                <a:solidFill>
                  <a:srgbClr val="ffffff"/>
                </a:solidFill>
                <a:latin typeface="Cochin"/>
              </a:rPr>
              <a:t>Click to edit the title text format</a:t>
            </a:r>
            <a:endParaRPr b="0" lang="en-US" sz="10500" spc="-1" strike="noStrike">
              <a:solidFill>
                <a:srgbClr val="ffffff"/>
              </a:solidFill>
              <a:latin typeface="Cochi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1015920" y="5359320"/>
            <a:ext cx="10972800" cy="1473120"/>
          </a:xfrm>
          <a:prstGeom prst="rect">
            <a:avLst/>
          </a:prstGeom>
          <a:noFill/>
          <a:ln w="0">
            <a:noFill/>
          </a:ln>
          <a:effectLst>
            <a:outerShdw dist="25455" dir="13500000" blurRad="0" rotWithShape="0">
              <a:srgbClr val="333333">
                <a:alpha val="50000"/>
              </a:srgbClr>
            </a:outerShdw>
          </a:effectLst>
        </p:spPr>
        <p:txBody>
          <a:bodyPr lIns="50760" rIns="50760" tIns="50760" bIns="50760" anchor="t">
            <a:normAutofit fontScale="3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chin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Cochin"/>
            </a:endParaRPr>
          </a:p>
          <a:p>
            <a:pPr lvl="1" algn="ctr">
              <a:buClr>
                <a:srgbClr val="ffffff"/>
              </a:buClr>
              <a:buFont typeface="Cochi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chin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Cochin"/>
            </a:endParaRPr>
          </a:p>
          <a:p>
            <a:pPr lvl="2" algn="ctr">
              <a:buClr>
                <a:srgbClr val="ffffff"/>
              </a:buClr>
              <a:buFont typeface="Cochi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chin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Cochin"/>
            </a:endParaRPr>
          </a:p>
          <a:p>
            <a:pPr lvl="3" algn="ctr">
              <a:buClr>
                <a:srgbClr val="ffffff"/>
              </a:buClr>
              <a:buFont typeface="Cochi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chin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Cochin"/>
            </a:endParaRPr>
          </a:p>
          <a:p>
            <a:pPr lvl="4" algn="ctr">
              <a:buClr>
                <a:srgbClr val="ffffff"/>
              </a:buClr>
              <a:buFont typeface="Cochi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chin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Cochin"/>
            </a:endParaRPr>
          </a:p>
          <a:p>
            <a:pPr lvl="5" algn="ctr">
              <a:buClr>
                <a:srgbClr val="636567"/>
              </a:buClr>
              <a:buFont typeface="Cochi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chin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Cochin"/>
            </a:endParaRPr>
          </a:p>
          <a:p>
            <a:pPr lvl="6" algn="ctr">
              <a:buClr>
                <a:srgbClr val="636567"/>
              </a:buClr>
              <a:buFont typeface="Cochi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chin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636567"/>
                </a:solidFill>
                <a:latin typeface="Cochin"/>
              </a:rPr>
              <a:t>Click to edit the title text format</a:t>
            </a: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1015920" y="2768400"/>
            <a:ext cx="54864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9000"/>
          </a:bodyPr>
          <a:p>
            <a:pPr marL="401040" indent="-401040">
              <a:spcBef>
                <a:spcPts val="3801"/>
              </a:spcBef>
              <a:buClr>
                <a:srgbClr val="aba79f"/>
              </a:buClr>
              <a:buSzPct val="50000"/>
              <a:buFont typeface="Zapf Dingbats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636567"/>
                </a:solidFill>
                <a:latin typeface="Cochin"/>
              </a:rPr>
              <a:t>Click to edit the outline text format</a:t>
            </a:r>
            <a:endParaRPr b="0" lang="en-US" sz="3300" spc="-1" strike="noStrike">
              <a:solidFill>
                <a:srgbClr val="636567"/>
              </a:solidFill>
              <a:latin typeface="Cochin"/>
            </a:endParaRPr>
          </a:p>
          <a:p>
            <a:pPr lvl="1" marL="963000" indent="-401040">
              <a:spcBef>
                <a:spcPts val="3801"/>
              </a:spcBef>
              <a:buClr>
                <a:srgbClr val="aba79f"/>
              </a:buClr>
              <a:buSzPct val="50000"/>
              <a:buFont typeface="Zapf Dingbats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636567"/>
                </a:solidFill>
                <a:latin typeface="Cochin"/>
              </a:rPr>
              <a:t>Second Outline Level</a:t>
            </a:r>
            <a:endParaRPr b="0" lang="en-US" sz="3300" spc="-1" strike="noStrike">
              <a:solidFill>
                <a:srgbClr val="636567"/>
              </a:solidFill>
              <a:latin typeface="Cochin"/>
            </a:endParaRPr>
          </a:p>
          <a:p>
            <a:pPr lvl="2" marL="1314000" indent="-401040">
              <a:spcBef>
                <a:spcPts val="3801"/>
              </a:spcBef>
              <a:buClr>
                <a:srgbClr val="aba79f"/>
              </a:buClr>
              <a:buSzPct val="50000"/>
              <a:buFont typeface="Zapf Dingbats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636567"/>
                </a:solidFill>
                <a:latin typeface="Cochin"/>
              </a:rPr>
              <a:t>Third Outline Level</a:t>
            </a:r>
            <a:endParaRPr b="0" lang="en-US" sz="3300" spc="-1" strike="noStrike">
              <a:solidFill>
                <a:srgbClr val="636567"/>
              </a:solidFill>
              <a:latin typeface="Cochin"/>
            </a:endParaRPr>
          </a:p>
          <a:p>
            <a:pPr lvl="3" marL="1665360" indent="-401040">
              <a:spcBef>
                <a:spcPts val="3801"/>
              </a:spcBef>
              <a:buClr>
                <a:srgbClr val="aba79f"/>
              </a:buClr>
              <a:buSzPct val="50000"/>
              <a:buFont typeface="Zapf Dingbats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636567"/>
                </a:solidFill>
                <a:latin typeface="Cochin"/>
              </a:rPr>
              <a:t>Fourth Outline Level</a:t>
            </a:r>
            <a:endParaRPr b="0" lang="en-US" sz="3300" spc="-1" strike="noStrike">
              <a:solidFill>
                <a:srgbClr val="636567"/>
              </a:solidFill>
              <a:latin typeface="Cochin"/>
            </a:endParaRPr>
          </a:p>
          <a:p>
            <a:pPr lvl="4" marL="2016360" indent="-401040">
              <a:spcBef>
                <a:spcPts val="3801"/>
              </a:spcBef>
              <a:buClr>
                <a:srgbClr val="aba79f"/>
              </a:buClr>
              <a:buSzPct val="50000"/>
              <a:buFont typeface="Zapf Dingbats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636567"/>
                </a:solidFill>
                <a:latin typeface="Cochin"/>
              </a:rPr>
              <a:t>Fifth Outline Level</a:t>
            </a:r>
            <a:endParaRPr b="0" lang="en-US" sz="3300" spc="-1" strike="noStrike">
              <a:solidFill>
                <a:srgbClr val="636567"/>
              </a:solidFill>
              <a:latin typeface="Cochin"/>
            </a:endParaRPr>
          </a:p>
          <a:p>
            <a:pPr lvl="5" marL="2016360" indent="-401040">
              <a:spcBef>
                <a:spcPts val="3801"/>
              </a:spcBef>
              <a:buClr>
                <a:srgbClr val="636567"/>
              </a:buClr>
              <a:buSzPct val="50000"/>
              <a:buFont typeface="Zapf Dingbats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636567"/>
                </a:solidFill>
                <a:latin typeface="Cochin"/>
              </a:rPr>
              <a:t>Sixth Outline Level</a:t>
            </a:r>
            <a:endParaRPr b="0" lang="en-US" sz="3300" spc="-1" strike="noStrike">
              <a:solidFill>
                <a:srgbClr val="636567"/>
              </a:solidFill>
              <a:latin typeface="Cochin"/>
            </a:endParaRPr>
          </a:p>
          <a:p>
            <a:pPr lvl="6" marL="2016360" indent="-401040">
              <a:spcBef>
                <a:spcPts val="3801"/>
              </a:spcBef>
              <a:buClr>
                <a:srgbClr val="636567"/>
              </a:buClr>
              <a:buSzPct val="50000"/>
              <a:buFont typeface="Zapf Dingbats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636567"/>
                </a:solidFill>
                <a:latin typeface="Cochin"/>
              </a:rPr>
              <a:t>Seventh Outline Level</a:t>
            </a:r>
            <a:endParaRPr b="0" lang="en-US" sz="33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7600" y="1396800"/>
            <a:ext cx="5969160" cy="3708360"/>
          </a:xfrm>
          <a:prstGeom prst="rect">
            <a:avLst/>
          </a:prstGeom>
          <a:noFill/>
          <a:ln w="0">
            <a:noFill/>
          </a:ln>
          <a:effectLst>
            <a:outerShdw dist="25455" dir="13500000" blurRad="0" rotWithShape="0">
              <a:srgbClr val="333333">
                <a:alpha val="50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chin"/>
              </a:rPr>
              <a:t>Click to edit the title text format</a:t>
            </a:r>
            <a:endParaRPr b="0" lang="en-US" sz="8000" spc="-1" strike="noStrike">
              <a:solidFill>
                <a:srgbClr val="ffffff"/>
              </a:solidFill>
              <a:latin typeface="Cochi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507600" y="5219640"/>
            <a:ext cx="5969160" cy="3238560"/>
          </a:xfrm>
          <a:prstGeom prst="rect">
            <a:avLst/>
          </a:prstGeom>
          <a:noFill/>
          <a:ln w="0">
            <a:noFill/>
          </a:ln>
          <a:effectLst>
            <a:outerShdw dist="25455" dir="13500000" blurRad="0" rotWithShape="0">
              <a:srgbClr val="333333">
                <a:alpha val="50000"/>
              </a:srgbClr>
            </a:outerShdw>
          </a:effectLst>
        </p:spPr>
        <p:txBody>
          <a:bodyPr lIns="50760" rIns="50760" tIns="50760" bIns="50760" anchor="t">
            <a:normAutofit fontScale="78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chin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ochin"/>
            </a:endParaRPr>
          </a:p>
          <a:p>
            <a:pPr lvl="1" algn="ctr">
              <a:buClr>
                <a:srgbClr val="ffffff"/>
              </a:buClr>
              <a:buFont typeface="Cochi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chin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ochin"/>
            </a:endParaRPr>
          </a:p>
          <a:p>
            <a:pPr lvl="2" algn="ctr">
              <a:buClr>
                <a:srgbClr val="ffffff"/>
              </a:buClr>
              <a:buFont typeface="Cochi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chin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ochin"/>
            </a:endParaRPr>
          </a:p>
          <a:p>
            <a:pPr lvl="3" algn="ctr">
              <a:buClr>
                <a:srgbClr val="ffffff"/>
              </a:buClr>
              <a:buFont typeface="Cochi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chin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ochin"/>
            </a:endParaRPr>
          </a:p>
          <a:p>
            <a:pPr lvl="4" algn="ctr">
              <a:buClr>
                <a:srgbClr val="ffffff"/>
              </a:buClr>
              <a:buFont typeface="Cochi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chin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ochin"/>
            </a:endParaRPr>
          </a:p>
          <a:p>
            <a:pPr lvl="5" algn="ctr">
              <a:buClr>
                <a:srgbClr val="636567"/>
              </a:buClr>
              <a:buFont typeface="Cochi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chin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ochin"/>
            </a:endParaRPr>
          </a:p>
          <a:p>
            <a:pPr lvl="6" algn="ctr">
              <a:buClr>
                <a:srgbClr val="636567"/>
              </a:buClr>
              <a:buFont typeface="Cochi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chin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"/>
          <p:cNvGrpSpPr/>
          <p:nvPr/>
        </p:nvGrpSpPr>
        <p:grpSpPr>
          <a:xfrm>
            <a:off x="1803240" y="1523880"/>
            <a:ext cx="10121760" cy="7302600"/>
            <a:chOff x="1803240" y="1523880"/>
            <a:chExt cx="10121760" cy="7302600"/>
          </a:xfrm>
        </p:grpSpPr>
        <p:pic>
          <p:nvPicPr>
            <p:cNvPr id="566" name="" descr=""/>
            <p:cNvPicPr/>
            <p:nvPr/>
          </p:nvPicPr>
          <p:blipFill>
            <a:blip r:embed="rId2"/>
            <a:srcRect l="7903" t="0" r="7962" b="0"/>
            <a:stretch/>
          </p:blipFill>
          <p:spPr>
            <a:xfrm>
              <a:off x="2108160" y="1879560"/>
              <a:ext cx="9461520" cy="659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7" name="" descr=""/>
            <p:cNvPicPr/>
            <p:nvPr/>
          </p:nvPicPr>
          <p:blipFill>
            <a:blip r:embed="rId3"/>
            <a:stretch/>
          </p:blipFill>
          <p:spPr>
            <a:xfrm>
              <a:off x="1803240" y="1523880"/>
              <a:ext cx="10121760" cy="7302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12880" y="127080"/>
            <a:ext cx="10972800" cy="1587600"/>
          </a:xfrm>
          <a:prstGeom prst="rect">
            <a:avLst/>
          </a:prstGeom>
          <a:noFill/>
          <a:ln w="0">
            <a:noFill/>
          </a:ln>
          <a:effectLst>
            <a:outerShdw dist="25455" dir="13500000" blurRad="0" rotWithShape="0">
              <a:srgbClr val="333333">
                <a:alpha val="5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Cochin"/>
              </a:rPr>
              <a:t>Построение сети НПО</a:t>
            </a:r>
            <a:endParaRPr b="0" lang="en-US" sz="8400" spc="-1" strike="noStrike">
              <a:solidFill>
                <a:srgbClr val="ffffff"/>
              </a:solidFill>
              <a:latin typeface="Cochin"/>
            </a:endParaRPr>
          </a:p>
        </p:txBody>
      </p:sp>
      <p:sp>
        <p:nvSpPr>
          <p:cNvPr id="569" name=""/>
          <p:cNvSpPr/>
          <p:nvPr/>
        </p:nvSpPr>
        <p:spPr>
          <a:xfrm>
            <a:off x="2931840" y="8880840"/>
            <a:ext cx="71316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chin"/>
                <a:ea typeface="Cochin"/>
              </a:rPr>
              <a:t>Ставчук Ирина    Киев 2011</a:t>
            </a: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636567"/>
                </a:solidFill>
                <a:latin typeface="Cochin"/>
              </a:rPr>
              <a:t>Зачем нужны коалиции НПО?</a:t>
            </a:r>
            <a:endParaRPr b="0" lang="en-US" sz="6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11760120" cy="641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9000"/>
          </a:bodyPr>
          <a:p>
            <a:pPr marL="502560" indent="-502560">
              <a:lnSpc>
                <a:spcPct val="100000"/>
              </a:lnSpc>
              <a:buClr>
                <a:srgbClr val="aba79f"/>
              </a:buClr>
              <a:buSzPct val="50000"/>
              <a:buFont typeface="Zapf Dingbats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36567"/>
                </a:solidFill>
                <a:latin typeface="Cochin"/>
              </a:rPr>
              <a:t>Объединение усилий разных организаций - дает больше силы в лоббировании;</a:t>
            </a:r>
            <a:endParaRPr b="0" lang="en-US" sz="3800" spc="-1" strike="noStrike">
              <a:solidFill>
                <a:srgbClr val="636567"/>
              </a:solidFill>
              <a:latin typeface="Cochin"/>
            </a:endParaRPr>
          </a:p>
          <a:p>
            <a:pPr marL="502560" indent="-502560">
              <a:lnSpc>
                <a:spcPct val="100000"/>
              </a:lnSpc>
              <a:spcBef>
                <a:spcPts val="2174"/>
              </a:spcBef>
              <a:buClr>
                <a:srgbClr val="aba79f"/>
              </a:buClr>
              <a:buSzPct val="50000"/>
              <a:buFont typeface="Zapf Dingbats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36567"/>
                </a:solidFill>
                <a:latin typeface="Cochin"/>
              </a:rPr>
              <a:t>Обмен информацией между НПО;</a:t>
            </a:r>
            <a:endParaRPr b="0" lang="en-US" sz="4100" spc="-1" strike="noStrike">
              <a:solidFill>
                <a:srgbClr val="636567"/>
              </a:solidFill>
              <a:latin typeface="Cochin"/>
            </a:endParaRPr>
          </a:p>
          <a:p>
            <a:pPr marL="502560" indent="-502560">
              <a:lnSpc>
                <a:spcPct val="100000"/>
              </a:lnSpc>
              <a:spcBef>
                <a:spcPts val="2174"/>
              </a:spcBef>
              <a:buClr>
                <a:srgbClr val="aba79f"/>
              </a:buClr>
              <a:buSzPct val="50000"/>
              <a:buFont typeface="Zapf Dingbats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36567"/>
                </a:solidFill>
                <a:latin typeface="Cochin"/>
              </a:rPr>
              <a:t>Формирование общих позиций и обращений;</a:t>
            </a:r>
            <a:endParaRPr b="0" lang="en-US" sz="3800" spc="-1" strike="noStrike">
              <a:solidFill>
                <a:srgbClr val="636567"/>
              </a:solidFill>
              <a:latin typeface="Cochin"/>
            </a:endParaRPr>
          </a:p>
          <a:p>
            <a:pPr marL="502560" indent="-502560">
              <a:lnSpc>
                <a:spcPct val="100000"/>
              </a:lnSpc>
              <a:spcBef>
                <a:spcPts val="2174"/>
              </a:spcBef>
              <a:buClr>
                <a:srgbClr val="aba79f"/>
              </a:buClr>
              <a:buSzPct val="50000"/>
              <a:buFont typeface="Zapf Dingbats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36567"/>
                </a:solidFill>
                <a:latin typeface="Cochin"/>
              </a:rPr>
              <a:t>Разделение задач между организациями для более эффективной работы;</a:t>
            </a:r>
            <a:endParaRPr b="0" lang="en-US" sz="3800" spc="-1" strike="noStrike">
              <a:solidFill>
                <a:srgbClr val="636567"/>
              </a:solidFill>
              <a:latin typeface="Cochin"/>
            </a:endParaRPr>
          </a:p>
          <a:p>
            <a:pPr marL="502560" indent="-502560">
              <a:lnSpc>
                <a:spcPct val="100000"/>
              </a:lnSpc>
              <a:spcBef>
                <a:spcPts val="2174"/>
              </a:spcBef>
              <a:buClr>
                <a:srgbClr val="aba79f"/>
              </a:buClr>
              <a:buSzPct val="50000"/>
              <a:buFont typeface="Zapf Dingbats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36567"/>
                </a:solidFill>
                <a:latin typeface="Cochin"/>
              </a:rPr>
              <a:t>Важно, чтобы все организации понимали долгосрочные цели сети и почему они в нее входят</a:t>
            </a:r>
            <a:endParaRPr b="0" lang="en-US" sz="38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636567"/>
                </a:solidFill>
                <a:latin typeface="Cochin"/>
              </a:rPr>
              <a:t>Формы общения</a:t>
            </a: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015920" y="2768400"/>
            <a:ext cx="10972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07960" indent="-507960">
              <a:lnSpc>
                <a:spcPct val="100000"/>
              </a:lnSpc>
              <a:spcBef>
                <a:spcPts val="2401"/>
              </a:spcBef>
              <a:buClr>
                <a:srgbClr val="aba79f"/>
              </a:buClr>
              <a:buSzPct val="50000"/>
              <a:buFont typeface="Zapf Dingbats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36567"/>
                </a:solidFill>
                <a:latin typeface="Cochin"/>
              </a:rPr>
              <a:t>Электронная рассылка;</a:t>
            </a: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  <a:p>
            <a:pPr marL="507960" indent="-507960">
              <a:lnSpc>
                <a:spcPct val="100000"/>
              </a:lnSpc>
              <a:spcBef>
                <a:spcPts val="2401"/>
              </a:spcBef>
              <a:buClr>
                <a:srgbClr val="aba79f"/>
              </a:buClr>
              <a:buSzPct val="50000"/>
              <a:buFont typeface="Zapf Dingbats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36567"/>
                </a:solidFill>
                <a:latin typeface="Cochin"/>
              </a:rPr>
              <a:t>Регулярные встречи (обмен информацией, планирование работы, формирование позиций, мотивация);</a:t>
            </a:r>
            <a:endParaRPr b="0" lang="en-US" sz="42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12520" y="444240"/>
            <a:ext cx="115822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636567"/>
                </a:solidFill>
                <a:latin typeface="Cochin"/>
              </a:rPr>
              <a:t>Формальные или неформальные?</a:t>
            </a:r>
            <a:endParaRPr b="0" lang="en-US" sz="61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736200" y="2184120"/>
            <a:ext cx="5079960" cy="687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lnSpc>
                <a:spcPct val="100000"/>
              </a:lnSpc>
              <a:buClr>
                <a:srgbClr val="aba79f"/>
              </a:buClr>
              <a:buSzPct val="50000"/>
              <a:buFont typeface="Zapf Dingbats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36567"/>
                </a:solidFill>
                <a:latin typeface="Cochin"/>
              </a:rPr>
              <a:t>Плюсы:</a:t>
            </a:r>
            <a:endParaRPr b="0" lang="en-US" sz="3200" spc="-1" strike="noStrike">
              <a:solidFill>
                <a:srgbClr val="636567"/>
              </a:solidFill>
              <a:latin typeface="Cochin"/>
            </a:endParaRPr>
          </a:p>
          <a:p>
            <a:pPr marL="472320" indent="-472320">
              <a:lnSpc>
                <a:spcPct val="100000"/>
              </a:lnSpc>
              <a:spcBef>
                <a:spcPts val="3674"/>
              </a:spcBef>
              <a:buClr>
                <a:srgbClr val="aba79f"/>
              </a:buClr>
              <a:buSzPct val="50000"/>
              <a:buFont typeface="Zapf Dingbats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6567"/>
                </a:solidFill>
                <a:latin typeface="Cochin"/>
              </a:rPr>
              <a:t>Формализованный процесс принятия решений;</a:t>
            </a:r>
            <a:endParaRPr b="0" lang="en-US" sz="3200" spc="-1" strike="noStrike">
              <a:solidFill>
                <a:srgbClr val="636567"/>
              </a:solidFill>
              <a:latin typeface="Cochin"/>
            </a:endParaRPr>
          </a:p>
          <a:p>
            <a:pPr marL="472320" indent="-472320">
              <a:lnSpc>
                <a:spcPct val="100000"/>
              </a:lnSpc>
              <a:spcBef>
                <a:spcPts val="3674"/>
              </a:spcBef>
              <a:buClr>
                <a:srgbClr val="aba79f"/>
              </a:buClr>
              <a:buSzPct val="50000"/>
              <a:buFont typeface="Zapf Dingbats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6567"/>
                </a:solidFill>
                <a:latin typeface="Cochin"/>
              </a:rPr>
              <a:t>Наличие правил;</a:t>
            </a:r>
            <a:endParaRPr b="0" lang="en-US" sz="3200" spc="-1" strike="noStrike">
              <a:solidFill>
                <a:srgbClr val="636567"/>
              </a:solidFill>
              <a:latin typeface="Cochin"/>
            </a:endParaRPr>
          </a:p>
          <a:p>
            <a:pPr marL="472320" indent="-472320">
              <a:lnSpc>
                <a:spcPct val="100000"/>
              </a:lnSpc>
              <a:spcBef>
                <a:spcPts val="3674"/>
              </a:spcBef>
              <a:buClr>
                <a:srgbClr val="aba79f"/>
              </a:buClr>
              <a:buSzPct val="50000"/>
              <a:buFont typeface="Zapf Dingbats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6567"/>
                </a:solidFill>
                <a:latin typeface="Cochin"/>
              </a:rPr>
              <a:t>Ответственные за ведение группы;</a:t>
            </a:r>
            <a:endParaRPr b="0" lang="en-US" sz="3200" spc="-1" strike="noStrike">
              <a:solidFill>
                <a:srgbClr val="636567"/>
              </a:solidFill>
              <a:latin typeface="Cochin"/>
            </a:endParaRPr>
          </a:p>
          <a:p>
            <a:pPr marL="472320" indent="-472320">
              <a:lnSpc>
                <a:spcPct val="100000"/>
              </a:lnSpc>
              <a:spcBef>
                <a:spcPts val="3674"/>
              </a:spcBef>
              <a:buClr>
                <a:srgbClr val="aba79f"/>
              </a:buClr>
              <a:buSzPct val="50000"/>
              <a:buFont typeface="Zapf Dingbats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6567"/>
                </a:solidFill>
                <a:latin typeface="Cochin"/>
              </a:rPr>
              <a:t>Можно получать гранты, иметь представительство на встречах</a:t>
            </a:r>
            <a:endParaRPr b="0" lang="en-US" sz="32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576" name=""/>
          <p:cNvSpPr/>
          <p:nvPr/>
        </p:nvSpPr>
        <p:spPr>
          <a:xfrm>
            <a:off x="6718320" y="2222640"/>
            <a:ext cx="5079960" cy="61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07960" indent="-507960">
              <a:lnSpc>
                <a:spcPct val="100000"/>
              </a:lnSpc>
              <a:spcBef>
                <a:spcPts val="3801"/>
              </a:spcBef>
              <a:buClr>
                <a:srgbClr val="aba79f"/>
              </a:buClr>
              <a:buSzPct val="50000"/>
              <a:buFont typeface="Zapf Dingbats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636567"/>
                </a:solidFill>
                <a:latin typeface="Cochin"/>
                <a:ea typeface="Cochin"/>
              </a:rPr>
              <a:t>Минусы:</a:t>
            </a:r>
            <a:endParaRPr b="0" lang="en-US" sz="3300" spc="-1" strike="noStrike">
              <a:solidFill>
                <a:srgbClr val="636567"/>
              </a:solidFill>
              <a:latin typeface="Cochin"/>
            </a:endParaRPr>
          </a:p>
          <a:p>
            <a:pPr marL="507960" indent="-507960">
              <a:lnSpc>
                <a:spcPct val="100000"/>
              </a:lnSpc>
              <a:spcBef>
                <a:spcPts val="3801"/>
              </a:spcBef>
              <a:buClr>
                <a:srgbClr val="aba79f"/>
              </a:buClr>
              <a:buSzPct val="50000"/>
              <a:buFont typeface="Zapf Dingbats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636567"/>
                </a:solidFill>
                <a:latin typeface="Cochin"/>
                <a:ea typeface="Cochin"/>
              </a:rPr>
              <a:t>Возникновение конфликтов;</a:t>
            </a:r>
            <a:endParaRPr b="0" lang="en-US" sz="3300" spc="-1" strike="noStrike">
              <a:solidFill>
                <a:srgbClr val="636567"/>
              </a:solidFill>
              <a:latin typeface="Cochin"/>
            </a:endParaRPr>
          </a:p>
          <a:p>
            <a:pPr marL="507960" indent="-507960">
              <a:lnSpc>
                <a:spcPct val="100000"/>
              </a:lnSpc>
              <a:spcBef>
                <a:spcPts val="3801"/>
              </a:spcBef>
              <a:buClr>
                <a:srgbClr val="aba79f"/>
              </a:buClr>
              <a:buSzPct val="50000"/>
              <a:buFont typeface="Zapf Dingbats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636567"/>
                </a:solidFill>
                <a:latin typeface="Cochin"/>
                <a:ea typeface="Cochin"/>
              </a:rPr>
              <a:t>Необходимость выполнения ряда формальных процедур;</a:t>
            </a:r>
            <a:endParaRPr b="0" lang="en-US" sz="3300" spc="-1" strike="noStrike">
              <a:solidFill>
                <a:srgbClr val="636567"/>
              </a:solidFill>
              <a:latin typeface="Cochin"/>
            </a:endParaRPr>
          </a:p>
          <a:p>
            <a:pPr marL="507960" indent="-507960">
              <a:lnSpc>
                <a:spcPct val="100000"/>
              </a:lnSpc>
              <a:spcBef>
                <a:spcPts val="3801"/>
              </a:spcBef>
              <a:buClr>
                <a:srgbClr val="aba79f"/>
              </a:buClr>
              <a:buSzPct val="50000"/>
              <a:buFont typeface="Zapf Dingbats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636567"/>
                </a:solidFill>
                <a:latin typeface="Cochin"/>
                <a:ea typeface="Cochin"/>
              </a:rPr>
              <a:t>Меньшая инициативность групп, если они не в совете</a:t>
            </a:r>
            <a:endParaRPr b="0" lang="en-US" sz="33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636567"/>
                </a:solidFill>
                <a:latin typeface="Cochin"/>
              </a:rPr>
              <a:t>Важные аспекты</a:t>
            </a: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015920" y="2768760"/>
            <a:ext cx="10972800" cy="646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0000"/>
          </a:bodyPr>
          <a:p>
            <a:pPr marL="456840" indent="-456840">
              <a:lnSpc>
                <a:spcPct val="100000"/>
              </a:lnSpc>
              <a:buClr>
                <a:srgbClr val="aba79f"/>
              </a:buClr>
              <a:buSzPct val="50000"/>
              <a:buFont typeface="Zapf Dingbats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36567"/>
                </a:solidFill>
                <a:latin typeface="Cochin"/>
              </a:rPr>
              <a:t>Участники должны уважать решения группы;</a:t>
            </a:r>
            <a:endParaRPr b="0" lang="en-US" sz="3500" spc="-1" strike="noStrike">
              <a:solidFill>
                <a:srgbClr val="636567"/>
              </a:solidFill>
              <a:latin typeface="Cochin"/>
            </a:endParaRPr>
          </a:p>
          <a:p>
            <a:pPr marL="456840" indent="-456840">
              <a:lnSpc>
                <a:spcPct val="100000"/>
              </a:lnSpc>
              <a:spcBef>
                <a:spcPts val="2038"/>
              </a:spcBef>
              <a:buClr>
                <a:srgbClr val="aba79f"/>
              </a:buClr>
              <a:buSzPct val="50000"/>
              <a:buFont typeface="Zapf Dingbats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36567"/>
                </a:solidFill>
                <a:latin typeface="Cochin"/>
              </a:rPr>
              <a:t>Важно, чтобы была группа лидеров;</a:t>
            </a:r>
            <a:endParaRPr b="0" lang="en-US" sz="3500" spc="-1" strike="noStrike">
              <a:solidFill>
                <a:srgbClr val="636567"/>
              </a:solidFill>
              <a:latin typeface="Cochin"/>
            </a:endParaRPr>
          </a:p>
          <a:p>
            <a:pPr marL="456840" indent="-456840">
              <a:lnSpc>
                <a:spcPct val="100000"/>
              </a:lnSpc>
              <a:spcBef>
                <a:spcPts val="2038"/>
              </a:spcBef>
              <a:buClr>
                <a:srgbClr val="aba79f"/>
              </a:buClr>
              <a:buSzPct val="50000"/>
              <a:buFont typeface="Zapf Dingbats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636567"/>
                </a:solidFill>
                <a:latin typeface="Cochin"/>
              </a:rPr>
              <a:t>Все участники группы должны быть готовы что-то делать для сети;</a:t>
            </a:r>
            <a:endParaRPr b="0" lang="en-US" sz="3900" spc="-1" strike="noStrike">
              <a:solidFill>
                <a:srgbClr val="636567"/>
              </a:solidFill>
              <a:latin typeface="Cochin"/>
            </a:endParaRPr>
          </a:p>
          <a:p>
            <a:pPr marL="456840" indent="-456840">
              <a:lnSpc>
                <a:spcPct val="100000"/>
              </a:lnSpc>
              <a:spcBef>
                <a:spcPts val="2038"/>
              </a:spcBef>
              <a:buClr>
                <a:srgbClr val="aba79f"/>
              </a:buClr>
              <a:buSzPct val="50000"/>
              <a:buFont typeface="Zapf Dingbats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36567"/>
                </a:solidFill>
                <a:latin typeface="Cochin"/>
              </a:rPr>
              <a:t>поддержка финансами и человеческими ресурсами;</a:t>
            </a:r>
            <a:endParaRPr b="0" lang="en-US" sz="3500" spc="-1" strike="noStrike">
              <a:solidFill>
                <a:srgbClr val="636567"/>
              </a:solidFill>
              <a:latin typeface="Cochin"/>
            </a:endParaRPr>
          </a:p>
          <a:p>
            <a:pPr marL="456840" indent="-456840">
              <a:lnSpc>
                <a:spcPct val="100000"/>
              </a:lnSpc>
              <a:spcBef>
                <a:spcPts val="2038"/>
              </a:spcBef>
              <a:buClr>
                <a:srgbClr val="aba79f"/>
              </a:buClr>
              <a:buSzPct val="50000"/>
              <a:buFont typeface="Zapf Dingbats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36567"/>
                </a:solidFill>
                <a:latin typeface="Cochin"/>
              </a:rPr>
              <a:t>Участники должны делиться важной информацией;</a:t>
            </a:r>
            <a:endParaRPr b="0" lang="en-US" sz="3500" spc="-1" strike="noStrike">
              <a:solidFill>
                <a:srgbClr val="636567"/>
              </a:solidFill>
              <a:latin typeface="Cochin"/>
            </a:endParaRPr>
          </a:p>
          <a:p>
            <a:pPr marL="456840" indent="-456840">
              <a:lnSpc>
                <a:spcPct val="100000"/>
              </a:lnSpc>
              <a:spcBef>
                <a:spcPts val="2038"/>
              </a:spcBef>
              <a:buClr>
                <a:srgbClr val="aba79f"/>
              </a:buClr>
              <a:buSzPct val="50000"/>
              <a:buFont typeface="Zapf Dingbats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36567"/>
                </a:solidFill>
                <a:latin typeface="Cochin"/>
              </a:rPr>
              <a:t>Постепенное развитие сети;</a:t>
            </a:r>
            <a:endParaRPr b="0" lang="en-US" sz="3500" spc="-1" strike="noStrike">
              <a:solidFill>
                <a:srgbClr val="636567"/>
              </a:solidFill>
              <a:latin typeface="Cochin"/>
            </a:endParaRPr>
          </a:p>
          <a:p>
            <a:pPr marL="456840" indent="-456840">
              <a:lnSpc>
                <a:spcPct val="100000"/>
              </a:lnSpc>
              <a:spcBef>
                <a:spcPts val="2038"/>
              </a:spcBef>
              <a:buClr>
                <a:srgbClr val="aba79f"/>
              </a:buClr>
              <a:buSzPct val="50000"/>
              <a:buFont typeface="Zapf Dingbats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36567"/>
                </a:solidFill>
                <a:latin typeface="Cochin"/>
              </a:rPr>
              <a:t>Четкий процесс принятия решений.</a:t>
            </a:r>
            <a:endParaRPr b="0" lang="en-US" sz="35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015920" y="2603160"/>
            <a:ext cx="10972800" cy="4241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636567"/>
                </a:solidFill>
                <a:latin typeface="Cochin"/>
              </a:rPr>
              <a:t>Какие у вас возникают трудности при работе в сети?</a:t>
            </a:r>
            <a:endParaRPr b="0" lang="en-US" sz="8400" spc="-1" strike="noStrike">
              <a:solidFill>
                <a:srgbClr val="636567"/>
              </a:solidFill>
              <a:latin typeface="Cochi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