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BB7-E761-4DC8-A6C4-365E8F14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EE1-99C8-456D-88F5-5439CE3D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8BB-45C4-434A-A38B-392B80C5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6D4-004D-4934-AB56-BFB61C72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5E6A-2823-4BDA-9E3F-753D8FDD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84B9-06E7-4E25-A41C-A4F8101F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877C-F7B7-45C6-BF11-6A08E4F4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1A7E-AD7A-4408-943F-5D0DF23D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95D9-B87D-4502-BCBF-75675BD1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87FF-5D12-45EF-A42B-3AA5EBBB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061F-2926-44C6-9A8A-5BC4520F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EF2-4ABD-4D8A-80D7-438E50BB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D3D2-854F-4BB0-886C-E5F76B3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0927-546C-43DF-B7EA-ECA78CEE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97F6-147D-48BF-8AE2-CDB4056B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A2BE-5BA7-4652-A2F4-C43300E2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40BA-863E-4F2C-8DDA-AE41EA33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AB7BA-314E-4C2F-878E-47FF233F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2DCCD-3A24-4F7F-BBEA-C9A0F221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9A994-33F1-4910-A83A-9C6535F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FC1F0-28A0-4475-A809-54FC884B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90B75-61E1-4BCF-9426-856280BB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E06-1FDD-4C1D-9544-09D2A282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C564E-5974-4129-8509-B86A48EE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97929-517C-4571-B3BE-9BF8BC5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1A35F-42BF-4FA7-8445-1B318A5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FA8C7-50FC-4814-9FD5-8DCE800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2C832-E617-4298-88D5-ECAF1A30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7537C-2E1F-4EE6-B4F9-BB37277D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260F0-95F3-458E-8AB3-3BDD2BAF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3CAA-FD52-415D-AC57-D025E299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2F77-37C0-41B4-AC23-6A8F4D7A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C0D32-56AD-48A6-8C4B-5D19AA10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B22-6AF2-4200-BD71-AE06A9E9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D0C14-B662-4A0F-82F9-773B3C4C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038B-B735-4319-8056-6D35792B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88E6-6922-4C59-A623-2C9C5E77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D8A25-30E1-420A-9D65-D521FED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34AC6-50E0-488A-82D7-DBF6969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2F27-02A9-4F35-8EA8-1372C3E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A73A1-6620-4B4A-BE94-E0D84178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60B6-C9B5-422A-81A4-1F2D67C3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64FE-458D-4B46-B950-1C439423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60E-6139-4B02-8810-9801511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3F3-E48A-4B95-8D12-ED42F07C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1EC-258E-4E36-A9E4-BF45C493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EC5-A237-4DA3-B37E-1974F74F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14D-D506-4444-A001-5DBF9669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9ED3-0486-438C-9238-83C9E76225A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B762-087B-4C2F-9BD7-9B0D9642B80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1F16-C156-4A13-96E6-2A2EDB82FC9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C157-335F-48E3-8960-1230E86FAC6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Рычаги влияния НПО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ак НПО могут влиять на принятия  решений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иев, июль 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ычаги влияния НП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ямое общение с лицами принимающими реш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общественного мн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с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ждународные конвен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ждународные банки развития (ЕБРР, ЕИБ, АБР…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ждународные НП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ждународная прес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зне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авительства других стран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суждение  - приме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428840"/>
            <a:ext cx="4929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ланируется построить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 новых реактор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на Хмельницкой АЭС (Украин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блемы и услов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достройка на старых конструкциях 1980-их годов, но реакторов другой модел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очень дорого – нужен кредит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острая нехватка воды для работы АЭС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АЭС расположена недалеко от границ со странами подписавшими ЕСПОО конвенцию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необходимо проведение экологической экспертизы, вкл. консультации с общественностью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Picture 2" descr="C:\Documents and Settings\Iryna\ЛЭП\pics\the grid\Електростанції.gif"/>
          <p:cNvPicPr/>
          <p:nvPr/>
        </p:nvPicPr>
        <p:blipFill>
          <a:blip r:embed="rId1"/>
          <a:stretch/>
        </p:blipFill>
        <p:spPr>
          <a:xfrm>
            <a:off x="5072040" y="1714680"/>
            <a:ext cx="3895920" cy="2643120"/>
          </a:xfrm>
          <a:prstGeom prst="rect">
            <a:avLst/>
          </a:prstGeom>
          <a:ln w="0">
            <a:noFill/>
          </a:ln>
        </p:spPr>
      </p:pic>
      <p:sp>
        <p:nvSpPr>
          <p:cNvPr id="221" name="5-конечная звезда 5"/>
          <p:cNvSpPr/>
          <p:nvPr/>
        </p:nvSpPr>
        <p:spPr>
          <a:xfrm>
            <a:off x="6072120" y="2143080"/>
            <a:ext cx="285840" cy="28584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26:47Z</dcterms:created>
  <dc:creator>Dmytro</dc:creator>
  <dc:description/>
  <dc:language>en-US</dc:language>
  <cp:lastModifiedBy>Dmytro</cp:lastModifiedBy>
  <dcterms:modified xsi:type="dcterms:W3CDTF">2011-07-27T13:21:44Z</dcterms:modified>
  <cp:revision>15</cp:revision>
  <dc:subject/>
  <dc:title>Рычаги влияния НПО</dc:title>
</cp:coreProperties>
</file>