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A6BD-4091-4D0F-8F4B-1777FD641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0241-0F17-49EA-BE84-8D48046F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9ED-3823-40FF-8895-BBB4D006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2E78-E734-43D6-996B-822841D4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38F4-AE95-4F9F-9A5E-5C62E5A7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A25A-AB93-43AC-BFEB-ED871312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351D-534D-4EF4-988E-65E6CF10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DA3D8-2D39-4A5B-AD96-A55136DF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F2A5-5232-430A-8372-47A8832C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42F0-F01C-4E84-B665-BA98E748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3AD0-BA51-42AD-AEE7-D8587A0D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31C2-E999-48AF-BAD8-C1AA1817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A3EA-4107-40CC-BA3B-59D507AD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AB7D7-4D76-4B6C-B8E6-968CFE0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F4C7-B4AE-43BF-9805-5D180177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D3DF-B68A-4A5C-BA6B-B1501831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30B8-9492-46D6-9274-DECA840E2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0CE53-56A4-405F-9EB0-D710DF56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EA6C0-67DE-4C00-936F-2005BF7E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54D9B-1F58-4CF4-A6ED-055E68BE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F321E-76BC-4F22-987D-53CED366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FBEA4-A761-4A29-8C87-401D3212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C6D8-6CAC-4F3D-9C6A-1D6FCC69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0F8AE-7FC0-41F3-A693-673EE79A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1E09A-C62B-45DC-8D62-A8242B6A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43AC5-8097-4798-B476-6C090C2F6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F7DAB-9FA5-41F8-9D5F-042F3D43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1837A-7DD2-42AB-BD04-3A0627C2B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63CD0-6A70-48A0-A00E-39DC95565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E58AB-4976-4C01-916D-7D0329A9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187B-7FF0-46CD-A913-3FC4D955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87780-3F88-4BF4-AE79-6BB9808CA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BB253-6E46-4451-9B68-1476F469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3CE-B164-4778-A8B1-B042FC71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DAF35-8FAF-437B-B818-BC195F55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94935-D6C6-49A7-BA14-40EF147D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F12FE-002C-4AEB-87E9-78063A1B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D11F8-D276-410A-929D-92CD268C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ACDC-4F95-4189-9356-2B1CF74A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F650-422C-421F-8E59-1BB501B6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089E6-CB91-436E-8108-336843D2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2511E-ED4F-4F29-924C-68BCDE8B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0FC81-95C5-47CD-8602-1B6C5E3A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C6CE-D3DD-42BB-B415-79E9FB7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3560-8D01-4CCF-8BA6-8B4C6962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915-3A88-41F3-87DB-FF170D34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341-94F1-4D0B-9C32-AB6738B5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FEA-0388-442D-B406-8FC74F88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53F8-904B-443A-8326-3771C3BBDE8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07D47-C4F0-4302-AF41-7A3934CE41C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EEFB-B5FB-4687-B64A-06A3B7DC5F4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0356-93F8-43D6-810D-CB05B900DAB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Рычаги влияния НПО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ак НПО могут влиять на принятия  решений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иев, июль 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ычаги влияния НП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ямое общение с лицами принимающими реш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ормирование общественного мне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ес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ждународные конвен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ждународные банки развития (ЕБРР, ЕИБ, АБР…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ждународные НП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ждународная пресс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зне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авительства других стран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4996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бсуждение  - пример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0" y="1428840"/>
            <a:ext cx="49291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ланируется построить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 новых реактор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на Хмельницкой АЭС (Украина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облемы и условия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достройка на старых конструкциях 1980-их годов, но реакторов другой модел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очень дорого – нужен кредит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острая нехватка воды для работы АЭС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АЭС расположена недалеко от границ со странами подписавшими ЕСПОО конвенцию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необходимо проведение экологической экспертизы, вкл. консультации с общественностью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0" name="Picture 2" descr="C:\Documents and Settings\Iryna\ЛЭП\pics\the grid\Електростанції.gif"/>
          <p:cNvPicPr/>
          <p:nvPr/>
        </p:nvPicPr>
        <p:blipFill>
          <a:blip r:embed="rId1"/>
          <a:stretch/>
        </p:blipFill>
        <p:spPr>
          <a:xfrm>
            <a:off x="5072040" y="1714680"/>
            <a:ext cx="3895920" cy="2643120"/>
          </a:xfrm>
          <a:prstGeom prst="rect">
            <a:avLst/>
          </a:prstGeom>
          <a:ln w="0">
            <a:noFill/>
          </a:ln>
        </p:spPr>
      </p:pic>
      <p:sp>
        <p:nvSpPr>
          <p:cNvPr id="221" name="5-конечная звезда 5"/>
          <p:cNvSpPr/>
          <p:nvPr/>
        </p:nvSpPr>
        <p:spPr>
          <a:xfrm>
            <a:off x="6072120" y="2143080"/>
            <a:ext cx="285840" cy="285840"/>
          </a:xfrm>
          <a:prstGeom prst="pi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15:26:47Z</dcterms:created>
  <dc:creator>Dmytro</dc:creator>
  <dc:description/>
  <dc:language>en-US</dc:language>
  <cp:lastModifiedBy>Dmytro</cp:lastModifiedBy>
  <dcterms:modified xsi:type="dcterms:W3CDTF">2011-07-27T13:21:44Z</dcterms:modified>
  <cp:revision>15</cp:revision>
  <dc:subject/>
  <dc:title>Рычаги влияния НПО</dc:title>
</cp:coreProperties>
</file>