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203040"/>
            <a:ext cx="11175840" cy="1177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5804280"/>
            <a:ext cx="11175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1280" y="281916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41280" y="5804280"/>
            <a:ext cx="54536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9296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471520" y="281916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69296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471520" y="5804280"/>
            <a:ext cx="35982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9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7696080"/>
            <a:ext cx="11175840" cy="13082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1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2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3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4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5">
              <a:spcBef>
                <a:spcPts val="751"/>
              </a:spcBef>
              <a:buClr>
                <a:srgbClr val="ffffff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6">
              <a:spcBef>
                <a:spcPts val="751"/>
              </a:spcBef>
              <a:buClr>
                <a:srgbClr val="ffffff"/>
              </a:buClr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335232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8000"/>
          </a:bodyPr>
          <a:p>
            <a:pPr marL="63504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09080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54656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0023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47280" y="2057400"/>
            <a:ext cx="5854680" cy="28576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6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47280" y="5067000"/>
            <a:ext cx="5854680" cy="26924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81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1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2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3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4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5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  <a:p>
            <a:pPr lvl="6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91000"/>
          </a:bodyPr>
          <a:p>
            <a:pPr marL="77688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30860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marL="184032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marL="237204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marL="2903760" indent="-476640">
              <a:spcBef>
                <a:spcPts val="29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91000"/>
          </a:bodyPr>
          <a:p>
            <a:pPr marL="74088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2726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80432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33604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867400" indent="-44028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1219320"/>
            <a:ext cx="11175840" cy="73152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89000"/>
          </a:bodyPr>
          <a:p>
            <a:pPr marL="75996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27980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marL="180000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marL="2319840" indent="-46584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marL="2839680" indent="-466200">
              <a:spcBef>
                <a:spcPts val="5499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040" y="2819160"/>
            <a:ext cx="5460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78000"/>
          </a:bodyPr>
          <a:p>
            <a:pPr marL="63504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109080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54656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20023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457720" indent="-377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772400" y="2819160"/>
            <a:ext cx="4317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 fontScale="65000"/>
          </a:bodyPr>
          <a:p>
            <a:pPr marL="5292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1" marL="9090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2" marL="12888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3" marL="166860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4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5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lvl="6" marL="2048040" indent="-314640">
              <a:spcBef>
                <a:spcPts val="3600"/>
              </a:spcBef>
              <a:buClr>
                <a:srgbClr val="ffffff"/>
              </a:buClr>
              <a:buSzPct val="139000"/>
              <a:buFont typeface="Monac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11175840" cy="304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Click to edit the title text format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5016600"/>
            <a:ext cx="11175840" cy="12700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 fontScale="3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2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3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4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5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6" algn="ctr">
              <a:buClr>
                <a:srgbClr val="ffffff"/>
              </a:buClr>
              <a:buFont typeface="Monaco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hyperlink" Target="http://www.zhaba.cz/uploads/media/Principles_of_a_good_meeting_200110.pdf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"/>
          <p:cNvGrpSpPr/>
          <p:nvPr/>
        </p:nvGrpSpPr>
        <p:grpSpPr>
          <a:xfrm>
            <a:off x="1697040" y="2239920"/>
            <a:ext cx="8572320" cy="6883560"/>
            <a:chOff x="1697040" y="2239920"/>
            <a:chExt cx="8572320" cy="6883560"/>
          </a:xfrm>
        </p:grpSpPr>
        <p:pic>
          <p:nvPicPr>
            <p:cNvPr id="452" name="" descr=""/>
            <p:cNvPicPr/>
            <p:nvPr/>
          </p:nvPicPr>
          <p:blipFill>
            <a:blip r:embed="rId2"/>
            <a:srcRect l="1456" t="114" r="1238" b="0"/>
            <a:stretch/>
          </p:blipFill>
          <p:spPr>
            <a:xfrm rot="21484800">
              <a:off x="1986840" y="2901600"/>
              <a:ext cx="7988040" cy="589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" descr=""/>
            <p:cNvPicPr/>
            <p:nvPr/>
          </p:nvPicPr>
          <p:blipFill>
            <a:blip r:embed="rId3"/>
            <a:stretch/>
          </p:blipFill>
          <p:spPr>
            <a:xfrm>
              <a:off x="1697040" y="2239920"/>
              <a:ext cx="8572320" cy="688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73200" y="253800"/>
            <a:ext cx="11175840" cy="26794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Monaco"/>
              </a:rPr>
              <a:t>Советы по планированию встречи или семинара</a:t>
            </a:r>
            <a:endParaRPr b="0" lang="en-US" sz="65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5" name=""/>
          <p:cNvSpPr/>
          <p:nvPr/>
        </p:nvSpPr>
        <p:spPr>
          <a:xfrm>
            <a:off x="5136120" y="8931600"/>
            <a:ext cx="6858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Monaco"/>
                <a:ea typeface="Monaco"/>
              </a:rPr>
              <a:t>Ирина Ставчук, Киев 2011</a:t>
            </a:r>
            <a:endParaRPr b="0" lang="en-US" sz="4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00280" y="343080"/>
            <a:ext cx="11175840" cy="14349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Vibes-person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9440" y="1612800"/>
            <a:ext cx="12090600" cy="76456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Вмешивается когда атмосфера накаляется и предлагает варианты как улучшить ситуацию в случаях: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напряжения;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участники не слушают друг друга;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повторяют что уже было сказано;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некоторые не могут дождаться слова;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lvl="1" marL="148896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пренебрегают силой (положение, голос)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Методы для обсуждения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35040" y="2819520"/>
            <a:ext cx="11912400" cy="60069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Мозговой штурм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Опрос по кругу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Работа в группах по 2-3 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Опрос мнения, голосование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Предложение экстремально несогласным выработать решение за пределами комнаты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15560" y="2895480"/>
            <a:ext cx="1117620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Monaco"/>
              </a:rPr>
              <a:t>Преодоление проблемных участников</a:t>
            </a:r>
            <a:endParaRPr b="0" lang="en-US" sz="68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Ворчун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781000" y="2832120"/>
            <a:ext cx="9194760" cy="2679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buSzPct val="1430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</a:rPr>
              <a:t>Систематически всех злит;</a:t>
            </a:r>
            <a:endParaRPr b="0" lang="en-US" sz="28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361"/>
              </a:spcBef>
              <a:buSzPct val="1430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</a:rPr>
              <a:t>Предлагает соответствующие рекомендации;</a:t>
            </a:r>
            <a:endParaRPr b="0" lang="en-US" sz="28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361"/>
              </a:spcBef>
              <a:buSzPct val="1430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</a:rPr>
              <a:t>Постоянно жалуется</a:t>
            </a:r>
            <a:endParaRPr b="0" lang="en-US" sz="2800" spc="-1" strike="noStrike">
              <a:solidFill>
                <a:srgbClr val="ffffff"/>
              </a:solidFill>
              <a:latin typeface="Monaco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5"/>
          <a:stretch/>
        </p:blipFill>
        <p:spPr>
          <a:xfrm>
            <a:off x="673200" y="2755800"/>
            <a:ext cx="2120760" cy="275436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419040" y="5816520"/>
            <a:ext cx="11862000" cy="364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30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onaco"/>
                <a:ea typeface="Monaco"/>
              </a:rPr>
              <a:t>Напомните, что вы не можете поменять условия тренинга и вы делаете все возможное;</a:t>
            </a:r>
            <a:endParaRPr b="0" lang="en-US" sz="22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30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onaco"/>
                <a:ea typeface="Monaco"/>
              </a:rPr>
              <a:t>Предложите обсудить проблему позже индивидуально;</a:t>
            </a:r>
            <a:endParaRPr b="0" lang="en-US" sz="22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304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onaco"/>
                <a:ea typeface="Monaco"/>
              </a:rPr>
              <a:t>Попросите других участников предложить решения проблемы;</a:t>
            </a:r>
            <a:endParaRPr b="0" lang="en-US" sz="22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304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onaco"/>
                <a:ea typeface="Monaco"/>
              </a:rPr>
              <a:t>Обратите внимание что время тренинга ограничено</a:t>
            </a:r>
            <a:endParaRPr b="0" lang="en-US" sz="22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304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304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304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0448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ffffff"/>
                </a:solidFill>
                <a:latin typeface="Monaco"/>
              </a:rPr>
              <a:t>Тихий и стеснительный</a:t>
            </a:r>
            <a:endParaRPr b="0" lang="en-US" sz="68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27400" y="2387520"/>
            <a:ext cx="7607520" cy="3200400"/>
          </a:xfrm>
          <a:prstGeom prst="rect">
            <a:avLst/>
          </a:prstGeom>
          <a:noFill/>
          <a:ln w="101520">
            <a:solidFill>
              <a:srgbClr val="ffffff"/>
            </a:solidFill>
            <a:miter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Напуган и неуверен;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Скромен;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Может быть хвастливым.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94" name=""/>
          <p:cNvSpPr/>
          <p:nvPr/>
        </p:nvSpPr>
        <p:spPr>
          <a:xfrm>
            <a:off x="495360" y="5537160"/>
            <a:ext cx="12344400" cy="35686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30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onaco"/>
                <a:ea typeface="Monaco"/>
              </a:rPr>
              <a:t>Постарайтесь понять причину;</a:t>
            </a:r>
            <a:endParaRPr b="0" lang="en-US" sz="22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30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onaco"/>
                <a:ea typeface="Monaco"/>
              </a:rPr>
              <a:t>Спросите мнение;</a:t>
            </a:r>
            <a:endParaRPr b="0" lang="en-US" sz="22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30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onaco"/>
                <a:ea typeface="Monaco"/>
              </a:rPr>
              <a:t>Если хвастлив-сошлитесь на опыт и спросите мнение;</a:t>
            </a:r>
            <a:endParaRPr b="0" lang="en-US" sz="22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304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onaco"/>
                <a:ea typeface="Monaco"/>
              </a:rPr>
              <a:t>Разбудите их провокативным заявлением;</a:t>
            </a:r>
            <a:endParaRPr b="0" lang="en-US" sz="22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304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Monaco"/>
                <a:ea typeface="Monaco"/>
              </a:rPr>
              <a:t>Если человек скромный - поддержите, похвалите</a:t>
            </a:r>
            <a:endParaRPr b="0" lang="en-US" sz="2200" spc="-1" strike="noStrike">
              <a:solidFill>
                <a:srgbClr val="ffffff"/>
              </a:solidFill>
              <a:latin typeface="Monaco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1446120" y="2527200"/>
            <a:ext cx="2516400" cy="29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Много говорящий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419360" y="2171880"/>
            <a:ext cx="8343720" cy="2768400"/>
          </a:xfrm>
          <a:prstGeom prst="rect">
            <a:avLst/>
          </a:prstGeom>
          <a:noFill/>
          <a:ln w="101520">
            <a:solidFill>
              <a:srgbClr val="ffffff"/>
            </a:solidFill>
            <a:miter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Говорит обо всем, кроме темы разговора;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</a:rPr>
              <a:t>Приводит нелепые примеры и часто вне темы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98" name=""/>
          <p:cNvSpPr/>
          <p:nvPr/>
        </p:nvSpPr>
        <p:spPr>
          <a:xfrm>
            <a:off x="546120" y="5092560"/>
            <a:ext cx="11899800" cy="41659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29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  <a:ea typeface="Monaco"/>
              </a:rPr>
              <a:t>Дождитесь когда он будет переводить дыхание и верните к теме разговора или продолжайте сами;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29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  <a:ea typeface="Monaco"/>
              </a:rPr>
              <a:t>Посмотрите выразительно на часы;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29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  <a:ea typeface="Monaco"/>
              </a:rPr>
              <a:t>Улыбнитесь, запишите его мнение на флипчарт и объясните что это немного не в теме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7"/>
          <a:stretch/>
        </p:blipFill>
        <p:spPr>
          <a:xfrm>
            <a:off x="1587600" y="2108160"/>
            <a:ext cx="281916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Сварливый участник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213000" y="2679480"/>
            <a:ext cx="8940960" cy="2793960"/>
          </a:xfrm>
          <a:prstGeom prst="rect">
            <a:avLst/>
          </a:prstGeom>
          <a:noFill/>
          <a:ln w="101520">
            <a:solidFill>
              <a:srgbClr val="ffffff"/>
            </a:solidFill>
            <a:miter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buSzPct val="1430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</a:rPr>
              <a:t>Глубоко убежден в своей правоте;</a:t>
            </a:r>
            <a:endParaRPr b="0" lang="en-US" sz="2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188"/>
              </a:spcBef>
              <a:buSzPct val="14301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</a:rPr>
              <a:t>С предрассудками;</a:t>
            </a:r>
            <a:endParaRPr b="0" lang="en-US" sz="2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188"/>
              </a:spcBef>
              <a:buSzPct val="14301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</a:rPr>
              <a:t>Не принимает мнения других участиков;</a:t>
            </a:r>
            <a:endParaRPr b="0" lang="en-US" sz="2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188"/>
              </a:spcBef>
              <a:buSzPct val="14301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Monaco"/>
              </a:rPr>
              <a:t>Зациклен на отдельном вопросе </a:t>
            </a:r>
            <a:endParaRPr b="0" lang="en-US" sz="2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2" name=""/>
          <p:cNvSpPr/>
          <p:nvPr/>
        </p:nvSpPr>
        <p:spPr>
          <a:xfrm>
            <a:off x="380880" y="6070680"/>
            <a:ext cx="11773080" cy="27939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Повторите мнение участника и попросите группу прокомментировать в ответ;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Обратите внимание на время и предложите обсудить позже;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Попросите его уважать также мнение других участников.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9"/>
          <a:stretch/>
        </p:blipFill>
        <p:spPr>
          <a:xfrm>
            <a:off x="912960" y="2228760"/>
            <a:ext cx="224928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Отвлекающий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59040" y="2717280"/>
            <a:ext cx="7721640" cy="2971800"/>
          </a:xfrm>
          <a:prstGeom prst="rect">
            <a:avLst/>
          </a:prstGeom>
          <a:noFill/>
          <a:ln w="101520">
            <a:solidFill>
              <a:srgbClr val="ffffff"/>
            </a:solidFill>
            <a:miter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buSzPct val="14299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Monaco"/>
              </a:rPr>
              <a:t>Говорит с другими участниками во время обсуждения на разные темы;</a:t>
            </a:r>
            <a:endParaRPr b="0" lang="en-US" sz="29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489"/>
              </a:spcBef>
              <a:buSzPct val="14299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Monaco"/>
              </a:rPr>
              <a:t>Может иметь хорошие комментарии, но не вовремя;</a:t>
            </a:r>
            <a:endParaRPr b="0" lang="en-US" sz="29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6" name=""/>
          <p:cNvSpPr/>
          <p:nvPr/>
        </p:nvSpPr>
        <p:spPr>
          <a:xfrm>
            <a:off x="431640" y="6058080"/>
            <a:ext cx="11976120" cy="29718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Не будьте грубы;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Обратитесь к ним по имени и попросите откомментировать последнее предложение;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523800" indent="-52380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  <a:ea typeface="Monaco"/>
              </a:rPr>
              <a:t>Посмотрите в глаза, станьте между участником и с кем он разговаривает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7"/>
          <a:stretch/>
        </p:blipFill>
        <p:spPr>
          <a:xfrm>
            <a:off x="1790640" y="2692440"/>
            <a:ext cx="269244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14860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2000 медведей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11633040" cy="75186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В большой горной местности биологи посчитали что там достаточно места и еды только для 800 медведей. Хотя, диктатор страны откормил 2000 медведей и выпустил для охоты со своими друзьями. Диктатор умер, но теперь эти 2000 медведей спускаются в долины за фруктами, воруют овец и иногда даже атакуют пастухов.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Полезные ссылки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Monaco"/>
                <a:hlinkClick r:id="rId3"/>
              </a:rPr>
              <a:t>http://www.zhaba.cz/index.php?id=95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Monaco"/>
              </a:rPr>
              <a:t>Ян Хаверкамп «Идеи и советы по планированию семинара»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914400" y="2857320"/>
            <a:ext cx="11175840" cy="64515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Процесс модерирования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Роли и участники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Приемы вовлечения всех в обсуждение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Преодоление проблемных участников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Ролевая игра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7" name=""/>
          <p:cNvSpPr/>
          <p:nvPr/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  <a:ea typeface="Monaco"/>
              </a:rPr>
              <a:t>План презентации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Встречи нужны для...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Мотивации  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Информирования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3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Monaco"/>
              </a:rPr>
              <a:t>Принятия решений</a:t>
            </a:r>
            <a:endParaRPr b="0" lang="en-US" sz="53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Являются частью большего процесса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 flipH="1" flipV="1">
            <a:off x="6434280" y="2166840"/>
            <a:ext cx="17280" cy="482616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41200" y="126720"/>
            <a:ext cx="12522240" cy="1181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Monaco"/>
              </a:rPr>
              <a:t>Процесс принятия решения</a:t>
            </a:r>
            <a:endParaRPr b="0" lang="en-US" sz="64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2" name=""/>
          <p:cNvSpPr/>
          <p:nvPr/>
        </p:nvSpPr>
        <p:spPr>
          <a:xfrm>
            <a:off x="3670200" y="1333440"/>
            <a:ext cx="5270760" cy="812880"/>
          </a:xfrm>
          <a:prstGeom prst="roundRect">
            <a:avLst>
              <a:gd name="adj" fmla="val 23435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  <a:ea typeface="Monaco"/>
              </a:rPr>
              <a:t>Определение проблемы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3" name=""/>
          <p:cNvSpPr/>
          <p:nvPr/>
        </p:nvSpPr>
        <p:spPr>
          <a:xfrm>
            <a:off x="3149640" y="2400480"/>
            <a:ext cx="6311880" cy="825480"/>
          </a:xfrm>
          <a:prstGeom prst="roundRect">
            <a:avLst>
              <a:gd name="adj" fmla="val 23074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  <a:ea typeface="Monaco"/>
              </a:rPr>
              <a:t>Сбор информации и фактов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4" name=""/>
          <p:cNvSpPr/>
          <p:nvPr/>
        </p:nvSpPr>
        <p:spPr>
          <a:xfrm>
            <a:off x="3670200" y="3530520"/>
            <a:ext cx="5270760" cy="825480"/>
          </a:xfrm>
          <a:prstGeom prst="roundRect">
            <a:avLst>
              <a:gd name="adj" fmla="val 23074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  <a:ea typeface="Monaco"/>
              </a:rPr>
              <a:t>Предложения решения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5" name=""/>
          <p:cNvSpPr/>
          <p:nvPr/>
        </p:nvSpPr>
        <p:spPr>
          <a:xfrm>
            <a:off x="4356000" y="4610160"/>
            <a:ext cx="3911760" cy="825480"/>
          </a:xfrm>
          <a:prstGeom prst="roundRect">
            <a:avLst>
              <a:gd name="adj" fmla="val 23074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  <a:ea typeface="Monaco"/>
              </a:rPr>
              <a:t>Изменения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6" name=""/>
          <p:cNvSpPr/>
          <p:nvPr/>
        </p:nvSpPr>
        <p:spPr>
          <a:xfrm>
            <a:off x="4025880" y="5689440"/>
            <a:ext cx="4572000" cy="825840"/>
          </a:xfrm>
          <a:prstGeom prst="roundRect">
            <a:avLst>
              <a:gd name="adj" fmla="val 23074"/>
            </a:avLst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  <a:ea typeface="Monaco"/>
              </a:rPr>
              <a:t>Тест на консенсус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7" name=""/>
          <p:cNvSpPr/>
          <p:nvPr/>
        </p:nvSpPr>
        <p:spPr>
          <a:xfrm>
            <a:off x="888840" y="7746840"/>
            <a:ext cx="3505320" cy="1181160"/>
          </a:xfrm>
          <a:prstGeom prst="roundRect">
            <a:avLst>
              <a:gd name="adj" fmla="val 16125"/>
            </a:avLst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  <a:ea typeface="Monaco"/>
              </a:rPr>
              <a:t>Я против, но за решение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8" name=""/>
          <p:cNvSpPr/>
          <p:nvPr/>
        </p:nvSpPr>
        <p:spPr>
          <a:xfrm>
            <a:off x="1397160" y="6426360"/>
            <a:ext cx="2476440" cy="1180800"/>
          </a:xfrm>
          <a:prstGeom prst="roundRect">
            <a:avLst>
              <a:gd name="adj" fmla="val 16125"/>
            </a:avLst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onaco"/>
                <a:ea typeface="Monaco"/>
              </a:rPr>
              <a:t>Есть сомнения</a:t>
            </a:r>
            <a:endParaRPr b="0" lang="en-US" sz="3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69" name=""/>
          <p:cNvSpPr/>
          <p:nvPr/>
        </p:nvSpPr>
        <p:spPr>
          <a:xfrm>
            <a:off x="8991720" y="6959520"/>
            <a:ext cx="2869920" cy="1803600"/>
          </a:xfrm>
          <a:prstGeom prst="roundRect">
            <a:avLst>
              <a:gd name="adj" fmla="val 10560"/>
            </a:avLst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Блок-объясни и предложи альтернативу </a:t>
            </a:r>
            <a:endParaRPr b="0" lang="en-US" sz="24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0" name=""/>
          <p:cNvSpPr/>
          <p:nvPr/>
        </p:nvSpPr>
        <p:spPr>
          <a:xfrm rot="19403400">
            <a:off x="2071440" y="5076360"/>
            <a:ext cx="2095560" cy="1079640"/>
          </a:xfrm>
          <a:prstGeom prst="rightArrow">
            <a:avLst>
              <a:gd name="adj1" fmla="val 26361"/>
              <a:gd name="adj2" fmla="val 67054"/>
            </a:avLst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1" name=""/>
          <p:cNvSpPr/>
          <p:nvPr/>
        </p:nvSpPr>
        <p:spPr>
          <a:xfrm rot="14237400">
            <a:off x="8287920" y="4680000"/>
            <a:ext cx="3733920" cy="1079280"/>
          </a:xfrm>
          <a:prstGeom prst="rightArrow">
            <a:avLst>
              <a:gd name="adj1" fmla="val 26361"/>
              <a:gd name="adj2" fmla="val 67078"/>
            </a:avLst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Monaco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2"/>
          <a:stretch/>
        </p:blipFill>
        <p:spPr>
          <a:xfrm>
            <a:off x="4775040" y="6985080"/>
            <a:ext cx="3316320" cy="247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Роли во время обсуждения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Модератор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Секретарь (ведет протокол встречи)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Таймкипер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Vibes-person (отвечает за общую атмосферу)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12880" y="228240"/>
            <a:ext cx="11175840" cy="156204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Модератор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11175840" cy="722628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Представляет вопрос на обсуждение (суть, зачем обсуждать, важность)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Цель, которую нужно достичь по результату обсуждения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Как мы хотим достичь нашей цели? (Методы обсуждения, процесс) 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Сколько есть на это времени? 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355680"/>
            <a:ext cx="11175840" cy="19303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Модератор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11175840" cy="718812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buSzPct val="1429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</a:rPr>
              <a:t>следит за списком выступающих;</a:t>
            </a:r>
            <a:endParaRPr b="0" lang="en-US" sz="34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849"/>
              </a:spcBef>
              <a:buSzPct val="1429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</a:rPr>
              <a:t>дает слово выступающим и решает кому разрешается говорить; </a:t>
            </a:r>
            <a:endParaRPr b="0" lang="en-US" sz="34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849"/>
              </a:spcBef>
              <a:buSzPct val="1429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</a:rPr>
              <a:t>предлагает другие методы обсуждения или процесс голосования если необходимо; </a:t>
            </a:r>
            <a:endParaRPr b="0" lang="en-US" sz="34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849"/>
              </a:spcBef>
              <a:buSzPct val="1429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</a:rPr>
              <a:t>вовлекает всех участвовать в дискусии; </a:t>
            </a:r>
            <a:endParaRPr b="0" lang="en-US" sz="34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849"/>
              </a:spcBef>
              <a:buSzPct val="1429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</a:rPr>
              <a:t>просит высказывать предложения; </a:t>
            </a:r>
            <a:endParaRPr b="0" lang="en-US" sz="34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849"/>
              </a:spcBef>
              <a:buSzPct val="14297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Monaco"/>
              </a:rPr>
              <a:t>повторяет принятые решения чтобы всем было одинаково понятно. </a:t>
            </a:r>
            <a:endParaRPr b="0" lang="en-US" sz="34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330120"/>
            <a:ext cx="11175840" cy="15876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Секретарь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96880" y="1904760"/>
            <a:ext cx="11810880" cy="71499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Ведет записи встречи и хода дискуссии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Monaco"/>
              </a:rPr>
              <a:t>НЕ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 записывает буквально все, что говорят 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Monaco"/>
              </a:rPr>
              <a:t>НЕ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 записывает кто именно говорит что 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Monaco"/>
              </a:rPr>
              <a:t>записывает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 важные аргументы в ходе дискуссии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Monaco"/>
              </a:rPr>
              <a:t>записывает</a:t>
            </a: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 дословно принятые решения, общие позиции, несогласия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11175840" cy="254016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Monaco"/>
              </a:rPr>
              <a:t>Тайм-кипер</a:t>
            </a:r>
            <a:endParaRPr b="0" lang="en-US" sz="7000" spc="-1" strike="noStrike">
              <a:solidFill>
                <a:srgbClr val="ffffff"/>
              </a:solidFill>
              <a:latin typeface="Monaco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2819160"/>
            <a:ext cx="11175840" cy="5715000"/>
          </a:xfrm>
          <a:prstGeom prst="rect">
            <a:avLst/>
          </a:prstGeom>
          <a:noFill/>
          <a:ln w="0">
            <a:noFill/>
          </a:ln>
          <a:effectLst>
            <a:outerShdw dist="25455" dir="189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ctr">
            <a:normAutofit/>
          </a:bodyPr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Следит за временем и напоминает модератору, когда обсуждение не вкладывается во время;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  <a:p>
            <a:pPr marL="905040" indent="-524160">
              <a:lnSpc>
                <a:spcPct val="100000"/>
              </a:lnSpc>
              <a:spcBef>
                <a:spcPts val="2999"/>
              </a:spcBef>
              <a:buSzPct val="14297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onaco"/>
              </a:rPr>
              <a:t>Если много выступающих лимитирует выступление каждого участника;</a:t>
            </a:r>
            <a:endParaRPr b="0" lang="en-US" sz="3600" spc="-1" strike="noStrike">
              <a:solidFill>
                <a:srgbClr val="ffffff"/>
              </a:solidFill>
              <a:latin typeface="Monac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