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6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6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6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6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14280" y="7247880"/>
            <a:ext cx="88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ПРОЕКТ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7" name=""/>
          <p:cNvSpPr/>
          <p:nvPr/>
        </p:nvSpPr>
        <p:spPr>
          <a:xfrm>
            <a:off x="360000" y="8962200"/>
            <a:ext cx="57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ДАТА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"/>
          <p:cNvSpPr/>
          <p:nvPr/>
        </p:nvSpPr>
        <p:spPr>
          <a:xfrm>
            <a:off x="5310360" y="89622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АВТОР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"/>
          <p:cNvSpPr/>
          <p:nvPr/>
        </p:nvSpPr>
        <p:spPr>
          <a:xfrm>
            <a:off x="1399320" y="8957160"/>
            <a:ext cx="93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2011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"/>
          <p:cNvSpPr/>
          <p:nvPr/>
        </p:nvSpPr>
        <p:spPr>
          <a:xfrm>
            <a:off x="6112800" y="8957160"/>
            <a:ext cx="333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ИРИНА СТАВЧУК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rcRect l="22925" t="0" r="23017" b="0"/>
          <a:stretch/>
        </p:blipFill>
        <p:spPr>
          <a:xfrm>
            <a:off x="368280" y="317520"/>
            <a:ext cx="4851360" cy="67309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"/>
          <a:srcRect l="22456" t="0" r="22558" b="0"/>
          <a:stretch/>
        </p:blipFill>
        <p:spPr>
          <a:xfrm>
            <a:off x="7785000" y="368280"/>
            <a:ext cx="4851360" cy="6730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4"/>
          <a:srcRect l="25701" t="0" r="25953" b="0"/>
          <a:stretch/>
        </p:blipFill>
        <p:spPr>
          <a:xfrm>
            <a:off x="5295960" y="584280"/>
            <a:ext cx="2413080" cy="33256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5"/>
          <a:srcRect l="13070" t="0" r="12754" b="0"/>
          <a:stretch/>
        </p:blipFill>
        <p:spPr>
          <a:xfrm>
            <a:off x="5295960" y="4297320"/>
            <a:ext cx="2413080" cy="260496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5d4d6"/>
                </a:solidFill>
                <a:latin typeface="Helvetica Neue Bold Condensed"/>
              </a:rPr>
              <a:t>Использование РКИК ООН </a:t>
            </a:r>
            <a:endParaRPr b="0" lang="en-US" sz="61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в работе НПО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4a7594"/>
                </a:solidFill>
                <a:latin typeface="Helvetica Neue Light"/>
              </a:rPr>
              <a:t>4. Сотрудничество с  международной прессой</a:t>
            </a:r>
            <a:endParaRPr b="0" lang="en-US" sz="71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Есть возможность наладить связи с международной прессой и доносить до них национальные истории, как позитивные про страну, так и критические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39960" y="317160"/>
            <a:ext cx="1092168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5. Личное развитие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41120" y="2171520"/>
            <a:ext cx="109220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Новые знания путем посещения сайд-ивентов на важные в работе темы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Знакомства с НПО с других стран, обмен опытом, возможность напрямую узнать важную информацию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Перенятие опыта от старших коллег по модерированию встреч, организации совместной работы НПО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Понимание процесса переговоров ООН по климату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4a7594"/>
                </a:solidFill>
                <a:latin typeface="Helvetica Neue Light"/>
              </a:rPr>
              <a:t>Для Киргизии, Таджикистана, Узбекистана</a:t>
            </a:r>
            <a:endParaRPr b="0" lang="en-US" sz="63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13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Особо нечего критиковать по позициям, хотя энергоемкость экономики в Узбекистане очень высокая и есть потенциал сокращения выбросов;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3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Скорее важно стимулировать правительство более активно отстаивать важные для стран позиции;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3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НПО должны быть больше как источники информации и помощники для официальных делегаций -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3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писать аналитические обзоры по переговорным вопросам;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3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помогать сформулировать позицию и приоритеты;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3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писать обзоры про существующие механизмы РКИК ООН и как их использовать на уровне страны;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4a7594"/>
                </a:solidFill>
                <a:latin typeface="Helvetica Neue Light"/>
              </a:rPr>
              <a:t>Для Киргизии, Таджикистана, Узбекистана</a:t>
            </a:r>
            <a:endParaRPr b="0" lang="en-US" sz="63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5880" y="2476080"/>
            <a:ext cx="11354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Инициировать оценку по Technology Needs Assessment;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Сформулировать конкретные предложения (механизмы) по низкоуглеродной экономике, которые могут найти поддержду развитых стран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Подготовить информацию про возможности по адаптации (Найробийская программа по адаптации, фонды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4a7594"/>
                </a:solidFill>
                <a:latin typeface="Helvetica Neue Light"/>
              </a:rPr>
              <a:t>Лоббирование низкоуглеродного развития</a:t>
            </a:r>
            <a:endParaRPr b="0" lang="en-US" sz="63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99920" y="2450880"/>
            <a:ext cx="11544120" cy="689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Поддержка секторов, которые очень важны для бедных, такие как сельское и лесное хозяйство (инвестиции в инфраструктуру и субсидии);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7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Энергоэффективность как повышение качества жизни, сокращение трат, энергобезопаность;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7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Экономически анализ ВБ предлагает бедным странам фокусироваться на энергосбережении (освещение, снижение потерь, сокращение потребления на уровне конечных пользователей);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7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ВБ признал, что везде, где они поддержали угольные станции были возможности энергоэфективности или альтернативных источников энергии;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60240" y="202680"/>
            <a:ext cx="1168416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a7594"/>
                </a:solidFill>
                <a:latin typeface="Helvetica Neue Light"/>
              </a:rPr>
              <a:t>РКИК ООН и КП - как рычаги влияния на национальную политику</a:t>
            </a:r>
            <a:endParaRPr b="0" lang="en-US" sz="53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906480" y="2057400"/>
            <a:ext cx="1119492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99920" y="317520"/>
            <a:ext cx="114044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a7594"/>
                </a:solidFill>
                <a:latin typeface="Helvetica Neue Light"/>
              </a:rPr>
              <a:t>Что развивающиеся страны должны делать соответственно РКИК ООН и КП?</a:t>
            </a:r>
            <a:endParaRPr b="0" lang="en-US" sz="4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72840" y="2349000"/>
            <a:ext cx="11937960" cy="694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23000" indent="-423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Готовить Национальные сообщения по выбросам парниковых газов, национальной политике сокращения выбросов и адаптации, информирования общественности;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  <a:p>
            <a:pPr marL="423000" indent="-4230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Готовить и внедрять законодательство для сокращения выбросов в секторах энергетики, транспорта, промышленности, сельского и лесного хозяйства, управления отходами;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  <a:p>
            <a:pPr marL="423000" indent="-4230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Готовить и внедрять планы по адаптации;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  <a:p>
            <a:pPr marL="423000" indent="-4230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Брать во внимание проблему изменения климата при подготовке национальных социальных, экономических и экологических политик;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  <a:p>
            <a:pPr marL="423000" indent="-4230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Готовить программы по информированию общественности;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  <a:p>
            <a:pPr marL="423000" indent="-4230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6461"/>
                </a:solidFill>
                <a:latin typeface="Helvetica Neue"/>
              </a:rPr>
              <a:t>Предоставлять общественности доступ к информации по вопросам изменения климата и обеспечить участие в принятии решений.</a:t>
            </a:r>
            <a:endParaRPr b="0" lang="en-US" sz="27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Будущие механизмы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730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NAMA - национальные планы сокращения выбросов, которые будут финансово и технически поддерживаться на международном уровне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REDD+ - снижение вырубки и деградации лесов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Международный анализ национальных планов по сокращению выбросов и требования по четкому прогнозу объема сокращения выбросов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Существующие механизмы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1120" y="3479760"/>
            <a:ext cx="10922040" cy="394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Процедуры участия НПО в комментировании по процедурам CDM дают возможность предотвращать финансирование по спорным проектам;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44160" y="1117440"/>
            <a:ext cx="109220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a7594"/>
                </a:solidFill>
                <a:latin typeface="Helvetica Neue Light"/>
              </a:rPr>
              <a:t>Задачи и возможности при участии НПО в международных переговорах</a:t>
            </a:r>
            <a:endParaRPr b="0" lang="en-US" sz="53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2633760" y="3576600"/>
            <a:ext cx="845820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7594"/>
                </a:solidFill>
                <a:latin typeface="Helvetica Neue Light"/>
              </a:rPr>
              <a:t>1. Изменить плохие элементы официальной позиции</a:t>
            </a:r>
            <a:endParaRPr b="0" lang="en-US" sz="59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Если позиция страны тормозит международный переговорный процесс - НПО ставят за цель изменить эти позиции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Примеры из ЦА: Киргизия - лоббирование больших гидро, Казахстан - позиция по сокращению выбросов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9" name=""/>
          <p:cNvSpPr/>
          <p:nvPr/>
        </p:nvSpPr>
        <p:spPr>
          <a:xfrm>
            <a:off x="611280" y="7315200"/>
            <a:ext cx="11633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МЕТОДЫ РАБОТЫ:  ПОЗИЦИИ, ПИСЬМА, ВСТРЕЧИ С ДЕЛЕГАЦИЕЙ, РАБОТА С НАЦИОНАЛЬНОЙ И МЕЖДУНАРОДНОЙ ПРЕССОЙ, СТАТЬИ В ЭКО, ДЕМОНСТРАЦИИ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a7594"/>
                </a:solidFill>
                <a:latin typeface="Helvetica Neue Light"/>
              </a:rPr>
              <a:t>2. Способствовать тому, чтобы страны позитивно влияли на ход переговоров</a:t>
            </a:r>
            <a:endParaRPr b="0" lang="en-US" sz="53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Делегации могут начать поддерживать позитивные инициативы, высказываясь во время переговоров - </a:t>
            </a:r>
            <a:r>
              <a:rPr b="0" lang="en-US" sz="2800" spc="-1" strike="noStrike">
                <a:solidFill>
                  <a:srgbClr val="646461"/>
                </a:solidFill>
                <a:latin typeface="Helvetica Neue"/>
              </a:rPr>
              <a:t>чем больше стран высказывают поддержку, тем больше шансов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Выступать против плохих предложений во время переговоров. Можно составить список приоритетов для ваших стран и на основе него предлагать поддерживать те или иные позиции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4a7594"/>
                </a:solidFill>
                <a:latin typeface="Helvetica Neue Light"/>
              </a:rPr>
              <a:t>3. Прямой контакт с членами правительства</a:t>
            </a:r>
            <a:endParaRPr b="0" lang="en-US" sz="7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Доступ к налаживанию личных контактов с представителями правительства, возможность общения в неформальной обстановке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Можно обсуждать не только вопросы переговоров, но и другие важные национальные темы;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