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A6C-6CA1-4077-A927-7D3B3D9F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5F6-C433-4EE0-A60E-FB8F59CF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95B-E723-4089-A099-E1FF699E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832-5906-418E-89FF-202EF706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EF35-1E03-4F9C-9348-F4F35A4C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E7A7-5E62-482F-84DA-5765EB04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10EB-9F12-4758-AAF9-B9FE42C3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05AD-D922-449C-9D54-308FF9B2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1EAF-27BC-4FAE-9B25-D9FC9B88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9F27-14DB-4D13-8D32-9D93C342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364F-D0C0-4E83-8FC3-88E3BD0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E8D-3F7B-4241-AAFD-419BDE95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9F4-9C32-4D81-ABAE-D05DD02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642F-3257-48B8-AE52-D64D259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A872-F39B-4A60-B2F8-EC607CF5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8643-0D8A-4B36-A05D-AB761EC4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2A3C-E11A-4453-8FDB-BE60A1E7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65B-90CF-440A-AFB9-F6678E44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8A8-33B9-441A-AC8A-200F49B3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EA5-B275-4E52-B562-8AD62D80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DB2-05DC-4807-B2F3-80E05AA7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096-0523-4053-A274-855FED4C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446-DF08-4737-B475-0BF3D139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EB2-414C-4B07-8669-250EEBED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8055-01B0-4D83-AD09-2525CFE82E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85C1-5C29-4572-8095-C9C869FC16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ак подготовиться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 видео-интервью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441240"/>
            <a:ext cx="7272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нг «Климатическое лидер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июля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ина Бондарен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с-атта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ьного экологического центра Укра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8 097 699 10 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bondarenko@necu.org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ими могут быть видео-интервью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 на вашу тему, с выездом на место со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нтарии к другой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телевизионных ш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ас пригласили на интервью. Соглашаться или нет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осите, кто ваш интервьюер: журналист, из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осите цель интервью, главные пун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осите, кто еще будет с вами на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олго будет длиться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 интервью в эфире или по записи, на месте событий или в сту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то сделать до интервь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cc"/>
                </a:solidFill>
                <a:latin typeface="Arial"/>
              </a:rPr>
              <a:t>Определите цель вашей беседы – что вы хотите доне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главные пункты беседы и как вы будете их проговар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список важных фактов, но не читайте его на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работайте два-три самых важных пункта, которые желательно ска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удачные примеры, ш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ного потренируйтесь перед тем, как выступать на публ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 одеться на интервь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б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, как вы считаете, должен выглядеть профессио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девайте одежду в узкую поло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девайте светлых ж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девайте солнечные 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р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еред интервь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удьте во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жите журналисту, что вы планируете рас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ите его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сите стакан воды или возьмите Красную 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нтервью. Как говори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йте простыми ответами, как своей баб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е четко и медленно, в обычном разговорном т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йте интересный язык, но избегайте вычурных фраз или сленга. Не будьте грубым или вульга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дите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гружайте публику сложными терминами и технической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е важные пункты и покажите их с разных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егайте слов-параз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нтервью. Как себя 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мотрите в камеру – говорите с журнал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егайте создания шума в студии (шуршание бумаг, шарканье обувь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ле интервь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ите, когда можно посмотреть запись и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ьтесь с журналистом – возможно, он вам еще понадоби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yna Bondarenko</cp:lastModifiedBy>
  <dcterms:modified xsi:type="dcterms:W3CDTF">2011-07-29T20:10:12Z</dcterms:modified>
  <cp:revision>9</cp:revision>
  <dc:subject/>
  <dc:title>PowerPoint Presentation</dc:title>
</cp:coreProperties>
</file>