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E26-9E26-4E1F-9771-081D3CB8E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0E6-DEA8-4F6B-B5E3-1B90BFE6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AC3D-9A56-4947-9D59-CEDAC4E1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C1E-9003-4028-8E0E-B74314A7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186C8-5A3F-41BC-9BAA-012FEDE2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A0E60-4673-411A-A420-F252EDE0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9490-65AA-4BC5-8B3B-61CE31BB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890B-E3A4-4525-B3F8-4B2780A4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48BE-E4E3-42A6-9FE5-40180114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4ADD-9B69-4292-B8EE-CFACF4E8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48A7-7060-409C-9D0C-0C9568C2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E36-34F1-4A63-B738-189FCCEA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A33C-B13E-4F4D-826C-E09B43F2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7366-6F9A-4804-83F7-40E312BA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8E31-88A7-4F4A-94B0-5FACFCFC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36BF-B684-4460-A18C-639B3861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69FC-DAEE-4208-AE46-3A30EF2C8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606-A786-4FA2-B864-45885445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081-0035-407B-AB4C-26E159D5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181-5E27-4493-B462-5B48712A2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F399-61E0-49DE-B51C-70AC28EA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884-30A6-4D36-BB29-3C187B9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9B9F-CFFD-4D3E-B9F7-B57BFCEC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171-00FD-40BB-99FE-3151EAF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88A6-5D83-40DA-BA27-C1B893EB3C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EF6B-59D4-4597-9184-117A3D250A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ак подготовиться 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к видео-интервью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99640" y="3441240"/>
            <a:ext cx="7272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 «Климатическое лидерств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0 июля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рина Бондарен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сс-атта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ционального экологического центра Украин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8 097 699 10 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bondarenko@necu.org.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26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ими могут быть видео-интервью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едача на вашу тему, с выездом на место собы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ентарии к другой те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телевизионных ш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Вас пригласили на интервью. Соглашаться или нет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те, кто ваш интервьюер: журналист, из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те цель интервью, главные пун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те, кто еще будет с вами на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долго будет длиться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дет интервью в эфире или по записи, на месте событий или в студ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Что сделать до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66cc"/>
                </a:solidFill>
                <a:latin typeface="Arial"/>
              </a:rPr>
              <a:t>Определите цель вашей беседы – что вы хотите доне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ите главные пункты беседы и как вы будете их проговарив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список важных фактов, но не читайте его на интерв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работайте два-три самых важных пункта, которые желательно сказ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удачные примеры, шу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много потренируйтесь перед тем, как выступать на публ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одеться на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б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, как вы считаете, должен выглядеть профессио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девайте одежду в узкую полос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девайте светлых ж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девайте солнечные 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бр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еред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будьте во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ажите журналисту, что вы планируете рассказ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точните его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осите стакан воды или возьмите Красную кни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нтервью. Как говорить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йте простыми ответами, как своей бабуш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е четко и медленно, в обычном разговорном то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 интересный язык, но избегайте вычурных фраз или сленга. Не будьте грубым или вульгар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одите при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нагружайте публику сложными терминами и технической информац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е важные пункты и покажите их с разных уг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егайте слов-парази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Интервью. Как себя вест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смотрите в камеру – говорите с журнали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егайте создания шума в студии (шуршание бумаг, шарканье обувь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После интервью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ите, когда можно посмотреть запись и г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ьтесь с журналистом – возможно, он вам еще понадоби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yna Bondarenko</cp:lastModifiedBy>
  <dcterms:modified xsi:type="dcterms:W3CDTF">2011-07-29T20:10:12Z</dcterms:modified>
  <cp:revision>9</cp:revision>
  <dc:subject/>
  <dc:title>PowerPoint Presentation</dc:title>
</cp:coreProperties>
</file>