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1422000" y="990360"/>
            <a:ext cx="7061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964800" y="4273560"/>
            <a:ext cx="797580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51880" y="219708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6480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51880" y="4273560"/>
            <a:ext cx="389196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615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357960" y="219708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96480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615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357960" y="4273560"/>
            <a:ext cx="2567880" cy="1896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60948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850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5422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201168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4746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4746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474640" indent="-487440">
              <a:spcBef>
                <a:spcPts val="14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964800" y="1206360"/>
            <a:ext cx="7975800" cy="4965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2000"/>
          </a:bodyPr>
          <a:p>
            <a:pPr marL="58392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39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7780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2780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71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71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71680" indent="-467280">
              <a:spcBef>
                <a:spcPts val="2999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6520" y="1676160"/>
            <a:ext cx="8699400" cy="20444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6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96520" y="3796920"/>
            <a:ext cx="8699400" cy="22352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20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96520" y="2514600"/>
            <a:ext cx="8699400" cy="20448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6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6520" y="5308560"/>
            <a:ext cx="8699400" cy="119376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2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0120" y="1739520"/>
            <a:ext cx="4749840" cy="1981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2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30120" y="3796920"/>
            <a:ext cx="4749840" cy="17780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/>
            </a:outerShdw>
          </a:effectLst>
        </p:spPr>
        <p:txBody>
          <a:bodyPr lIns="38160" rIns="38160" tIns="38160" bIns="38160" anchor="t">
            <a:normAutofit fontScale="6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1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2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3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4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5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  <a:p>
            <a:pPr lvl="6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2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04480" y="2197080"/>
            <a:ext cx="35305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5000"/>
          </a:bodyPr>
          <a:p>
            <a:pPr marL="42624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98840" indent="-33192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155960" indent="-33192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5217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8835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8835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8835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8000"/>
          </a:bodyPr>
          <a:p>
            <a:pPr marL="55692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43640" indent="-4338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510560" indent="-43380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8828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46096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46096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460960" indent="-4323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104480" y="2197080"/>
            <a:ext cx="35305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5000"/>
          </a:bodyPr>
          <a:p>
            <a:pPr marL="42624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98840" indent="-33192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155960" indent="-33192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5217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8835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8835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883520" indent="-3308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133680" y="2197080"/>
            <a:ext cx="280692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7000"/>
          </a:bodyPr>
          <a:p>
            <a:pPr marL="380520" indent="-2955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13520" indent="-2966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032480" indent="-29664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359360" indent="-2955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682280" indent="-2955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682280" indent="-2955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682280" indent="-295560">
              <a:spcBef>
                <a:spcPts val="24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15440" y="819000"/>
            <a:ext cx="9001080" cy="285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b3b3e"/>
                </a:solidFill>
                <a:latin typeface="Arial"/>
                <a:ea typeface="Arial"/>
              </a:rPr>
              <a:t>Как написать письмо</a:t>
            </a:r>
            <a:endParaRPr b="0" lang="en-US" sz="5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3841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Алексей Пасюк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asyuk@bankwatch.org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Что не надо делать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9000"/>
          </a:bodyPr>
          <a:p>
            <a:pPr marL="666360" indent="-5025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ишите много дополнительной информации, детали лучше оставить для отдельной бумаги;</a:t>
            </a:r>
            <a:endParaRPr b="0" lang="en-US" sz="2500" spc="-1" strike="noStrike">
              <a:solidFill>
                <a:srgbClr val="000000"/>
              </a:solidFill>
              <a:latin typeface="Bradley Hand ITC TT-Bold"/>
            </a:endParaRPr>
          </a:p>
          <a:p>
            <a:pPr marL="666360" indent="-5025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водите много общеизвестных или не влияющих на суть дела деталей;</a:t>
            </a:r>
            <a:endParaRPr b="0" lang="en-US" sz="2500" spc="-1" strike="noStrike">
              <a:solidFill>
                <a:srgbClr val="000000"/>
              </a:solidFill>
              <a:latin typeface="Bradley Hand ITC TT-Bold"/>
            </a:endParaRPr>
          </a:p>
          <a:p>
            <a:pPr marL="666360" indent="-5025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ишите прямо в тексте письма все регалии вашей организации, лучше объясните в чем суть интереса организации к этой теме;</a:t>
            </a:r>
            <a:endParaRPr b="0" lang="en-US" sz="2500" spc="-1" strike="noStrike">
              <a:solidFill>
                <a:srgbClr val="000000"/>
              </a:solidFill>
              <a:latin typeface="Bradley Hand ITC TT-Bold"/>
            </a:endParaRPr>
          </a:p>
          <a:p>
            <a:pPr marL="666360" indent="-502560">
              <a:lnSpc>
                <a:spcPct val="100000"/>
              </a:lnSpc>
              <a:spcBef>
                <a:spcPts val="12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ьте вежливы, создайте впечатление о вашей объективности.</a:t>
            </a:r>
            <a:endParaRPr b="0" lang="en-US" sz="25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b3b3e"/>
                </a:solidFill>
                <a:latin typeface="Arial Italic"/>
                <a:ea typeface="Arial Italic"/>
              </a:rPr>
              <a:t>Я вам пишу, чего же боле...</a:t>
            </a:r>
            <a:endParaRPr b="0" lang="en-US" sz="42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918504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– большая и важная часть работы с чиновниками,</a:t>
            </a:r>
            <a:endParaRPr b="0" lang="en-US" sz="30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а нужны не только для получения или донесения информации, это документированное свидетельство процесса,</a:t>
            </a:r>
            <a:endParaRPr b="0" lang="en-US" sz="30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письмо может быть средством влияния на оппонента,</a:t>
            </a:r>
            <a:endParaRPr b="0" lang="en-US" sz="30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83840" y="787320"/>
            <a:ext cx="7061400" cy="1206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Arial Italic"/>
                <a:ea typeface="Arial Italic"/>
              </a:rPr>
              <a:t>Сначала подумать...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72840" y="2044800"/>
            <a:ext cx="8483400" cy="4559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8000"/>
          </a:bodyPr>
          <a:p>
            <a:pPr marL="659520" indent="-4975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жде чем начать писать письмо надо определиться с какой целью вы его пишете: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145160" indent="-497880">
              <a:lnSpc>
                <a:spcPct val="100000"/>
              </a:lnSpc>
              <a:spcBef>
                <a:spcPts val="1312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хотите известить о фактах или оказать давление с тем чтобы поменять решение;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145160" indent="-497880">
              <a:lnSpc>
                <a:spcPct val="100000"/>
              </a:lnSpc>
              <a:spcBef>
                <a:spcPts val="1312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хотите обратиться с запросом;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145160" indent="-497880">
              <a:lnSpc>
                <a:spcPct val="100000"/>
              </a:lnSpc>
              <a:spcBef>
                <a:spcPts val="1312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хотите оставить документальное подтверждение о  вашей встрече и о том что там было сказано;</a:t>
            </a:r>
            <a:endParaRPr b="0" lang="en-US" sz="2000" spc="-1" strike="noStrike">
              <a:solidFill>
                <a:srgbClr val="000000"/>
              </a:solidFill>
              <a:latin typeface="Bradley Hand ITC TT-Bold"/>
            </a:endParaRPr>
          </a:p>
          <a:p>
            <a:pPr marL="659520" indent="-497520">
              <a:lnSpc>
                <a:spcPct val="100000"/>
              </a:lnSpc>
              <a:spcBef>
                <a:spcPts val="1312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результатов вы хотите добиться;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marL="659520" indent="-497520">
              <a:lnSpc>
                <a:spcPct val="100000"/>
              </a:lnSpc>
              <a:spcBef>
                <a:spcPts val="1312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 кто наиболее подходящий адресат и кому стоит сделать копии письма. Это должны быть конкретные люди.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Arial Italic"/>
                <a:ea typeface="Arial Italic"/>
              </a:rPr>
              <a:t>Заголовок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65160" y="2196720"/>
            <a:ext cx="8445600" cy="4305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-5079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Кому: Имя!!!, должность, адрес, факс</a:t>
            </a:r>
            <a:endParaRPr b="0" lang="en-US" sz="19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0" algn="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Роману Проди</a:t>
            </a:r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0" algn="r">
              <a:lnSpc>
                <a:spcPct val="6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Главе Европейской Комиссии</a:t>
            </a:r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0" algn="r">
              <a:lnSpc>
                <a:spcPct val="6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Брюссель, Парижский бульвар  56</a:t>
            </a:r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0" algn="r">
              <a:lnSpc>
                <a:spcPct val="6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Факс: +322233322</a:t>
            </a:r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60000"/>
              </a:lnSpc>
              <a:spcBef>
                <a:spcPts val="96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Копии: Имя, должность, факс</a:t>
            </a:r>
            <a:endParaRPr b="0" lang="en-US" sz="19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96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Дата: Просто не забудьте поставить дату письма</a:t>
            </a:r>
            <a:endParaRPr b="0" lang="en-US" sz="19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0" algn="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5 марта 2000</a:t>
            </a:r>
            <a:endParaRPr b="0" lang="en-US" sz="1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96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Тема: Иногда тему письма, особенно большого, выносят одной строкой до начала письма. Можно опустить.</a:t>
            </a:r>
            <a:endParaRPr b="0" lang="en-US" sz="19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964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radley Hand ITC TT-Bold"/>
                <a:ea typeface="Times New Roman"/>
              </a:rPr>
              <a:t>Обращение: Уважаемый г-н Петров</a:t>
            </a:r>
            <a:endParaRPr b="0" lang="en-US" sz="19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0" algn="r">
              <a:lnSpc>
                <a:spcPct val="100000"/>
              </a:lnSpc>
              <a:spcBef>
                <a:spcPts val="9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 Italic"/>
                <a:ea typeface="Times New Roman Italic"/>
              </a:rPr>
              <a:t>Уважаемый г-н Проди,</a:t>
            </a:r>
            <a:endParaRPr b="0" lang="en-US" sz="19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Первый</a:t>
            </a:r>
            <a:r>
              <a:rPr b="0" lang="en-US" sz="4400" spc="-1" strike="noStrike">
                <a:solidFill>
                  <a:srgbClr val="3b3b3e"/>
                </a:solidFill>
                <a:latin typeface="Times New Roman Bold"/>
                <a:ea typeface="Times New Roman Bold"/>
              </a:rPr>
              <a:t> </a:t>
            </a: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абзац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-5079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скольких предложениях надо объяснить о чем пойдет речь;</a:t>
            </a:r>
            <a:endParaRPr b="0" lang="en-US" sz="27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213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писать все о себе и своей организации;</a:t>
            </a:r>
            <a:endParaRPr b="0" lang="en-US" sz="27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213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призыв, то напишите от чьего имени вы обращаетесь и почему в данный момент;</a:t>
            </a:r>
            <a:endParaRPr b="0" lang="en-US" sz="27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213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 письмо напоминание о прошедшей встрече, то поблагодарите и напомните о дате встречи.</a:t>
            </a:r>
            <a:endParaRPr b="0" lang="en-US" sz="27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Второй абзац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те представление об истории вопроса;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ите ситуацию вокруг поднимаемой проблемы;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тьте положительные действия адресата, если есть что отметить.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Дальше по тексту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те в четкой форме свои аргументы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аргументов много - сгруппируйте их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 ссылаться на конкретные факты и их источники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четко называть упоминаемые  конкретные  документы, проекты и т.п.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Что вы хотите?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улируйте что вы хотите получить в ответ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адресат или его организация должна предпринять, что сделать или чего не делать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22000" y="990360"/>
            <a:ext cx="7061400" cy="120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3b3e"/>
                </a:solidFill>
                <a:latin typeface="Stone Sans ITC TT-Semi"/>
                <a:ea typeface="Lucida Grande"/>
              </a:rPr>
              <a:t>Наконец не забыть</a:t>
            </a:r>
            <a:endParaRPr b="0" lang="en-US" sz="44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64800" y="2197080"/>
            <a:ext cx="7975800" cy="3975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7320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знать к кому обращаться за вопросами, как с вами связаться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письмо подписано многими организациями лучше дать знать куда направлять ответ;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  <a:p>
            <a:pPr marL="673200" indent="-507960">
              <a:lnSpc>
                <a:spcPct val="10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пишите письмо</a:t>
            </a:r>
            <a:endParaRPr b="0" lang="en-US" sz="28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r</dc:creator>
  <dc:description/>
  <dc:language>en-US</dc:language>
  <cp:lastModifiedBy/>
  <cp:revision>0</cp:revision>
  <dc:subject/>
  <dc:title>Practical Tips  for Negotiations  with Bank Officials </dc:title>
</cp:coreProperties>
</file>