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9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0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11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54AA-12A3-48BE-A23F-169D2A5F8FA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1740-3520-4640-B82A-0411F25DB07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9F89-915E-4FC0-8DD6-06D8DDAF3A1E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7AD4-F351-446A-9DFA-923C35F2196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6FFA-E540-4974-84DC-C68F042F87B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FEE6-0FBD-4890-93EB-FD16E763931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867A-8B54-4724-A993-DF9268CDCADF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548B-903C-44DA-B6A6-EA5155BE9AC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0239-1EB2-4EE1-B64D-A33B2E66B414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384-6C83-4052-8078-C9DD19550DD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9701-E841-44D4-A05C-D8FDE4B8039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ABF7-3DD2-43FE-8F7F-17D2B0788F37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0A79-14F0-42D0-8727-9F91567D2272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94B7-C40A-4CDC-BB62-9DEE87D18BC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4BA3-7BA8-4AA0-A157-0C26DEADCF1D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A2BF-B533-4FD7-9D1A-4044F9CAAF81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03F-2E46-49BC-83A8-720AC2E4CE5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A88F-1BE9-4E59-A385-753DF9359B4C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F484-1D18-4A5C-8CBC-5D0F92914015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AB8A-D5C9-47B6-BAAB-65026BE4760B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BD6E-01DC-4C96-BA7F-15A1AAEB2956}" type="slidenum">
              <a:rPr b="0" lang="en-I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345BF8-4196-4461-BC21-810E0A72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8DFCC6-81CE-48FE-9E44-B2E3817F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134B26-6E3E-426F-BBFF-2DB8D7E4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EFA33F-53A7-42CE-87E8-113EAF74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AD84DB-3B98-47E8-B63A-6D4A4D04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7D742-D7B1-4A4E-9D34-59117968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D231A-553B-4E75-8625-D40082F4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DD6CD8-19D3-4EC8-8A88-C5A4CB28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C862B-D869-44B6-97FA-CE74E1D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BCE2E5-13CE-4D69-9304-AFBCB29A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E2FC4-8F0E-4E24-A283-8B5D2281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50EE4A-6489-4958-858B-8DF7B8F9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5B52-65E2-44E2-B60C-CE6537027D6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31E7AE5-86A3-4BD3-BB5B-C9B2939048F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7524720" y="6413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E4A8-DEF5-4CEF-B5E8-E909BBB5301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9"/>
          <p:cNvSpPr/>
          <p:nvPr/>
        </p:nvSpPr>
        <p:spPr>
          <a:xfrm>
            <a:off x="1835280" y="0"/>
            <a:ext cx="7308720" cy="5732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0" y="0"/>
            <a:ext cx="127080" cy="6858000"/>
          </a:xfrm>
          <a:prstGeom prst="rect">
            <a:avLst/>
          </a:prstGeom>
          <a:solidFill>
            <a:srgbClr val="f3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14"/>
          <p:cNvSpPr/>
          <p:nvPr/>
        </p:nvSpPr>
        <p:spPr>
          <a:xfrm>
            <a:off x="1171440" y="6261120"/>
            <a:ext cx="7616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9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7524720" y="627804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F9E7-DAFD-41FB-BE11-466B0135656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42611FA8-11F6-495B-AFE8-EE37234F548C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11"/>
          <p:cNvSpPr/>
          <p:nvPr/>
        </p:nvSpPr>
        <p:spPr>
          <a:xfrm>
            <a:off x="441360" y="6451560"/>
            <a:ext cx="838512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dt" idx="4"/>
          </p:nvPr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4A6-9885-4FE6-B6D2-D4BAB03FB41E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7752CB45-5AB7-4624-A90F-391B2BDFD3BD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DF59-A849-444B-8C57-F85F75DBE27B}" type="datetime3">
              <a:rPr b="0" lang="en-IE" sz="14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8A45-96F7-4777-A178-47BEF6A97861}" type="slidenum">
              <a:rPr b="0" lang="en-I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7"/>
          <p:cNvSpPr/>
          <p:nvPr/>
        </p:nvSpPr>
        <p:spPr>
          <a:xfrm>
            <a:off x="635040" y="666756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0"/>
            <a:ext cx="800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635040" y="0"/>
            <a:ext cx="850896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 flipH="1">
            <a:off x="8978040" y="0"/>
            <a:ext cx="21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dt" idx="8"/>
          </p:nvPr>
        </p:nvSpPr>
        <p:spPr>
          <a:xfrm>
            <a:off x="7524720" y="630828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CB34-FEDE-4EF5-8894-EB352A9E3A3A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8ACA1D44-6B7F-457A-95EA-EDC73C1D480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3" descr="master panda.jpg"/>
          <p:cNvPicPr/>
          <p:nvPr/>
        </p:nvPicPr>
        <p:blipFill>
          <a:blip r:embed="rId2"/>
          <a:stretch/>
        </p:blipFill>
        <p:spPr>
          <a:xfrm>
            <a:off x="171360" y="114480"/>
            <a:ext cx="527040" cy="8362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7cc8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9" descr="C:\Users\akokorin\Desktop\зеленый-мир-карта.jpg"/>
          <p:cNvPicPr/>
          <p:nvPr/>
        </p:nvPicPr>
        <p:blipFill>
          <a:blip r:embed="rId1"/>
          <a:stretch/>
        </p:blipFill>
        <p:spPr>
          <a:xfrm>
            <a:off x="1042920" y="1052640"/>
            <a:ext cx="7859880" cy="5545080"/>
          </a:xfrm>
          <a:prstGeom prst="rect">
            <a:avLst/>
          </a:prstGeom>
          <a:ln w="0">
            <a:noFill/>
          </a:ln>
        </p:spPr>
      </p:pic>
      <p:sp>
        <p:nvSpPr>
          <p:cNvPr id="258" name="Дата 3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D905-9E25-4C91-AC47-EB4926D51715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ECA386E-7A06-417C-8B60-EB066153251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12"/>
          <p:cNvSpPr/>
          <p:nvPr/>
        </p:nvSpPr>
        <p:spPr>
          <a:xfrm>
            <a:off x="5099040" y="155736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8"/>
          <p:cNvSpPr/>
          <p:nvPr/>
        </p:nvSpPr>
        <p:spPr>
          <a:xfrm>
            <a:off x="5135400" y="1549440"/>
            <a:ext cx="3156120" cy="1440"/>
          </a:xfrm>
          <a:prstGeom prst="line">
            <a:avLst/>
          </a:prstGeom>
          <a:ln w="1260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tle 1"/>
          <p:cNvSpPr/>
          <p:nvPr/>
        </p:nvSpPr>
        <p:spPr>
          <a:xfrm>
            <a:off x="395280" y="1351080"/>
            <a:ext cx="4159080" cy="243828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3f2e9"/>
                </a:solidFill>
                <a:latin typeface="Arial"/>
              </a:rPr>
              <a:t>ВИЭ и экологический взгляд на энергетику 20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5"/>
          <p:cNvSpPr/>
          <p:nvPr/>
        </p:nvSpPr>
        <p:spPr>
          <a:xfrm flipV="1">
            <a:off x="425520" y="3565080"/>
            <a:ext cx="4128840" cy="180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1"/>
          <p:cNvSpPr/>
          <p:nvPr/>
        </p:nvSpPr>
        <p:spPr>
          <a:xfrm>
            <a:off x="378000" y="3803760"/>
            <a:ext cx="3186000" cy="287964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exey Koko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WF Russia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kokorin@wwf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3f2e9"/>
                </a:solidFill>
                <a:latin typeface="Arial"/>
              </a:rPr>
              <a:t>20 February </a:t>
            </a:r>
            <a:r>
              <a:rPr b="1" lang="ru-RU" sz="1800" spc="-1" strike="noStrike">
                <a:solidFill>
                  <a:srgbClr val="f3f2e9"/>
                </a:solidFill>
                <a:latin typeface="Arial"/>
              </a:rPr>
              <a:t>20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le 1"/>
          <p:cNvSpPr/>
          <p:nvPr/>
        </p:nvSpPr>
        <p:spPr>
          <a:xfrm>
            <a:off x="378000" y="1052640"/>
            <a:ext cx="4595760" cy="28098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arsaw outcomes: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 conclusions and consequences in EECCA reg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 flipV="1">
            <a:off x="378000" y="3824280"/>
            <a:ext cx="4128840" cy="1440"/>
          </a:xfrm>
          <a:prstGeom prst="line">
            <a:avLst/>
          </a:prstGeom>
          <a:ln w="25560">
            <a:solidFill>
              <a:srgbClr val="f3f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CB9B-3CF6-4F1E-887B-8ADD56DDC9B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B6F22A93-6857-4AE7-851A-24FD80D4B9B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2"/>
          <p:cNvSpPr/>
          <p:nvPr/>
        </p:nvSpPr>
        <p:spPr>
          <a:xfrm>
            <a:off x="826920" y="1415880"/>
            <a:ext cx="822024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tle 1"/>
          <p:cNvSpPr/>
          <p:nvPr/>
        </p:nvSpPr>
        <p:spPr>
          <a:xfrm>
            <a:off x="485640" y="1557360"/>
            <a:ext cx="83487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ы «исторической ответственности», выбросов на душу населения и т.п.  в 2015 г. применены быть не могут, но НПО должны их отста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 категорически против навязывания обязательств извне (т.к. цели – внутренние цели развития + межд. развитие их бизне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pledge and review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в данном контек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я до 2020 г.  по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правлению 2 Дурбанской платформы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шь национальные корректировки в пределах «Спектра 1», но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ПО должны настаивать на большем и добиваться максим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itle 1"/>
          <p:cNvSpPr/>
          <p:nvPr/>
        </p:nvSpPr>
        <p:spPr>
          <a:xfrm>
            <a:off x="826920" y="23760"/>
            <a:ext cx="8317080" cy="13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ложность распределения обязательств «сверху-вниз» от глобальной цели к обязательствам ст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CDE1-F696-4C77-BBAA-AA5C4CBC323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0C912A5B-DF43-4AD4-B49F-E338E2BA0B67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12"/>
          <p:cNvSpPr/>
          <p:nvPr/>
        </p:nvSpPr>
        <p:spPr>
          <a:xfrm>
            <a:off x="836640" y="907920"/>
            <a:ext cx="821988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itle 1"/>
          <p:cNvSpPr/>
          <p:nvPr/>
        </p:nvSpPr>
        <p:spPr>
          <a:xfrm>
            <a:off x="376200" y="1197000"/>
            <a:ext cx="86914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ля внутренних целей крупных стран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обальная система торговли не нужна, тольк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ее (региональное) регулирова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е более (т.к. цели – внутренние цели развития + межд. развитие их бизнеса). «Закупать» квоты за рубежом никто не собирается (только, если в зачет О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шнего контроля крупные страны (никакие) не хот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сии, Украине, Беларуси, Казахстане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прогресс возможен только в национальных системах, отвечающих международным требованиям отчетности и контро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ПО должны содействовать движению в данном напр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itle 1"/>
          <p:cNvSpPr/>
          <p:nvPr/>
        </p:nvSpPr>
        <p:spPr>
          <a:xfrm>
            <a:off x="684360" y="189000"/>
            <a:ext cx="8459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обальная система «контроля» и торговли !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FA65-96A9-47B5-BCBE-3E99E7D9980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33D9FB52-256A-48F3-ADB9-B22DB4C8DC7A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893880" y="804960"/>
            <a:ext cx="8219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itle 1"/>
          <p:cNvSpPr/>
          <p:nvPr/>
        </p:nvSpPr>
        <p:spPr>
          <a:xfrm>
            <a:off x="287280" y="1052640"/>
            <a:ext cx="88124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Финансовый поток во </a:t>
            </a:r>
            <a:r>
              <a:rPr b="1" i="1" lang="ru-RU" sz="2000" spc="-1" strike="noStrike">
                <a:solidFill>
                  <a:srgbClr val="3e03fb"/>
                </a:solidFill>
                <a:latin typeface="Arial"/>
              </a:rPr>
              <a:t>все фонды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как Официальная помощь развитию развивающихся стр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сия «добровольный» донор. Получение средств невозможно ни при каких обязательствах по выбросам и ни при каком подсчете роли лесов, водохранилищ, морей +…. Наша задача это объяс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хстан: «пока» получатель, важно сохранить стату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Annex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ларусь и Украина: не получатели по РКИК, но получатели ОПР, есть возможности, но «политическ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ыргызстан, Таджикистан: приоритетные получатели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 Inco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льные страны: получатели, надо по максимуму использовать все большие возможности, сотрудничать с новыми фондами, …. 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Но… дело не быстрое и это не «халява» – наша задача объяснить и по максимуму участв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itle 1"/>
          <p:cNvSpPr/>
          <p:nvPr/>
        </p:nvSpPr>
        <p:spPr>
          <a:xfrm>
            <a:off x="826920" y="189000"/>
            <a:ext cx="8137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Финансы только как О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5DB2-9F3B-4909-A237-477DFFE3D01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ED891CD4-E60E-4145-84E5-6810351A4865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2"/>
          <p:cNvSpPr/>
          <p:nvPr/>
        </p:nvSpPr>
        <p:spPr>
          <a:xfrm>
            <a:off x="782640" y="11462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itle 1"/>
          <p:cNvSpPr/>
          <p:nvPr/>
        </p:nvSpPr>
        <p:spPr>
          <a:xfrm>
            <a:off x="458640" y="1268280"/>
            <a:ext cx="854424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ss and Damag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ханизм принят, но «низведен» до консультатив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D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«перегружен» Латинской Америкой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ateralism !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аптационный фонд К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Зеленый климатический фонд (ГЭФ-2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Японский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Joint Carbon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робийская программа для 48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DCs (NA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NAMA (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егистр +… главное двусторонние связи…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Роль НПО объяснять, содействовать, участвовать,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tle 1"/>
          <p:cNvSpPr/>
          <p:nvPr/>
        </p:nvSpPr>
        <p:spPr>
          <a:xfrm>
            <a:off x="971640" y="176040"/>
            <a:ext cx="8172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Действия РКИК вне Дурбанской плат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E045-9C0E-457A-B2F2-93D491C150C2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F192D8E-89EA-4636-9D50-B4A1276DEDD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12"/>
          <p:cNvSpPr/>
          <p:nvPr/>
        </p:nvSpPr>
        <p:spPr>
          <a:xfrm>
            <a:off x="782640" y="907920"/>
            <a:ext cx="822024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itle 1"/>
          <p:cNvSpPr/>
          <p:nvPr/>
        </p:nvSpPr>
        <p:spPr>
          <a:xfrm>
            <a:off x="458640" y="1052640"/>
            <a:ext cx="85442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авка России к РКИК ООН по добровольному периодическому пересмотру Приложений 1 и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ожение России и Беларуси по рассмотрению процесса принятия решений в РКИК О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ложение Казахстана по применимости пункт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хийск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равки к Киотскому протоколу к условиям Казахс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Роль НПО объяснять, что это, увы,  «риторические» дебаты, только действенное новое соглашение может решить 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ические вопросы Киото-2 (важно для Укра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чее: поправки, Киото 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58A3-1163-4675-842F-05B051B9880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5BE46A83-8EAC-4E55-814C-2EE13CFAA28B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12"/>
          <p:cNvSpPr/>
          <p:nvPr/>
        </p:nvSpPr>
        <p:spPr>
          <a:xfrm>
            <a:off x="782640" y="9320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tle 1"/>
          <p:cNvSpPr/>
          <p:nvPr/>
        </p:nvSpPr>
        <p:spPr>
          <a:xfrm>
            <a:off x="347760" y="1052640"/>
            <a:ext cx="854532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Сильно зависят от контекста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Росси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е допустить блокирования переговоров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В СМИ для РФ на 2030 г. требовать «минус 40» (без лесов),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спертном сообществе «-35», реальная цель «-30», но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о не допусти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удшего - «минус 25, 20…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Добиваться отдельной цели РФ по антропогенном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лощен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сными и прочими экосистем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Добиваться в РКИК учета управляемых лесов,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пускающего подтасо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Добиваться международной обязательности наличия в стра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ы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четности-регулирования-мониторинг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рос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никовых газ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Требовать ее введения на национальном уровне в ближайши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 года, с открытой обязательной отчетностью и охватом н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нее 20% выбросов С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дальше больше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tle 1"/>
          <p:cNvSpPr/>
          <p:nvPr/>
        </p:nvSpPr>
        <p:spPr>
          <a:xfrm>
            <a:off x="900000" y="176040"/>
            <a:ext cx="79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озможные действия НПО стран ВЕКЦА в РКИК О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D03D-93D9-467A-A0F5-6B95A6B731C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F5E4C970-ACA4-4EE1-96C6-26311B128028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itle 1"/>
          <p:cNvSpPr/>
          <p:nvPr/>
        </p:nvSpPr>
        <p:spPr>
          <a:xfrm>
            <a:off x="598320" y="907920"/>
            <a:ext cx="8545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IPCC AR5 WG1-2-3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- пропаганда успешно ведется, пик апрель-м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G8/20 ???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, май-ию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BKM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Summit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, сентябрь </a:t>
            </a:r>
            <a:r>
              <a:rPr b="1" lang="en-US" sz="2000" spc="-1" strike="noStrike">
                <a:solidFill>
                  <a:srgbClr val="3e03fb"/>
                </a:solidFill>
                <a:latin typeface="Arial"/>
              </a:rPr>
              <a:t> - </a:t>
            </a: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«забавные случаи из нашей жизн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КС-20, декаб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Постоянная взаимная информационная поддержка, 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Национальные СМИ      Международные СМИ  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вместные действия ВЕКЦА в 201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4F18-77CE-46A2-8F5E-A0CC9FE7C3D3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58197D1-6C3C-4528-A978-17974B09663D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tle 1"/>
          <p:cNvSpPr/>
          <p:nvPr/>
        </p:nvSpPr>
        <p:spPr>
          <a:xfrm>
            <a:off x="598320" y="907920"/>
            <a:ext cx="854568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3e03fb"/>
                </a:solidFill>
                <a:latin typeface="Arial"/>
              </a:rPr>
              <a:t>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258920" y="176040"/>
            <a:ext cx="7634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овместные действия ВЕКЦА в 2014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IMG_5116"/>
          <p:cNvPicPr/>
          <p:nvPr/>
        </p:nvPicPr>
        <p:blipFill>
          <a:blip r:embed="rId1"/>
          <a:stretch/>
        </p:blipFill>
        <p:spPr>
          <a:xfrm>
            <a:off x="1679400" y="260280"/>
            <a:ext cx="7166160" cy="5373720"/>
          </a:xfrm>
          <a:prstGeom prst="rect">
            <a:avLst/>
          </a:prstGeom>
          <a:ln w="0">
            <a:noFill/>
          </a:ln>
        </p:spPr>
      </p:pic>
      <p:sp>
        <p:nvSpPr>
          <p:cNvPr id="356" name="Title 1"/>
          <p:cNvSpPr/>
          <p:nvPr/>
        </p:nvSpPr>
        <p:spPr>
          <a:xfrm>
            <a:off x="1692360" y="765000"/>
            <a:ext cx="60116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500" spc="-1" strike="noStrike">
                <a:solidFill>
                  <a:srgbClr val="3e03fb"/>
                </a:solidFill>
                <a:latin typeface="Arial"/>
              </a:rPr>
              <a:t>Thank you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468360" y="5781240"/>
            <a:ext cx="357336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3e03fb"/>
                </a:solidFill>
                <a:latin typeface="Arial"/>
              </a:rPr>
              <a:t>www.ww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1"/>
          <p:cNvSpPr/>
          <p:nvPr/>
        </p:nvSpPr>
        <p:spPr>
          <a:xfrm>
            <a:off x="360720" y="6256440"/>
            <a:ext cx="7912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08080"/>
                </a:solidFill>
                <a:latin typeface="Arial"/>
              </a:rPr>
              <a:t>© 2010, WWF. All photographs used in this presentation are copyright protected and courtesy of the WWF-Canon Global Photo Network and the respective photographer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Дата 1"/>
          <p:cNvSpPr/>
          <p:nvPr/>
        </p:nvSpPr>
        <p:spPr>
          <a:xfrm>
            <a:off x="7524720" y="6453360"/>
            <a:ext cx="14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2FC9-445C-4F0E-90D3-A4F0E752103F}" type="datetime3">
              <a:rPr b="0" lang="en-IE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000000"/>
                </a:solidFill>
                <a:latin typeface="Arial"/>
              </a:rPr>
              <a:t> - </a:t>
            </a:r>
            <a:fld id="{08D176E4-FBCE-4CB3-A808-709607CE4A8E}" type="slidenum">
              <a:rPr b="0" lang="en-I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754B-E988-4605-9320-581E753A104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B321AC7-5EAF-48EA-8F35-A1A5157C2E78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itle 1"/>
          <p:cNvSpPr/>
          <p:nvPr/>
        </p:nvSpPr>
        <p:spPr>
          <a:xfrm>
            <a:off x="2090880" y="177840"/>
            <a:ext cx="6270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economic-BAU is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12840" y="5373720"/>
            <a:ext cx="896760" cy="1382760"/>
          </a:xfrm>
          <a:prstGeom prst="rect">
            <a:avLst/>
          </a:prstGeom>
          <a:ln w="0">
            <a:noFill/>
          </a:ln>
        </p:spPr>
      </p:pic>
      <p:sp>
        <p:nvSpPr>
          <p:cNvPr id="365" name="Прямоугольник 2"/>
          <p:cNvSpPr/>
          <p:nvPr/>
        </p:nvSpPr>
        <p:spPr>
          <a:xfrm>
            <a:off x="1386000" y="6083280"/>
            <a:ext cx="762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928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Kokorin A.O., Gritsevich I.G., Gordeev D.S., 2013. Greenhouse Gas Emission Scenarios for Russia and Rest of the World. Review of Business and Economic Studies (ROBES), vol.1, issue 1, pp.55-66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http://www.fa.ru/projects/rbes/about/Pages/default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13"/>
          <p:cNvSpPr/>
          <p:nvPr/>
        </p:nvSpPr>
        <p:spPr>
          <a:xfrm>
            <a:off x="1427040" y="4581360"/>
            <a:ext cx="7570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2-E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Russian energy-sector СО2 emission in 2005–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no-new-technologies scenario (4% annual GDP growt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U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economically optimal introduction of new technologies; correlates to innovative scenario of MED for 2030,  without  any specific targets for GHG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— a BAU scenario with additional CO2 charges since 2020, rising from USD 15 to 80 per ton, which sets emission reduction target: 50% by 205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2"/>
          <a:stretch/>
        </p:blipFill>
        <p:spPr>
          <a:xfrm>
            <a:off x="1042920" y="749160"/>
            <a:ext cx="8101080" cy="365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AF20-A556-4562-97A5-615A5CCD784B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4213B164-D436-447B-A214-D48AAD3C2B43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itle 1"/>
          <p:cNvSpPr/>
          <p:nvPr/>
        </p:nvSpPr>
        <p:spPr>
          <a:xfrm>
            <a:off x="598320" y="968400"/>
            <a:ext cx="7947360" cy="26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пешно решаются важные, но второстепенные вопросы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D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др.), поток денег в развивающиеся страны растет…..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акого прогресса по новому соглашению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ПО вынуждены были предпринять Демарш – мы были бессильны изнутри повлиять на ситу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tle 1"/>
          <p:cNvSpPr/>
          <p:nvPr/>
        </p:nvSpPr>
        <p:spPr>
          <a:xfrm>
            <a:off x="2340000" y="1778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амый общий взгляд на КС-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itle 1"/>
          <p:cNvSpPr/>
          <p:nvPr/>
        </p:nvSpPr>
        <p:spPr>
          <a:xfrm>
            <a:off x="1335240" y="3645000"/>
            <a:ext cx="7561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ало делегатов встретили Демарш с понима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йкот не имеет смысла (уйдут «глаза и уши»), что только на руку многим делегациям (прессе одно, в столице другое, на КС делают третье….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ужна помощь НПО делегациям слабых и уязвимых стран и давление на делегации развитых и крупнейших развивающихся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4A9A-1E3D-4F36-85EB-168B3EC9D9A7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C6EE4314-3076-492F-9733-4B2F43240514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itle 1"/>
          <p:cNvSpPr/>
          <p:nvPr/>
        </p:nvSpPr>
        <p:spPr>
          <a:xfrm>
            <a:off x="1871640" y="1052640"/>
            <a:ext cx="7072200" cy="40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 dressing” on top political level ( UN , G8, G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 but not only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orts of small society of “climate optimists” to do good steps in practice …..there are achievements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tional support of global “climate optimists” is 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Most timely is promotion of domestic C-tools for energy efficiency, new technologies and sustainable fore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tle 1"/>
          <p:cNvSpPr/>
          <p:nvPr/>
        </p:nvSpPr>
        <p:spPr>
          <a:xfrm>
            <a:off x="1042920" y="189000"/>
            <a:ext cx="790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 the result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itle 1"/>
          <p:cNvSpPr/>
          <p:nvPr/>
        </p:nvSpPr>
        <p:spPr>
          <a:xfrm>
            <a:off x="1547640" y="6237360"/>
            <a:ext cx="7488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okorin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, Korppoo A., 2013  Russia’s Post-Kyoto Climate Policy Real Action or Merely Window-Dressing? FNI Climate Policy Perspectives 10 May 2013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fni.n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perspectives.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68280" y="5140440"/>
            <a:ext cx="1111320" cy="157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90F4-4DCE-44D3-A662-38F78A873845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1B3C661D-EAC0-4F8E-A438-0A3713E6AF89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2"/>
          <p:cNvSpPr/>
          <p:nvPr/>
        </p:nvSpPr>
        <p:spPr>
          <a:xfrm>
            <a:off x="923760" y="83664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le 1"/>
          <p:cNvSpPr/>
          <p:nvPr/>
        </p:nvSpPr>
        <p:spPr>
          <a:xfrm>
            <a:off x="598320" y="968400"/>
            <a:ext cx="79473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проблемы подготовки нового глобального согла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вные документы (решения) конфер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йствия по поддержке климатических проектов в развивающихся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чее: поправки, Киото 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3e03fb"/>
                </a:solidFill>
                <a:latin typeface="Arial"/>
              </a:rPr>
              <a:t>Наши возможные действия в 201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2340000" y="17784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лан обсужд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8209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бъемы и рост выбросов парниковых газов определяются, прежде всего, крупнейшими развивающимися стран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123840" y="1268280"/>
            <a:ext cx="7832880" cy="4032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7308720" y="4665600"/>
            <a:ext cx="1785960" cy="20988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"/>
          <p:cNvSpPr/>
          <p:nvPr/>
        </p:nvSpPr>
        <p:spPr>
          <a:xfrm>
            <a:off x="179280" y="5373720"/>
            <a:ext cx="69138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, Индия не знают как «привести мир» к 50% снижению выбросов к 2050 г. и исключают из документов все численные параметры глобального снижения выб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C08A-321B-4FF5-B6BB-5B4824AA1928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81847D9-9623-4016-921E-BAEB4BD0BC81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traight Connector 12"/>
          <p:cNvSpPr/>
          <p:nvPr/>
        </p:nvSpPr>
        <p:spPr>
          <a:xfrm>
            <a:off x="946080" y="119700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tle 1"/>
          <p:cNvSpPr/>
          <p:nvPr/>
        </p:nvSpPr>
        <p:spPr>
          <a:xfrm>
            <a:off x="600120" y="1341360"/>
            <a:ext cx="8348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ейшие стран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гото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нижать выбросы, только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гда это совпад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х планам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недрения технологий на территории стран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ценар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ез специальных климатических действ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и уже «верят»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изменения климата антропогенные, сильные и негативные для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ни еще не имеют экономической альтернатив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рупных стран нет расчетов конкретного ущерба от изменений климата в 2030 г., в 2050 г. ,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2070 г. и т.п.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четы есть для малых и уязвимых государ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3e03fb"/>
                </a:solidFill>
                <a:latin typeface="Arial"/>
              </a:rPr>
              <a:t>No big risk, no big deals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itle 1"/>
          <p:cNvSpPr/>
          <p:nvPr/>
        </p:nvSpPr>
        <p:spPr>
          <a:xfrm>
            <a:off x="1042920" y="189000"/>
            <a:ext cx="79009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упнейшие страны дают предложения на 2020 и 2030 г. близкие 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"/>
          <p:cNvPicPr/>
          <p:nvPr/>
        </p:nvPicPr>
        <p:blipFill>
          <a:blip r:embed="rId1"/>
          <a:stretch/>
        </p:blipFill>
        <p:spPr>
          <a:xfrm>
            <a:off x="154080" y="895320"/>
            <a:ext cx="9005760" cy="4837320"/>
          </a:xfrm>
          <a:prstGeom prst="rect">
            <a:avLst/>
          </a:prstGeom>
          <a:ln w="0">
            <a:noFill/>
          </a:ln>
        </p:spPr>
      </p:pic>
      <p:sp>
        <p:nvSpPr>
          <p:cNvPr id="289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98D-3A60-4D9E-A16D-AE4354AA36C9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8E6511BC-626E-4BC3-8325-8CB029433D14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itle 1"/>
          <p:cNvSpPr/>
          <p:nvPr/>
        </p:nvSpPr>
        <p:spPr>
          <a:xfrm>
            <a:off x="1187280" y="20520"/>
            <a:ext cx="7716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0720"/>
                <a:tab algn="l" pos="900000"/>
                <a:tab algn="l" pos="1349280"/>
                <a:tab algn="l" pos="2249640"/>
                <a:tab algn="l" pos="2700360"/>
                <a:tab algn="l" pos="3149640"/>
                <a:tab algn="l" pos="3600360"/>
                <a:tab algn="l" pos="4049640"/>
                <a:tab algn="l" pos="4500720"/>
                <a:tab algn="l" pos="4950000"/>
                <a:tab algn="l" pos="5400720"/>
                <a:tab algn="l" pos="58500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Arial"/>
              </a:rPr>
              <a:t>Удельные выбросы парниковых газов к 2020 г.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тСО</a:t>
            </a:r>
            <a:r>
              <a:rPr b="1" lang="ru-RU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млрд.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US$2005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GDP(PPP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2"/>
          <p:cNvSpPr/>
          <p:nvPr/>
        </p:nvSpPr>
        <p:spPr>
          <a:xfrm>
            <a:off x="684360" y="1536840"/>
            <a:ext cx="821988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138240" y="5732640"/>
            <a:ext cx="903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росы парниковых газов в страна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C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ЕС и США: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990 – 2010 - 202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чник: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Emissions Gap Report 2012 A UNEP Synthesis Report. November 2012.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unep.org/publications/ebooks/emissionsgap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5C62-46CA-49BE-ADC0-E8A030FACADC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5B06E9C-C4DE-4EF8-8DF7-BDB70C2DCD22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2"/>
          <p:cNvSpPr/>
          <p:nvPr/>
        </p:nvSpPr>
        <p:spPr>
          <a:xfrm>
            <a:off x="890640" y="981000"/>
            <a:ext cx="8219880" cy="180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1109520" y="177840"/>
            <a:ext cx="7783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matic plot of Russia’s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mission for three types of scenarios (excl. net 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bsorption by fores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312840" y="5373720"/>
            <a:ext cx="896760" cy="1382760"/>
          </a:xfrm>
          <a:prstGeom prst="rect">
            <a:avLst/>
          </a:prstGeom>
          <a:ln w="0">
            <a:noFill/>
          </a:ln>
        </p:spPr>
      </p:pic>
      <p:sp>
        <p:nvSpPr>
          <p:cNvPr id="300" name="Прямоугольник 2"/>
          <p:cNvSpPr/>
          <p:nvPr/>
        </p:nvSpPr>
        <p:spPr>
          <a:xfrm>
            <a:off x="1386000" y="6083280"/>
            <a:ext cx="7626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9280"/>
                <a:tab algn="l" pos="2249640"/>
                <a:tab algn="l" pos="2698920"/>
                <a:tab algn="l" pos="3149640"/>
                <a:tab algn="l" pos="3598920"/>
                <a:tab algn="l" pos="4049640"/>
                <a:tab algn="l" pos="4498920"/>
                <a:tab algn="l" pos="4950000"/>
                <a:tab algn="l" pos="5398920"/>
                <a:tab algn="l" pos="5850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Kokorin A.O., Gritsevich I.G., Gordeev D.S., 2013. Greenhouse Gas Emission Scenarios for Russia and Rest of the World. Review of Business and Economic Studies (ROBES), vol.1, issue 1, pp.55-66.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Calibri"/>
              </a:rPr>
              <a:t>http://www.fa.ru/projects/rbes/about/Pages/default.asp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3"/>
          <p:cNvSpPr/>
          <p:nvPr/>
        </p:nvSpPr>
        <p:spPr>
          <a:xfrm>
            <a:off x="3919680" y="1089000"/>
            <a:ext cx="4976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1 — “optimal “development of the economy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xclusive of the need for special reduction of the CO2 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85680" y="1612800"/>
            <a:ext cx="7777080" cy="363240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1"/>
          <p:cNvSpPr/>
          <p:nvPr/>
        </p:nvSpPr>
        <p:spPr>
          <a:xfrm>
            <a:off x="4475160" y="5241960"/>
            <a:ext cx="453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2 — achieving  an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imperative goal of mandatory reduction of CO2 e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3"/>
          <p:cNvSpPr/>
          <p:nvPr/>
        </p:nvSpPr>
        <p:spPr>
          <a:xfrm>
            <a:off x="7642080" y="1747800"/>
            <a:ext cx="14684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nge  3 — </a:t>
            </a: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optimal to minimize overall co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of CO2 emission reduc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costs of adapt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e03fb"/>
                </a:solidFill>
                <a:latin typeface="Arial"/>
              </a:rPr>
              <a:t>damage caused by climate chan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7E9D-B592-4C6A-8258-54D7EEE47C21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9DBB4D95-1DB7-41B8-8BDC-EE532436D958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>
            <a:off x="923760" y="96696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684360" y="177840"/>
            <a:ext cx="845964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авные проблемы подготовки нового глобального соглашения (Направление 1 ДП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54000" y="4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395280" y="1125360"/>
            <a:ext cx="86788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вершенно иная, чем при принятии Кио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биться от крупнейших стран значительного усиления своих национальных целе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чень сложно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можно (пример ЕС) 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добиваться нижней границы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«спектра №1»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ут будут и союзники из бизнеса…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Достижение должного объема и целевого использования климатического финанс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тые стран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igation 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(глобальное влияние, част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, кредиты, ….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ивающиеся страны – адаптация, (ликвидация бедности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нты, …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хождение баланса - «финансы – сокращение выбросов» главная проблема выработки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Дата 1"/>
          <p:cNvSpPr/>
          <p:nvPr/>
        </p:nvSpPr>
        <p:spPr>
          <a:xfrm>
            <a:off x="7524720" y="630864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0BE8-EDC8-49ED-9DDC-59019860D590}" type="datetime3">
              <a:rPr b="0" lang="en-IE" sz="800" spc="-1" strike="noStrike">
                <a:solidFill>
                  <a:srgbClr val="ffffff"/>
                </a:solidFill>
                <a:latin typeface="Arial"/>
              </a:rPr>
              <a:t>28 July 2026</a:t>
            </a:fld>
            <a:r>
              <a:rPr b="0" lang="en-IE" sz="800" spc="-1" strike="noStrike">
                <a:solidFill>
                  <a:srgbClr val="ffffff"/>
                </a:solidFill>
                <a:latin typeface="Arial"/>
              </a:rPr>
              <a:t> - </a:t>
            </a:r>
            <a:fld id="{643E9988-24D9-477D-8EFC-76C093487BDF}" type="slidenum">
              <a:rPr b="0" lang="en-IE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2"/>
          <p:cNvSpPr/>
          <p:nvPr/>
        </p:nvSpPr>
        <p:spPr>
          <a:xfrm>
            <a:off x="923760" y="966960"/>
            <a:ext cx="8220240" cy="144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4"/>
          <p:cNvSpPr/>
          <p:nvPr/>
        </p:nvSpPr>
        <p:spPr>
          <a:xfrm>
            <a:off x="0" y="0"/>
            <a:ext cx="108000" cy="6858000"/>
          </a:xfrm>
          <a:prstGeom prst="rect">
            <a:avLst/>
          </a:prstGeom>
          <a:solidFill>
            <a:srgbClr val="3e0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itle 1"/>
          <p:cNvSpPr/>
          <p:nvPr/>
        </p:nvSpPr>
        <p:spPr>
          <a:xfrm>
            <a:off x="923760" y="177840"/>
            <a:ext cx="77518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Главные проблемы подготовки нового глобального соглашения ( 1 ДП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4000" y="44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tle 1"/>
          <p:cNvSpPr/>
          <p:nvPr/>
        </p:nvSpPr>
        <p:spPr>
          <a:xfrm>
            <a:off x="395280" y="1125360"/>
            <a:ext cx="86788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ts val="2500"/>
              </a:lnSpc>
              <a:buClr>
                <a:srgbClr val="c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США – правовая форма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компромисс? Нужно ли ратифицируемое соглашение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шение без США не имеет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стойкое нежелание ряда наиболее богатых «развивающихся» стран (Саудовская Аравия, Катар, Сингапур и т.п.) брать на себя ответственность, соответствующую их уровню разви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c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5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5T08:08:51Z</dcterms:created>
  <dc:creator>Mikolein Roorda</dc:creator>
  <dc:description/>
  <dc:language>en-US</dc:language>
  <cp:lastModifiedBy>Grygorii Kolomytsev</cp:lastModifiedBy>
  <cp:lastPrinted>2014-02-13T15:25:04Z</cp:lastPrinted>
  <dcterms:modified xsi:type="dcterms:W3CDTF">2014-03-20T20:22:22Z</dcterms:modified>
  <cp:revision>323</cp:revision>
  <dc:subject/>
  <dc:title>Slide 1</dc:title>
</cp:coreProperties>
</file>