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9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0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1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4E38-1507-4889-B974-EB84F28A9849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9C0B-66BF-4C72-90FC-3D3E124E8E8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60B1-EC8E-4095-A002-911CEFA3F43A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B58A-5354-4E71-9F30-CA65DF7B8AB2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8CDF-48CB-40B1-9593-A84238B10CE2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70AD-B5B8-443E-A1C0-9F827D017BA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8B3E-C733-4328-942F-6A14B395DCF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D49B-85B8-4758-A722-EAEFFD177B59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460B-CB74-440A-AEBD-655401237E9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AB61-E802-45AB-904F-5C9055DC00D6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D32-D0F5-4D09-B561-51DCB426038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8F6B-D08E-4006-812E-ECDE8B7C39E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8521-53E0-4E05-AAE7-80C452684BDA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4027-9E70-46FE-8A1B-8F5C93254719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3EA-781A-4B65-ACAF-AADAAD5C88E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E3CC-ED40-4432-B5D8-3588B54F49D9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AF15-C3D2-458E-A8EE-7BB417F9FD7A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F532-A309-4D4C-8F76-79C30CA5857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83E-4449-4CE3-8015-4C66370A30F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FC7B-53FA-418D-9A02-5ABBD682F4E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234B-DBDD-4359-A57C-1E6C7C75628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3763D-B604-43DA-A1CE-9F732DD1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2C4E0-E16B-424E-A4B2-0340C922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8A256-091C-4B89-B724-46F66945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1E575B-D503-4F8A-BBBE-708C7AC9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C5AF4-94E2-4BEE-984C-32C313C1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5AB48-E973-41E4-B59C-2A07E016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FCF0A-03DA-4F7E-BD3C-30E7ACDE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CFF14-92CB-45EE-821E-DE549DC2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7528D1-F6A3-46C3-8936-0AB85083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31FF9E-7370-4F4F-8F23-87350714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BC5BF-C74D-4116-B9F0-D683ACB0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384CD-53D4-4B98-9B4C-ECE3EB1B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635040" y="666756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0"/>
            <a:ext cx="800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6"/>
          <p:cNvSpPr/>
          <p:nvPr/>
        </p:nvSpPr>
        <p:spPr>
          <a:xfrm>
            <a:off x="635040" y="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 flipH="1">
            <a:off x="8978040" y="0"/>
            <a:ext cx="21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524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1871-08B0-4854-BD83-15E7173A312A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D4A9A4FA-A15F-4D71-A23C-52C485FEF810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7c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7524720" y="641304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8CA8-4DBF-4F9A-BF57-37CC3310F514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1835280" y="0"/>
            <a:ext cx="7308720" cy="573264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0"/>
            <a:ext cx="127080" cy="6858000"/>
          </a:xfrm>
          <a:prstGeom prst="rect">
            <a:avLst/>
          </a:prstGeom>
          <a:solidFill>
            <a:srgbClr val="f3f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4"/>
          <p:cNvSpPr/>
          <p:nvPr/>
        </p:nvSpPr>
        <p:spPr>
          <a:xfrm>
            <a:off x="1171440" y="6261120"/>
            <a:ext cx="761688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0"/>
            <a:ext cx="800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635040" y="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635040" y="666756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 flipH="1">
            <a:off x="8978040" y="0"/>
            <a:ext cx="21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7524720" y="627804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507F-7513-4AA8-8A8F-049B4D0D8739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EC86ED7C-8819-441F-96F9-D498F5CF946B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11"/>
          <p:cNvSpPr/>
          <p:nvPr/>
        </p:nvSpPr>
        <p:spPr>
          <a:xfrm>
            <a:off x="441360" y="6451560"/>
            <a:ext cx="838512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dt" idx="4"/>
          </p:nvPr>
        </p:nvSpPr>
        <p:spPr>
          <a:xfrm>
            <a:off x="7524720" y="6453360"/>
            <a:ext cx="1440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1F5-6E70-4343-9594-CDCCA1702D05}" type="datetime3">
              <a:rPr b="0" lang="en-IE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 - </a:t>
            </a:r>
            <a:fld id="{C66AF62D-C471-4507-ABA4-9117EC7B21E3}" type="slidenum">
              <a:rPr b="0" lang="en-I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2D47-889A-4EE7-8687-3DDFB272E8C3}" type="datetime3">
              <a:rPr b="0" lang="en-IE" sz="14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81E3-D183-4F3E-BE6B-222FF5C19D04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7"/>
          <p:cNvSpPr/>
          <p:nvPr/>
        </p:nvSpPr>
        <p:spPr>
          <a:xfrm>
            <a:off x="635040" y="666756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0" y="0"/>
            <a:ext cx="800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635040" y="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 flipH="1">
            <a:off x="8978040" y="0"/>
            <a:ext cx="21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8"/>
          </p:nvPr>
        </p:nvSpPr>
        <p:spPr>
          <a:xfrm>
            <a:off x="7524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AB0A-A63B-430F-B0E3-F45E824A1E6E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92061AAD-413E-4D0F-925F-73A15ABFBFD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7c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9" descr="C:\Users\akokorin\Desktop\зеленый-мир-карта.jpg"/>
          <p:cNvPicPr/>
          <p:nvPr/>
        </p:nvPicPr>
        <p:blipFill>
          <a:blip r:embed="rId1"/>
          <a:stretch/>
        </p:blipFill>
        <p:spPr>
          <a:xfrm>
            <a:off x="1042920" y="1052640"/>
            <a:ext cx="7859880" cy="5545080"/>
          </a:xfrm>
          <a:prstGeom prst="rect">
            <a:avLst/>
          </a:prstGeom>
          <a:ln w="0">
            <a:noFill/>
          </a:ln>
        </p:spPr>
      </p:pic>
      <p:sp>
        <p:nvSpPr>
          <p:cNvPr id="258" name="Дата 3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B7FD-E64D-4573-979C-C135D096D133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EC01B204-610C-4D21-A0A5-155496DAB302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12"/>
          <p:cNvSpPr/>
          <p:nvPr/>
        </p:nvSpPr>
        <p:spPr>
          <a:xfrm>
            <a:off x="5099040" y="1557360"/>
            <a:ext cx="3156120" cy="1440"/>
          </a:xfrm>
          <a:prstGeom prst="line">
            <a:avLst/>
          </a:prstGeom>
          <a:ln w="1260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8"/>
          <p:cNvSpPr/>
          <p:nvPr/>
        </p:nvSpPr>
        <p:spPr>
          <a:xfrm>
            <a:off x="5135400" y="1549440"/>
            <a:ext cx="3156120" cy="1440"/>
          </a:xfrm>
          <a:prstGeom prst="line">
            <a:avLst/>
          </a:prstGeom>
          <a:ln w="1260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tle 1"/>
          <p:cNvSpPr/>
          <p:nvPr/>
        </p:nvSpPr>
        <p:spPr>
          <a:xfrm>
            <a:off x="395280" y="1351080"/>
            <a:ext cx="4159080" cy="243828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3f2e9"/>
                </a:solidFill>
                <a:latin typeface="Arial"/>
              </a:rPr>
              <a:t>ВИЭ и экологический взгляд на энергетику 20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5"/>
          <p:cNvSpPr/>
          <p:nvPr/>
        </p:nvSpPr>
        <p:spPr>
          <a:xfrm flipV="1">
            <a:off x="425520" y="3565080"/>
            <a:ext cx="4128840" cy="1800"/>
          </a:xfrm>
          <a:prstGeom prst="line">
            <a:avLst/>
          </a:prstGeom>
          <a:ln w="2556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378000" y="3803760"/>
            <a:ext cx="3186000" cy="287964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exey Koko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WF Russi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kokorin@ww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3f2e9"/>
                </a:solidFill>
                <a:latin typeface="Arial"/>
              </a:rPr>
              <a:t>20 February </a:t>
            </a:r>
            <a:r>
              <a:rPr b="1" lang="ru-RU" sz="1800" spc="-1" strike="noStrike">
                <a:solidFill>
                  <a:srgbClr val="f3f2e9"/>
                </a:solidFill>
                <a:latin typeface="Arial"/>
              </a:rPr>
              <a:t>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le 1"/>
          <p:cNvSpPr/>
          <p:nvPr/>
        </p:nvSpPr>
        <p:spPr>
          <a:xfrm>
            <a:off x="378000" y="1052640"/>
            <a:ext cx="4595760" cy="28098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rsaw outcomes: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conclusions and consequences in EECCA re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 flipV="1">
            <a:off x="378000" y="3824280"/>
            <a:ext cx="4128840" cy="1440"/>
          </a:xfrm>
          <a:prstGeom prst="line">
            <a:avLst/>
          </a:prstGeom>
          <a:ln w="2556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F4DC-7E77-4EBA-AE9B-6C4AE5D455C7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AEDFC70D-F36C-4F23-AF64-B9767C2DD9C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12"/>
          <p:cNvSpPr/>
          <p:nvPr/>
        </p:nvSpPr>
        <p:spPr>
          <a:xfrm>
            <a:off x="826920" y="1415880"/>
            <a:ext cx="822024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tle 1"/>
          <p:cNvSpPr/>
          <p:nvPr/>
        </p:nvSpPr>
        <p:spPr>
          <a:xfrm>
            <a:off x="485640" y="1557360"/>
            <a:ext cx="8348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ходы «исторической ответственности», выбросов на душу населения и т.п.  в 2015 г. применены быть не могут, но НПО должны их отста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ы категорически против навязывания обязательств извне (т.к. цели – внутренние цели развития + межд. развитие их бизне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х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pledge and revie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в данном контек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йствия до 2020 г.  по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правлению 2 Дурбанской платформы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шь национальные корректировки в пределах «Спектра 1», но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НПО должны настаивать на большем и добиваться максим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itle 1"/>
          <p:cNvSpPr/>
          <p:nvPr/>
        </p:nvSpPr>
        <p:spPr>
          <a:xfrm>
            <a:off x="826920" y="23760"/>
            <a:ext cx="831708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ложность распределения обязательств «сверху-вниз» от глобальной цели к обязательствам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F222-F91F-4C93-A17F-45B9FEB0CFF2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AB2D3C40-76F7-4057-BCCD-EB5C9D15E54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12"/>
          <p:cNvSpPr/>
          <p:nvPr/>
        </p:nvSpPr>
        <p:spPr>
          <a:xfrm>
            <a:off x="836640" y="907920"/>
            <a:ext cx="821988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376200" y="1197000"/>
            <a:ext cx="8691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ля внутренних целей крупных стран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обальная система торговли не нужна, тольк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ее (региональное) регулиро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е более (т.к. цели – внутренние цели развития + межд. развитие их бизнеса). «Закупать» квоты за рубежом никто не собирается (только, если в зачет О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шнего контроля крупные страны (никакие) не хот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оссии, Украине, Беларуси, Казахстане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прогресс возможен только в национальных системах, отвечающих международным требованиям отчетности и контро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НПО должны содействовать движению в данном на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tle 1"/>
          <p:cNvSpPr/>
          <p:nvPr/>
        </p:nvSpPr>
        <p:spPr>
          <a:xfrm>
            <a:off x="684360" y="189000"/>
            <a:ext cx="845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лобальная система «контроля» и торговли 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17C9-C478-4B09-AF63-F1817967A14C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D53CE6B4-2A90-49E7-A595-A43ECB0A0EA5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2"/>
          <p:cNvSpPr/>
          <p:nvPr/>
        </p:nvSpPr>
        <p:spPr>
          <a:xfrm>
            <a:off x="893880" y="804960"/>
            <a:ext cx="821988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287280" y="1052640"/>
            <a:ext cx="88124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Финансовый поток во </a:t>
            </a:r>
            <a:r>
              <a:rPr b="1" i="1" lang="ru-RU" sz="2000" spc="-1" strike="noStrike">
                <a:solidFill>
                  <a:srgbClr val="3e03fb"/>
                </a:solidFill>
                <a:latin typeface="Arial"/>
              </a:rPr>
              <a:t>все фонды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как Официальная помощь развитию развивающихся ст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 «добровольный» донор. Получение средств невозможно ни при каких обязательствах по выбросам и ни при каком подсчете роли лесов, водохранилищ, морей +…. Наша задача это объяс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хстан: «пока» получатель, важно сохранить стату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Annex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арусь и Украина: не получатели по РКИК, но получатели ОПР, есть возможности, но «политическ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ыргызстан, Таджикистан: приоритетные получател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Inc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льные страны: получатели, надо по максимуму использовать все большие возможности, сотрудничать с новыми фондами, …. 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Но… дело не быстрое и это не «халява» – наша задача объяснить и по максимуму уча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826920" y="189000"/>
            <a:ext cx="8137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инансы только как О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1917-24F3-4D8F-BFD3-4132E7B56273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443EFA96-31B9-4257-A830-2027F660E8E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2"/>
          <p:cNvSpPr/>
          <p:nvPr/>
        </p:nvSpPr>
        <p:spPr>
          <a:xfrm>
            <a:off x="782640" y="11462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itle 1"/>
          <p:cNvSpPr/>
          <p:nvPr/>
        </p:nvSpPr>
        <p:spPr>
          <a:xfrm>
            <a:off x="458640" y="1268280"/>
            <a:ext cx="854424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and Da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ханизм принят, но «низведен» до консультатив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D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«перегружен» Латинской Америко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ateralism !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аптационный фонд К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еленый климатический фонд (ГЭФ-2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Японский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Joint Carb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робийская программа для 48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Cs (NA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NAMA (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егистр +… главное двусторонние связи…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Роль НПО объяснять, содействовать, участвовать,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971640" y="176040"/>
            <a:ext cx="8172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йствия РКИК вне Дурбанской плат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B25A-57E3-4594-B444-3818FA3C031D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5158F28C-AE43-41D2-97A9-364EE6DA870F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12"/>
          <p:cNvSpPr/>
          <p:nvPr/>
        </p:nvSpPr>
        <p:spPr>
          <a:xfrm>
            <a:off x="782640" y="907920"/>
            <a:ext cx="822024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458640" y="1052640"/>
            <a:ext cx="85442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равка России к РКИК ООН по добровольному периодическому пересмотру Приложений 1 и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ложение России и Беларуси по рассмотрению процесса принятия решений в РКИК 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ложение Казахстана по применимости пунк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хийск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равки к Киотскому протоколу к условиям Казахст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Роль НПО объяснять, что это, увы,  «риторические» дебаты, только действенное новое соглашение может решить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ческие вопросы Киото-2 (важно для Украи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tle 1"/>
          <p:cNvSpPr/>
          <p:nvPr/>
        </p:nvSpPr>
        <p:spPr>
          <a:xfrm>
            <a:off x="1258920" y="176040"/>
            <a:ext cx="76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чее: поправки, Киото 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2CFE-021A-4946-BA05-145809858E40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18A3991D-E153-4EDE-ADD7-77AF94611F8A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12"/>
          <p:cNvSpPr/>
          <p:nvPr/>
        </p:nvSpPr>
        <p:spPr>
          <a:xfrm>
            <a:off x="782640" y="9320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tle 1"/>
          <p:cNvSpPr/>
          <p:nvPr/>
        </p:nvSpPr>
        <p:spPr>
          <a:xfrm>
            <a:off x="347760" y="1052640"/>
            <a:ext cx="85453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Сильно зависят от контекста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осси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е допустить блокирования переговоро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В СМИ для РФ на 2030 г. требовать «минус 40» (без лесов),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пертном сообществе «-35», реальная цель «-30», 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о не допусти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шего - «минус 25, 20…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Добиваться отдельной цели РФ по антропогенно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лощен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ыми и прочими экосистем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Добиваться в РКИК учета управляемых лесов, 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ускающего подтасо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Добиваться международной обязательности наличия в стра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четности-регулирования-мониторинг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ос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никовых га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Требовать ее введения на национальном уровне в ближайш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года, с открытой обязательной отчетностью и охватом 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е 20% выбросов СО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дальше больше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900000" y="176040"/>
            <a:ext cx="79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зможные действия НПО стран ВЕКЦА в РКИК О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2296-558E-490D-A588-F46709D3FAD2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F1B50F96-D53C-4049-AA84-F8D4AD0026E6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itle 1"/>
          <p:cNvSpPr/>
          <p:nvPr/>
        </p:nvSpPr>
        <p:spPr>
          <a:xfrm>
            <a:off x="598320" y="907920"/>
            <a:ext cx="85456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e03fb"/>
                </a:solidFill>
                <a:latin typeface="Arial"/>
              </a:rPr>
              <a:t>IPCC AR5 WG1-2-3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- пропаганда успешно ведется, пик апрель-м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e03fb"/>
                </a:solidFill>
                <a:latin typeface="Arial"/>
              </a:rPr>
              <a:t>G8/20 ???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, май-ию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e03fb"/>
                </a:solidFill>
                <a:latin typeface="Arial"/>
              </a:rPr>
              <a:t>BKM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e03fb"/>
                </a:solidFill>
                <a:latin typeface="Arial"/>
              </a:rPr>
              <a:t>Summit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, сентябрь </a:t>
            </a:r>
            <a:r>
              <a:rPr b="1" lang="en-US" sz="2000" spc="-1" strike="noStrike">
                <a:solidFill>
                  <a:srgbClr val="3e03fb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«забавные случаи из нашей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КС-20, дека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остоянная взаимная информационная поддержка,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Национальные СМИ      Международные СМИ  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itle 1"/>
          <p:cNvSpPr/>
          <p:nvPr/>
        </p:nvSpPr>
        <p:spPr>
          <a:xfrm>
            <a:off x="1258920" y="176040"/>
            <a:ext cx="76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овместные действия ВЕКЦА в 201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5A81-12D7-4798-9F82-EF2D6DB205E7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70C59250-843B-49B9-9892-9A0E36A19708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tle 1"/>
          <p:cNvSpPr/>
          <p:nvPr/>
        </p:nvSpPr>
        <p:spPr>
          <a:xfrm>
            <a:off x="598320" y="907920"/>
            <a:ext cx="85456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258920" y="176040"/>
            <a:ext cx="76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овместные действия ВЕКЦА в 201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IMG_5116"/>
          <p:cNvPicPr/>
          <p:nvPr/>
        </p:nvPicPr>
        <p:blipFill>
          <a:blip r:embed="rId1"/>
          <a:stretch/>
        </p:blipFill>
        <p:spPr>
          <a:xfrm>
            <a:off x="1679400" y="260280"/>
            <a:ext cx="7166160" cy="5373720"/>
          </a:xfrm>
          <a:prstGeom prst="rect">
            <a:avLst/>
          </a:prstGeom>
          <a:ln w="0">
            <a:noFill/>
          </a:ln>
        </p:spPr>
      </p:pic>
      <p:sp>
        <p:nvSpPr>
          <p:cNvPr id="356" name="Title 1"/>
          <p:cNvSpPr/>
          <p:nvPr/>
        </p:nvSpPr>
        <p:spPr>
          <a:xfrm>
            <a:off x="1692360" y="765000"/>
            <a:ext cx="6011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3e03fb"/>
                </a:solidFill>
                <a:latin typeface="Arial"/>
              </a:rPr>
              <a:t>Thank you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8360" y="5781240"/>
            <a:ext cx="35733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e03fb"/>
                </a:solidFill>
                <a:latin typeface="Arial"/>
              </a:rPr>
              <a:t>www.ww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360720" y="6256440"/>
            <a:ext cx="79120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© 2010, WWF. All photographs used in this presentation are copyright protected and courtesy of the WWF-Canon Global Photo Network and the respective photograph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Дата 1"/>
          <p:cNvSpPr/>
          <p:nvPr/>
        </p:nvSpPr>
        <p:spPr>
          <a:xfrm>
            <a:off x="7524720" y="6453360"/>
            <a:ext cx="1440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8DC4-31D8-4316-B59C-F9D113661A89}" type="datetime3">
              <a:rPr b="0" lang="en-IE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 - </a:t>
            </a:r>
            <a:fld id="{7DDA76BA-4672-4B6F-8B70-9A5C3E194754}" type="slidenum">
              <a:rPr b="0" lang="en-I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8398-EB14-46F8-97F3-1AA7962EAAAB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CDD87F38-5335-45F5-AB39-B0E0874CBB5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itle 1"/>
          <p:cNvSpPr/>
          <p:nvPr/>
        </p:nvSpPr>
        <p:spPr>
          <a:xfrm>
            <a:off x="2090880" y="177840"/>
            <a:ext cx="6270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economic-BAU is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12840" y="5373720"/>
            <a:ext cx="896760" cy="138276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2"/>
          <p:cNvSpPr/>
          <p:nvPr/>
        </p:nvSpPr>
        <p:spPr>
          <a:xfrm>
            <a:off x="1386000" y="6083280"/>
            <a:ext cx="762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9280"/>
                <a:tab algn="l" pos="2249640"/>
                <a:tab algn="l" pos="2698920"/>
                <a:tab algn="l" pos="3149640"/>
                <a:tab algn="l" pos="3598920"/>
                <a:tab algn="l" pos="4049640"/>
                <a:tab algn="l" pos="4498920"/>
                <a:tab algn="l" pos="4950000"/>
                <a:tab algn="l" pos="539892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Kokorin A.O., Gritsevich I.G., Gordeev D.S., 2013. Greenhouse Gas Emission Scenarios for Russia and Rest of the World. Review of Business and Economic Studies (ROBES), vol.1, issue 1, pp.55-66.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http://www.fa.ru/projects/rbes/about/Pages/default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13"/>
          <p:cNvSpPr/>
          <p:nvPr/>
        </p:nvSpPr>
        <p:spPr>
          <a:xfrm>
            <a:off x="1427040" y="4581360"/>
            <a:ext cx="757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2-E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 Russian energy-sector СО2 emission in 2005–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 no-new-technologies scenario (4% annual GDP grow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U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400" spc="-1" strike="noStrike">
                <a:solidFill>
                  <a:srgbClr val="3e03fb"/>
                </a:solidFill>
                <a:latin typeface="Arial"/>
              </a:rPr>
              <a:t>economically optimal introduction of new technologies; correlates to innovative scenario of MED for 2030,  without  any specific targets for GHG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 a BAU scenario with additional CO2 charges since 2020, rising from USD 15 to 80 per ton, which sets emission reduction target: 50% by 205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1042920" y="749160"/>
            <a:ext cx="8101080" cy="365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398C-1177-4339-BE23-98AE78EFFB5B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DD55C49B-F9FA-4E88-AF44-E26BAC7D7451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itle 1"/>
          <p:cNvSpPr/>
          <p:nvPr/>
        </p:nvSpPr>
        <p:spPr>
          <a:xfrm>
            <a:off x="598320" y="968400"/>
            <a:ext cx="794736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пешно решаются важные, но второстепенные вопросы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D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др.), поток денег в развивающиеся страны растет…..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акого прогресса по новому соглашению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ПО вынуждены были предпринять Демарш – мы были бессильны изнутри повлиять на ситу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tle 1"/>
          <p:cNvSpPr/>
          <p:nvPr/>
        </p:nvSpPr>
        <p:spPr>
          <a:xfrm>
            <a:off x="2340000" y="17784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амый общий взгляд на КС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1335240" y="3645000"/>
            <a:ext cx="75610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ало делегатов встретили Демарш с поним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йкот не имеет смысла (уйдут «глаза и уши»), что только на руку многим делегациям (прессе одно, в столице другое, на КС делают третье…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жна помощь НПО делегациям слабых и уязвимых стран и давление на делегации развитых и крупнейших развивающихся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FF89-8A0E-4700-AD40-F59FE681011C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F9C0ACAB-8672-4B26-A17F-4497343609A2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itle 1"/>
          <p:cNvSpPr/>
          <p:nvPr/>
        </p:nvSpPr>
        <p:spPr>
          <a:xfrm>
            <a:off x="1871640" y="1052640"/>
            <a:ext cx="70722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 dressing” on top political level ( UN , G8, G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 but not only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orts of small society of “climate optimists” to do good steps in practice …..there are achievements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tional support of global “climate optimists”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timely is promotion of domestic C-tools for energy efficiency, new technologies and sustainable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tle 1"/>
          <p:cNvSpPr/>
          <p:nvPr/>
        </p:nvSpPr>
        <p:spPr>
          <a:xfrm>
            <a:off x="1042920" y="189000"/>
            <a:ext cx="790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 the resul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itle 1"/>
          <p:cNvSpPr/>
          <p:nvPr/>
        </p:nvSpPr>
        <p:spPr>
          <a:xfrm>
            <a:off x="1547640" y="6237360"/>
            <a:ext cx="7488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korin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, Korppoo A., 2013  Russia’s Post-Kyoto Climate Policy Real Action or Merely Window-Dressing? FNI Climate Policy Perspectives 10 May 2013.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fni.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perspectives.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368280" y="5140440"/>
            <a:ext cx="1111320" cy="157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29B5-8B17-4488-BB8F-717AF141FF1B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56F06B4E-18AB-46C6-8F4D-AEB4E968E765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le 1"/>
          <p:cNvSpPr/>
          <p:nvPr/>
        </p:nvSpPr>
        <p:spPr>
          <a:xfrm>
            <a:off x="598320" y="968400"/>
            <a:ext cx="79473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е проблемы подготовки нового глобального согла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е документы (решения) конфе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я по поддержке климатических проектов в развивающихся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ее: поправки, Киото 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Наши возможные действия 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itle 1"/>
          <p:cNvSpPr/>
          <p:nvPr/>
        </p:nvSpPr>
        <p:spPr>
          <a:xfrm>
            <a:off x="2340000" y="17784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лан об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209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ъемы и рост выбросов парниковых газов определяются, прежде всего, крупнейшими развивающимися стра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23840" y="1268280"/>
            <a:ext cx="7832880" cy="403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7308720" y="4665600"/>
            <a:ext cx="1785960" cy="2098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2"/>
          <p:cNvSpPr/>
          <p:nvPr/>
        </p:nvSpPr>
        <p:spPr>
          <a:xfrm>
            <a:off x="179280" y="5373720"/>
            <a:ext cx="69138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, Индия не знают как «привести мир» к 50% снижению выбросов к 2050 г. и исключают из документов все численные параметры глобального снижения выб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EDF2-E595-48FB-BA13-B24560A6C9AD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9F6EF7B4-0EFB-4EAA-9B48-9364F1B30B6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2"/>
          <p:cNvSpPr/>
          <p:nvPr/>
        </p:nvSpPr>
        <p:spPr>
          <a:xfrm>
            <a:off x="946080" y="119700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600120" y="1341360"/>
            <a:ext cx="8348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пнейшие стран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то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нижать выбросы, тольк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гда это совпад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их плана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едрения технологий на территории стран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ценар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ез специальных климатических действ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ни уже «верят»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изменения климата антропогенные, сильные и негативные для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ни еще не имеют экономической альтернати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рупных стран нет расчетов конкретного ущерба от изменений климата в 2030 г., в 2050 г. 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2070 г. и т.п.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четы есть для малых и уязвимых государ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3e03fb"/>
                </a:solidFill>
                <a:latin typeface="Arial"/>
              </a:rPr>
              <a:t>No big risk, no big deals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itle 1"/>
          <p:cNvSpPr/>
          <p:nvPr/>
        </p:nvSpPr>
        <p:spPr>
          <a:xfrm>
            <a:off x="1042920" y="189000"/>
            <a:ext cx="7900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рупнейшие страны дают предложения на 2020 и 2030 г. близкие к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154080" y="895320"/>
            <a:ext cx="9005760" cy="4837320"/>
          </a:xfrm>
          <a:prstGeom prst="rect">
            <a:avLst/>
          </a:prstGeom>
          <a:ln w="0">
            <a:noFill/>
          </a:ln>
        </p:spPr>
      </p:pic>
      <p:sp>
        <p:nvSpPr>
          <p:cNvPr id="28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6309-7360-48B7-85C4-CE80509A6BB7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C77011EC-D8D1-4DAC-913D-6691DC0373AB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itle 1"/>
          <p:cNvSpPr/>
          <p:nvPr/>
        </p:nvSpPr>
        <p:spPr>
          <a:xfrm>
            <a:off x="1187280" y="20520"/>
            <a:ext cx="77169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0720"/>
                <a:tab algn="l" pos="900000"/>
                <a:tab algn="l" pos="1349280"/>
                <a:tab algn="l" pos="2249640"/>
                <a:tab algn="l" pos="2700360"/>
                <a:tab algn="l" pos="3149640"/>
                <a:tab algn="l" pos="3600360"/>
                <a:tab algn="l" pos="4049640"/>
                <a:tab algn="l" pos="4500720"/>
                <a:tab algn="l" pos="4950000"/>
                <a:tab algn="l" pos="5400720"/>
                <a:tab algn="l" pos="58500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Удельные выбросы парниковых газов к 2020 г.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тСО</a:t>
            </a:r>
            <a:r>
              <a:rPr b="1" lang="ru-RU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лрд.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$2005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DP(PPP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12"/>
          <p:cNvSpPr/>
          <p:nvPr/>
        </p:nvSpPr>
        <p:spPr>
          <a:xfrm>
            <a:off x="684360" y="1536840"/>
            <a:ext cx="821988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138240" y="5732640"/>
            <a:ext cx="903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росы парниковых газов в страна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C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ЕС и США: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990 – 2010 - 20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чник: по данны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missions Gap Report 2012 A UNEP Synthesis Report. November 2012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unep.org/publications/ebooks/emissionsgap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630F-BE88-4FCA-9CD6-32C9E6038ECC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EE2E7583-0B1E-41E7-9A3A-FB469288C92D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2"/>
          <p:cNvSpPr/>
          <p:nvPr/>
        </p:nvSpPr>
        <p:spPr>
          <a:xfrm>
            <a:off x="890640" y="981000"/>
            <a:ext cx="821988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1109520" y="177840"/>
            <a:ext cx="7783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matic plot of Russia’s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mission for three types of scenarios (excl. net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sorption by fore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312840" y="5373720"/>
            <a:ext cx="896760" cy="138276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2"/>
          <p:cNvSpPr/>
          <p:nvPr/>
        </p:nvSpPr>
        <p:spPr>
          <a:xfrm>
            <a:off x="1386000" y="6083280"/>
            <a:ext cx="762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9280"/>
                <a:tab algn="l" pos="2249640"/>
                <a:tab algn="l" pos="2698920"/>
                <a:tab algn="l" pos="3149640"/>
                <a:tab algn="l" pos="3598920"/>
                <a:tab algn="l" pos="4049640"/>
                <a:tab algn="l" pos="4498920"/>
                <a:tab algn="l" pos="4950000"/>
                <a:tab algn="l" pos="539892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Kokorin A.O., Gritsevich I.G., Gordeev D.S., 2013. Greenhouse Gas Emission Scenarios for Russia and Rest of the World. Review of Business and Economic Studies (ROBES), vol.1, issue 1, pp.55-66.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http://www.fa.ru/projects/rbes/about/Pages/default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3919680" y="1089000"/>
            <a:ext cx="497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 1 — “optimal “development of the economy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xclusive of the need for special reduction of the CO2 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85680" y="1612800"/>
            <a:ext cx="7777080" cy="363240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1"/>
          <p:cNvSpPr/>
          <p:nvPr/>
        </p:nvSpPr>
        <p:spPr>
          <a:xfrm>
            <a:off x="4475160" y="5241960"/>
            <a:ext cx="45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 2 — achieving  an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mperative goal of mandatory reduction of CO2 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3"/>
          <p:cNvSpPr/>
          <p:nvPr/>
        </p:nvSpPr>
        <p:spPr>
          <a:xfrm>
            <a:off x="7642080" y="1747800"/>
            <a:ext cx="1468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 3 —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optimal to minimize overall co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03fb"/>
                </a:solidFill>
                <a:latin typeface="Arial"/>
              </a:rPr>
              <a:t>of CO2 emission redu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03fb"/>
                </a:solidFill>
                <a:latin typeface="Arial"/>
              </a:rPr>
              <a:t>costs of adapt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03fb"/>
                </a:solidFill>
                <a:latin typeface="Arial"/>
              </a:rPr>
              <a:t>damage caused by climate chan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F4D5-3E07-4DA5-AE6C-CF1807E729EC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AB6DFA18-AD65-4197-9879-A94CDBC5A9B1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>
            <a:off x="923760" y="96696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tle 1"/>
          <p:cNvSpPr/>
          <p:nvPr/>
        </p:nvSpPr>
        <p:spPr>
          <a:xfrm>
            <a:off x="684360" y="177840"/>
            <a:ext cx="84596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лавные проблемы подготовки нового глобального соглашения (Направление 1 Д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4000" y="44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395280" y="1125360"/>
            <a:ext cx="86788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вершенно иная, чем при принятии Ки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биться от крупнейших стран значительного усиления своих национальных цел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ень сложно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можно (пример ЕС)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иваться нижней границы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спектра №1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ут будут и союзники из бизнеса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стижение должного объема и целевого использования климатического финанс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ые стран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igation 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глобальное влияние, част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, кредиты, …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ющиеся страны – адаптация, (ликвидация бедности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нты, 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хождение баланса - «финансы – сокращение выбросов» главная проблема выработки согла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343F-4FBA-4B56-B974-1C3E6296B9A8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31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0FEFAF6D-B88C-4713-B75F-2FA11FFBD15E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2"/>
          <p:cNvSpPr/>
          <p:nvPr/>
        </p:nvSpPr>
        <p:spPr>
          <a:xfrm>
            <a:off x="923760" y="96696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itle 1"/>
          <p:cNvSpPr/>
          <p:nvPr/>
        </p:nvSpPr>
        <p:spPr>
          <a:xfrm>
            <a:off x="923760" y="177840"/>
            <a:ext cx="77518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лавные проблемы подготовки нового глобального соглашения ( 1 ДП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54000" y="44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tle 1"/>
          <p:cNvSpPr/>
          <p:nvPr/>
        </p:nvSpPr>
        <p:spPr>
          <a:xfrm>
            <a:off x="395280" y="1125360"/>
            <a:ext cx="86788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ts val="2500"/>
              </a:lnSpc>
              <a:buClr>
                <a:srgbClr val="c00000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ША – правовая форма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компромисс? Нужно ли ратифицируемое соглашение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ашение без США не имеет смы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стойкое нежелание ряда наиболее богатых «развивающихся» стран (Саудовская Аравия, Катар, Сингапур и т.п.) брать на себя ответственность, соответствующую их уровню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buClr>
                <a:srgbClr val="c00000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8:08:51Z</dcterms:created>
  <dc:creator>Mikolein Roorda</dc:creator>
  <dc:description/>
  <dc:language>en-US</dc:language>
  <cp:lastModifiedBy>Grygorii Kolomytsev</cp:lastModifiedBy>
  <cp:lastPrinted>2014-02-13T15:25:04Z</cp:lastPrinted>
  <dcterms:modified xsi:type="dcterms:W3CDTF">2014-03-20T20:22:22Z</dcterms:modified>
  <cp:revision>323</cp:revision>
  <dc:subject/>
  <dc:title>Slide 1</dc:title>
</cp:coreProperties>
</file>