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920-C2D4-43BD-8E36-8F2379AB7B69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99D-C59D-49AA-A541-44427D60EBA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918-1F28-443C-953F-C70BBEB8E3B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9A56-B2A8-453F-88D6-748DD6BF902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ACD-2B77-4CB8-B356-327B743835F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79C-E2CE-423F-A28B-8DF64B885C1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15C6-B1C6-4653-8554-587017B24D1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6B8-5E4A-45E8-B9BD-49A360C1C03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56C5-5FED-48BF-9CF6-DDB4A231538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ABEB-5FC1-4CEC-A9C5-853476BCA1B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E3E-C5CC-47DB-B26C-504A3BEF885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BE2D-E36D-45E8-8FD0-54F508715F9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C9B-BBCD-4113-BFCB-ABBC5AAC588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7188-5584-4C74-869B-909DE52357E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74AC-CBF0-4524-9570-3CE7DA44BD6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D3B-6EFE-404A-9A34-8D0EB17C5E0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B4E7-C666-4B45-9699-4568F2ED011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E655-539B-4786-9651-4677137641A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D3A-120B-4450-8A6D-1CD3F34B8A6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42D-0DFF-4803-865C-B79D8A9FD53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2209-6C80-4ABC-B204-7F84499E05E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48D-357C-4475-A095-02A0FB5D58B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52E6-1BC2-4267-864D-DC6B95B4428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2E2BC-885A-448C-A66D-0ABF21AD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638C4-BF2D-40E2-9F04-F9205409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AB6A1-749F-49A4-AEEC-40C65EB8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7B4E5-8B40-4B30-BE4E-5F60B5E0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1B9F9-95B4-4442-8D73-7A6CED55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1A219-A0CB-4B4C-BF27-57D95A1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8DD4B-B4FB-4600-BF9E-D624731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CFF45-7D0E-4E49-B5CD-DF9977D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AF72E-73C7-4F7D-BAF2-49DAE92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1572D-18C0-4D27-A86F-F5D727E9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A2F5D-AD88-4C8B-8BA1-9B82B48C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8B295-222C-4531-BF20-AEC23832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524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C1F-7445-4C16-8BC5-6008E47F5308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ED87645-F409-4388-AA23-8B02E951E30A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7c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7524720" y="6413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5 August 2010 - </a:t>
            </a:r>
            <a:fld id="{3B29B5AA-35B2-419C-A9A9-EDE3FCED022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1835280" y="0"/>
            <a:ext cx="7308720" cy="573264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127080" cy="6858000"/>
          </a:xfrm>
          <a:prstGeom prst="rect">
            <a:avLst/>
          </a:prstGeom>
          <a:solidFill>
            <a:srgbClr val="f3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4"/>
          <p:cNvSpPr/>
          <p:nvPr/>
        </p:nvSpPr>
        <p:spPr>
          <a:xfrm>
            <a:off x="1171440" y="6261120"/>
            <a:ext cx="7616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7524720" y="6278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310-5716-49F9-B7AD-4B076F72FB2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B38D4072-F6D1-430B-A950-D1DA8B00304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1"/>
          <p:cNvSpPr/>
          <p:nvPr/>
        </p:nvSpPr>
        <p:spPr>
          <a:xfrm>
            <a:off x="441360" y="6451560"/>
            <a:ext cx="838512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23E-9EDE-43E1-9B9F-3C4C3FAF14F5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8E344D5F-B50D-4B38-92B8-0E1C92481415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7D2-1FD9-4351-9762-2B798A492558}" type="datetime">
              <a:rPr b="0" lang="en-IE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BB0-B6C1-4835-BF0E-BCBFF26A9467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9" descr="C:\Users\akokorin\Desktop\зеленый-мир-карта.jpg"/>
          <p:cNvPicPr/>
          <p:nvPr/>
        </p:nvPicPr>
        <p:blipFill>
          <a:blip r:embed="rId1"/>
          <a:stretch/>
        </p:blipFill>
        <p:spPr>
          <a:xfrm>
            <a:off x="1042920" y="1052640"/>
            <a:ext cx="7859880" cy="5545080"/>
          </a:xfrm>
          <a:prstGeom prst="rect">
            <a:avLst/>
          </a:prstGeom>
          <a:ln w="0">
            <a:noFill/>
          </a:ln>
        </p:spPr>
      </p:pic>
      <p:sp>
        <p:nvSpPr>
          <p:cNvPr id="217" name="Дата 3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71D-D463-4F40-8A58-EFC40107014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DB248FD-9EA8-41EE-961D-3AA2BDF0346C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2"/>
          <p:cNvSpPr/>
          <p:nvPr/>
        </p:nvSpPr>
        <p:spPr>
          <a:xfrm>
            <a:off x="5099040" y="155736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8"/>
          <p:cNvSpPr/>
          <p:nvPr/>
        </p:nvSpPr>
        <p:spPr>
          <a:xfrm>
            <a:off x="5135400" y="154944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"/>
          <p:cNvSpPr/>
          <p:nvPr/>
        </p:nvSpPr>
        <p:spPr>
          <a:xfrm flipV="1">
            <a:off x="425520" y="3565080"/>
            <a:ext cx="4128840" cy="180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378000" y="3165480"/>
            <a:ext cx="2609640" cy="351792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f2e9"/>
                </a:solidFill>
                <a:latin typeface="Arial"/>
              </a:rPr>
              <a:t>А.О. Коко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f2e9"/>
                </a:solidFill>
                <a:latin typeface="Arial"/>
              </a:rPr>
              <a:t>Всемирный фонд дикой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3f2e9"/>
                </a:solidFill>
                <a:latin typeface="Arial"/>
              </a:rPr>
              <a:t>WWF </a:t>
            </a:r>
            <a:r>
              <a:rPr b="1" lang="ru-RU" sz="2000" spc="-1" strike="noStrike">
                <a:solidFill>
                  <a:srgbClr val="f3f2e9"/>
                </a:solidFill>
                <a:latin typeface="Arial"/>
              </a:rPr>
              <a:t>–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kokorin@ww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3f2e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3f2e9"/>
                </a:solidFill>
                <a:latin typeface="Arial"/>
              </a:rPr>
              <a:t>2 февраля 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378000" y="1004760"/>
            <a:ext cx="6048360" cy="216072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новные положения Пятого оценочного доклад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ГЭИК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CC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 W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5"/>
          <p:cNvSpPr/>
          <p:nvPr/>
        </p:nvSpPr>
        <p:spPr>
          <a:xfrm flipV="1">
            <a:off x="378000" y="3824280"/>
            <a:ext cx="4128840" cy="144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22B-7EBF-4190-9A7A-6F5796600605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0CF567C-B2D7-49F4-BFB2-6C72937EA4AD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C:\Users\akokorin\Desktop\IPCC-AR5-WG1-SPM-t-THC-ice.jpg"/>
          <p:cNvPicPr/>
          <p:nvPr/>
        </p:nvPicPr>
        <p:blipFill>
          <a:blip r:embed="rId1"/>
          <a:stretch/>
        </p:blipFill>
        <p:spPr>
          <a:xfrm>
            <a:off x="781200" y="152280"/>
            <a:ext cx="8280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EF61-EBE7-415C-A37D-E4ADF333F745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3A840FB3-A489-455A-9529-AA33A360A54E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614520" y="981000"/>
            <a:ext cx="85294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ающий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йне вероятно (вероятность 95-100%), что </a:t>
            </a: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антропогенное воздействие на климатическую систему было доминирующей причин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блюдаемого потепления с середины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Влияние деятельности человека проявляется посредством потепления атмосферы и океана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яния снега и льда, подъема уровня Мирового океана, изменения частоты и интенсивности ряда </a:t>
            </a: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экстремальных климатически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itle 1"/>
          <p:cNvSpPr/>
          <p:nvPr/>
        </p:nvSpPr>
        <p:spPr>
          <a:xfrm>
            <a:off x="1979640" y="189000"/>
            <a:ext cx="561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Основные выводы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F8A-9B4B-420F-9548-FCF0A96E7A0F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775FA27-8D3C-4406-94D5-EBA5240004F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614520" y="981000"/>
            <a:ext cx="79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ый вклад разных факторов в глобальное потепление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Основные вывод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"/>
          <p:cNvSpPr/>
          <p:nvPr/>
        </p:nvSpPr>
        <p:spPr>
          <a:xfrm>
            <a:off x="250920" y="1916280"/>
            <a:ext cx="8692920" cy="358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Глобальная приземная температура воздуха, 1951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0,9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(парниковые газы: +0,5 - +1,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0,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(аэрозоли: -0,6 - +0,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± 0,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естественные внешние факторы: солнц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улканы, …  -0,1 - +0,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± 0,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(внутренние вариации, среднее за 60 лет -0,1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0,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=  +0,6</a:t>
            </a:r>
            <a:r>
              <a:rPr b="1" lang="ru-RU" sz="24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8566-351A-4F42-B9D5-4E9964F7616F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C4C385A-612D-4681-8F23-C94B627415DC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лияние изменений потока солнечной радиации на границе атмосферы очень невели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за весь период оценки с доиндустриальной эпохи в среднем составили около +0,05 (от 0,00 до 0,10) Вт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клад извержений вулканов в последние десятилетия был очень невел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2008-2011 гг. охлаждающий эффект, вызванный выбросами пепла в стратосферу, составил -0,11 (от -0,15 до -0,08) Вт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ий естественный эффект солнечных вариаций и извержений вулканов – только малая составляющая в потеплении климатической системы за последнее столе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исключение составляют короткие периоды времени после сильных изверж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"/>
          <p:cNvSpPr/>
          <p:nvPr/>
        </p:nvSpPr>
        <p:spPr>
          <a:xfrm>
            <a:off x="1798560" y="19044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Ци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C58C-9762-4182-9A52-325F7C0AA43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A1A7307-80BC-4799-AC48-AF6F6BA8B54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itle 1"/>
          <p:cNvSpPr/>
          <p:nvPr/>
        </p:nvSpPr>
        <p:spPr>
          <a:xfrm>
            <a:off x="32400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но определе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 больше аномально жарких периодов и меньше дней с сильными мороза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ркие периоды будут чаще и дол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эпизоды экстремально низких зимн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атся контрасты между сухими и переувлажненными регионами, между сухими и дождливыми сез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ктические льды будут сокращаться, но не рез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й «Гольфстрима» н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оя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лабление проявится к 2050 год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маловероят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ое изменение (коллапс)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, но этого в принципе нельзя исключить в более далеком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"/>
          <p:cNvSpPr/>
          <p:nvPr/>
        </p:nvSpPr>
        <p:spPr>
          <a:xfrm>
            <a:off x="1573200" y="31680"/>
            <a:ext cx="37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Прогн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4AD-CE9B-4FC8-A326-931D418C1AE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D8DB0BCE-8CA3-45A3-924D-5E897E03467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16000" y="981000"/>
          <a:ext cx="8928000" cy="5608800"/>
        </p:xfrm>
        <a:graphic>
          <a:graphicData uri="http://schemas.openxmlformats.org/drawingml/2006/table">
            <a:tbl>
              <a:tblPr/>
              <a:tblGrid>
                <a:gridCol w="1071360"/>
                <a:gridCol w="2886120"/>
                <a:gridCol w="2590920"/>
                <a:gridCol w="237960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 изменений климата и неправильной хозяйственной деятельности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ф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т засух и дефицита воды, деградация лесов в зоне Сах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е температурного режима Великих озер Восточной Африки. Исчезновение ледников Килиманджа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ширные засухи и драматический дефицит воды на больших территор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обратимые изменения в горных и водных экосисте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ероятен дефицит продовольствия и массовая миграция населения (при его росте). Адаптация будет крайне дорога для Афр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вро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ые наводнения, аномальные осадки, волны жары. Рост лесных пожа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миграции птиц, цветения растений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никновение новых видов растений и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кращение ледни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фицит воды и драматические волны жары, лесные пожары в Средиземноморье. Резкие изменения погоды, сильные осадки и навод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ое сокращение ледников и снеж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даптация очень дорога. Возможны негативные изменения морских, речных и наземных экосис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X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веке не исключен коллапс «Гольфстрима» и сильное похолодание в Северной Европ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AE28-6D08-493B-8A56-44FA074B8F9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8FBE653C-637E-4CA2-A8DE-25F854841470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826920" y="1159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95280" y="1268280"/>
          <a:ext cx="8569440" cy="5102280"/>
        </p:xfrm>
        <a:graphic>
          <a:graphicData uri="http://schemas.openxmlformats.org/drawingml/2006/table">
            <a:tbl>
              <a:tblPr/>
              <a:tblGrid>
                <a:gridCol w="1028880"/>
                <a:gridCol w="2571480"/>
                <a:gridCol w="2686320"/>
                <a:gridCol w="228276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центральной и западной части Азии деградация земель и речных сис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ли, наводнения, сокращение ледников, деградация вечной мерзлоты в горных район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ые паводки на рек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фицит воды на обширных территориях. Рост проблем горных районов, лесных пожар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муссонных осадков, навод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ая деградация коралловых рифов. Через 50-150 лет затопление крупных приморских городов и низ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ероятно снижение урожайности зерновых в Южной Аз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ероятны массовые негативные изменения морских, речных и наземных экосис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встра-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олны жары. Изменения наземных, пресноводных и морских экосистем, стока рек. Сильное сокращение ледников и снегового покр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раматические волны жары. Усиление дефицита воды. Негатив­ные изменения в экосис­темах. Сильная дегра­дация коралловых риф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льшой риск проникновения новых видов, негативно влияющих на мест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0CEF-0CE1-4A1F-81B8-EA364F760BBD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262E9D37-0690-450A-83CC-B292872E1FD0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0920" y="981000"/>
          <a:ext cx="8713800" cy="5641920"/>
        </p:xfrm>
        <a:graphic>
          <a:graphicData uri="http://schemas.openxmlformats.org/drawingml/2006/table">
            <a:tbl>
              <a:tblPr/>
              <a:tblGrid>
                <a:gridCol w="1046160"/>
                <a:gridCol w="2817720"/>
                <a:gridCol w="2529000"/>
                <a:gridCol w="2320920"/>
              </a:tblGrid>
              <a:tr h="125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 изменений климата и неправильной хозяйственной деятельности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в. Аме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номальные осадки, волны жары, наводнения. Рост ущерба от тропических циклонов. В различ­ных частях континента: сокра­щение ледников, лесные пожары, изменения в экосистемах, проникновение новых вид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негативных тенденций. В средней части континента дефицит воды; рост лесных пожаров, проблем горных район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 исключено увеличение частоты и силы тропических цикло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нт. и Южная Аме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номальные осадки и темпера­туры. Проблемы стока рек, лесов и экосистем Амазонии и Ла Платы. Сокращение лед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негативных тенденций. Обострение проб­лем Амазонии. В отдельных районах континента дефицит воды. Сильная деградация коралловых риф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сть угроза исчезновения лесов Амазонии. Вероятны проблемы сохранения тра­диционного образа жизни коренного насе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2061-3F47-454E-AEB9-6CD37C0A0A4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55EB6A2-8142-4151-90B5-A79FC94830C9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052640"/>
          <a:ext cx="8785080" cy="5694120"/>
        </p:xfrm>
        <a:graphic>
          <a:graphicData uri="http://schemas.openxmlformats.org/drawingml/2006/table">
            <a:tbl>
              <a:tblPr/>
              <a:tblGrid>
                <a:gridCol w="1225440"/>
                <a:gridCol w="2670120"/>
                <a:gridCol w="2549520"/>
                <a:gridCol w="2340000"/>
              </a:tblGrid>
              <a:tr h="130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 изменений климата и неправильной хозяйственной деятельности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ктика и Антарк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кращение ледового и снежного покрова Арктики и Гренландии. Рост береговой эрозии, дегра­дация вечной мерзлоты. Потеп­ление, изменения растительного покрова, миграции животны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ушение шельфовых ледников Западной Антаркт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наблюдающихся тенденций. Резкий рост береговой эрозии и деградации вечной мерзлоты. Проблемы для морских животных и птиц Южного оке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будущем возможна массовая деградация вечной мерзлоты с большими эмиссиями СО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и СН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Угроза проникновения новых видов, негативно влияющих на мест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лые остр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е в экосистемах отдельных островов. Деградация коралловых риф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ерез 50-150 лет полное или частичное затопление. Сильная деградация коралловых риф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требуется переселение людей. Вероятно негативное влияние роста кислотности океана на рыбу и морские эко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F846-C3DE-402C-A572-D11FC8F9027A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1971326-39EB-4568-A71D-FE86F9B33A4D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39528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Никому, но хуже все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ым островам и низменным террито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ушливым странам и реги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это более 100 наиболее уязвимы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"/>
          <p:cNvSpPr/>
          <p:nvPr/>
        </p:nvSpPr>
        <p:spPr>
          <a:xfrm>
            <a:off x="1573200" y="169920"/>
            <a:ext cx="65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му на Земле жить хорош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55E4-413F-402F-8A30-C06E9FF94F4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30BDECE-6FF6-4842-9581-2BB212023FAC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ГЭИК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C)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МО и ЮНЕ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Сообщество ученых, дорожащих свое </a:t>
            </a:r>
            <a:r>
              <a:rPr b="1" lang="ru-RU" sz="2400" spc="-1" strike="noStrike" u="sng">
                <a:solidFill>
                  <a:srgbClr val="3e03fb"/>
                </a:solidFill>
                <a:uFillTx/>
                <a:latin typeface="Arial"/>
              </a:rPr>
              <a:t>репутацией</a:t>
            </a:r>
            <a:br>
              <a:rPr sz="2400"/>
            </a:br>
            <a:r>
              <a:rPr b="1" lang="ru-RU" sz="2400" spc="-1" strike="noStrike" u="sng">
                <a:solidFill>
                  <a:srgbClr val="3e03fb"/>
                </a:solidFill>
                <a:uFillTx/>
                <a:latin typeface="Arial"/>
              </a:rPr>
              <a:t> в на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овит Оценочные доклады, сугубо научные обзоры, где учитываются только публикации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фильных научных журнал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Делает только </a:t>
            </a:r>
            <a:r>
              <a:rPr b="1" lang="ru-RU" sz="2400" spc="-1" strike="noStrike" u="sng">
                <a:solidFill>
                  <a:srgbClr val="3e03fb"/>
                </a:solidFill>
                <a:uFillTx/>
                <a:latin typeface="Arial"/>
              </a:rPr>
              <a:t>научные выводы</a:t>
            </a: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, не выходящие за рамки климатологии, биологии, медицины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литических выводов и указаний на страны е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BST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FCCC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но иная организ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лад эт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з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не новый труд, но обзор где достигну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учный консенсус в тексте и вывод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такое МГЭИК и его Оценочные доклады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37D-7D9C-437C-B57A-EEC8DD75C5F6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0EE845B0-4FD9-4BA4-83ED-139F9A294414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180120"/>
          </a:xfrm>
          <a:prstGeom prst="rect">
            <a:avLst/>
          </a:prstGeom>
          <a:ln w="0">
            <a:noFill/>
          </a:ln>
        </p:spPr>
      </p:pic>
      <p:sp>
        <p:nvSpPr>
          <p:cNvPr id="328" name="Title 1"/>
          <p:cNvSpPr/>
          <p:nvPr/>
        </p:nvSpPr>
        <p:spPr>
          <a:xfrm>
            <a:off x="324000" y="6180120"/>
            <a:ext cx="8640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и – больше естественной изменчивост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рихи - меньше. больше естественной изменчи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B6EC-40B5-4E39-B655-4E8054CCC4C0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2CCF9574-A161-4A19-A58E-791728FC8C63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itle 1"/>
          <p:cNvSpPr/>
          <p:nvPr/>
        </p:nvSpPr>
        <p:spPr>
          <a:xfrm>
            <a:off x="696960" y="1263600"/>
            <a:ext cx="81230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а прекратить заблуждаться и повторять старые мантры о «спорах уче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Главное – известно!    Причина – челове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серьезные и негативные, хотя и не голливудский триллер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От сценария выбросов парниковых газов зависит много (хотя и в основном после 2050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ависит от стран, это зависит от нас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"/>
          <p:cNvSpPr/>
          <p:nvPr/>
        </p:nvSpPr>
        <p:spPr>
          <a:xfrm>
            <a:off x="1573200" y="169920"/>
            <a:ext cx="65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главное дает доклад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Дата 1"/>
          <p:cNvSpPr/>
          <p:nvPr/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F277-F0CC-449D-9868-A30389CBE46B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22F72395-EF46-40A6-B9BE-DCB0C288CF4F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2224080" y="1657440"/>
            <a:ext cx="6012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500" spc="-1" strike="noStrike">
                <a:solidFill>
                  <a:srgbClr val="3e03fb"/>
                </a:solidFill>
                <a:latin typeface="Arial"/>
              </a:rPr>
              <a:t>Спасибо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5"/>
          <p:cNvSpPr/>
          <p:nvPr/>
        </p:nvSpPr>
        <p:spPr>
          <a:xfrm>
            <a:off x="2335320" y="2921040"/>
            <a:ext cx="6453000" cy="1440"/>
          </a:xfrm>
          <a:prstGeom prst="line">
            <a:avLst/>
          </a:prstGeom>
          <a:ln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43160" y="2935080"/>
            <a:ext cx="35733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ww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tle 1"/>
          <p:cNvSpPr/>
          <p:nvPr/>
        </p:nvSpPr>
        <p:spPr>
          <a:xfrm>
            <a:off x="326880" y="6480000"/>
            <a:ext cx="21621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404040"/>
                </a:solidFill>
                <a:latin typeface="Arial"/>
              </a:rPr>
              <a:t>Presentation to 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360720" y="6256440"/>
            <a:ext cx="7912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© 2010, WWF. All photographs used in this presentation are copyright protected and courtesy of the WWF-Canon Global Photo Network and the respective photograph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1A7-9205-4148-8419-9662F7E0E4DA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CA5B94B-B0D9-4F50-8B8E-A4292B71BFF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itle 1"/>
          <p:cNvSpPr/>
          <p:nvPr/>
        </p:nvSpPr>
        <p:spPr>
          <a:xfrm>
            <a:off x="25092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 1 Физическая научная ос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 2 Воздействие на природу и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 3 Возможности снижения антропогенного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 каждом томе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юме для лиц, принимающих реш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ереводится на языки ООН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ческое резюме (сжатие доклада до 10% главн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Синтезирующий доклад – 50 стр. «выжимки» из 3 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(переводится на языки ООН и издается отде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всех изданий сугубо науч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 терминах вероятности) и тяжело читаемы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1979640" y="189000"/>
            <a:ext cx="41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уктура   Док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2FEA-43D8-4E78-BF01-5DCC0AB49FE6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D799680-14F6-4133-840B-E119B25AE7F9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к главного фактора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лиматическую систему Земли в среднем за прошлые 50 лет, а также за будущие 100 лет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ктически доказ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оль Солнца, вариаций орбиты Земли, космического излучения, вулканов и всех других потенциально возможных факторов проанализирована и для изменения климата в среднем 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 признана не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ое осред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инципиально важный момент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е вариации действуют то в «плюс», то в «минус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за достаточно длительный промежуток времени суммарная роль этих вариаций близка к нулю, они «компенсируют» друг друга. Знаний для их надежного предсказания пока не достаточно. Поэтом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сказать климат конкретного года или даже десятилетия невозмо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это не препятствие для выводов о суммарном изменении климата 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пределен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ще много, 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ногие выводы уже имеют вероятность более 90 или даже более 99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се выводы доклада сопровождаются точным указанием их вероятности и/или степени определенности. Среди климатологов есть консенсус в том, что известно с высокой вероятностью, что со средней, а что с низ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FF2D-8A74-4D67-B47F-90A8F00246F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4853766A-95B1-43DA-A573-AABB00E7706B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250920" y="1052640"/>
            <a:ext cx="8531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менно повышение температуры океана говорит о глобальном потепл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емпература приповерхностного слоя воздуха лишь самый заметный, но не главный, численный параметр. По нему нельзя судить о глобальном потеплении. Учитывая устойчивый рост температуры океана, ученые совершенно не связывают никакие колебания температуры воздуха с «остановкой» глобального поте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опасных явлений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вная проблема именно в опасных гидрометеороло­гических явлен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окладе показана более тесная связь антропогенного усиления парникового эффекта с ростом повторяемости и интенсивности аномально жарких периодов и аномальных осадков, в том числе и муссо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пресной воды (засухи), подъем уровня моря и навод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и уже весьма определенно просчитанных климатических бед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зываемых воздействием человека на климатическую систему. Причем на «климат» здесь в большинстве случаев накладывается неправильная хозяйственная деяте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9C9-770F-4E9C-879F-0641624D9E6F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0E309BBB-CE8F-42CB-9598-DAAE2B7424E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щерб гораздо сильнее с ростом глобальной темпера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ждый град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ышения средней глобальной температуры приповерхностного слоя воздуха на 20% снижает объем возобновляемых водных ресурсов в вододефицитных регионах, а такж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величивает процент мирового населения, страдающего от нехватки воды, на 7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 конц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 по сценарию максимального воздействия человека на климат количеств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юдей страдающих от сильных наводнений будет в 3 раза боль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ем по сценарию минимального воз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продовольств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новится очень серьезной угроз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даптация сельского хозяйства к росту глобальной температуры на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тносительно проста, а к росту на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чень проблематична и дорога. Особенно сложной будет ситуация в Афр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м уровня мирового океа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читан в Докладе гораздо определеннее, чем ранее, теперь он ста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ктором почти неотвратимой гибели многих малых островов и низменных террито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BE9-F2AB-4ADA-8F35-9BD61F120E6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8A7386B-A9DE-4B55-B141-B3BCE8674F1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ятый доклад имеет гораздо более практическую направл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ем предыдущие доклады МГЭИК. Тепер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в нахождении баланса - оптимума между затра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адаптацию и ликвидацию последствий чрезвычайных ситуаций, с одной стороны, и затратами на снижение выбросов парниковых газов, с другой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оптимум сло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) Затраты на адаптацию и риски потерь для отдельных крупных стран еще не имеют надежного расчета в денежном выражении. 2) Чтобы снизить риски через 50 лет надо действовать сейчас –3) Риски и снижение выбросов не совпадают географическ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гресс в экономических оценках налицо, хотя это еще не «счет» и не «меню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резидентов и глав правительств. Ориентировочно сумма «счета» только для прямых затрат на адаптацию в мире в целом на 2050 г. составит 70-100 млрд. долларов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адикального снижения выбр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етана и других парниковых газов у человечеств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ть все технические возмож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чень часто меры по снижению выбросов имеют немало сопутствующих выгод: чистый воздух, лучшее здоровье, самообеспечение энергоресур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619D-4101-4539-8601-0425CBF0B3F4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AD701F5-3352-43EE-9D31-436BE1D45C7D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Научный обзор физической природы изменений климата в прошлом и бу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е мнение климатологов всего мира, они совсем не «раздираемы» сомнениями и противореч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Прогноз не на отдельные годы или десятилетия, а на </a:t>
            </a:r>
            <a:r>
              <a:rPr b="1" lang="en-US" sz="2400" spc="-1" strike="noStrike">
                <a:solidFill>
                  <a:srgbClr val="3e03fb"/>
                </a:solidFill>
                <a:latin typeface="Arial"/>
              </a:rPr>
              <a:t>XXI</a:t>
            </a: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 век (если среднее за </a:t>
            </a:r>
            <a:r>
              <a:rPr b="1" lang="en-US" sz="2400" spc="-1" strike="noStrike">
                <a:solidFill>
                  <a:srgbClr val="3e03fb"/>
                </a:solidFill>
                <a:latin typeface="Arial"/>
              </a:rPr>
              <a:t>XXI </a:t>
            </a: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ек, то естественные вариации сглаживаютс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видим наложение естественных вариаций (солнце, «океанские циклы», вулканы и т.п.) и антропогенного влияния на климатическую 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ноз погоды и прогноз климата разные вещи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Характерные черты док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8CEF-E6E4-4CE2-A652-5975BFD1E97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23B4FEC-1589-4D5E-8458-EA6D6168C513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468360" y="839880"/>
            <a:ext cx="8475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Определенность выводов о прошлых и будущих изменениях гораздо вы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ьше: плохо ---- очень плохо--- ужас ----  ужас ужа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:                    очень плохо----уж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Это лучше или ху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Океан: повышение температуры – главный индикатор всех изменений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точное и поэтому более угрожающее «расписание» повышения уровня Мирового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III – X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до 1 м                      1-3 м                      до 5 м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ропиках больше, на Балтике мень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1979640" y="18900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Новизна док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2"/>
          <p:cNvCxnSpPr/>
          <p:nvPr/>
        </p:nvCxnSpPr>
        <p:spPr>
          <a:xfrm>
            <a:off x="2626920" y="2238120"/>
            <a:ext cx="778680" cy="2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Прямая со стрелкой 10"/>
          <p:cNvCxnSpPr/>
          <p:nvPr/>
        </p:nvCxnSpPr>
        <p:spPr>
          <a:xfrm>
            <a:off x="3924000" y="209664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Прямая со стрелкой 13"/>
          <p:cNvCxnSpPr/>
          <p:nvPr/>
        </p:nvCxnSpPr>
        <p:spPr>
          <a:xfrm>
            <a:off x="5940000" y="2097000"/>
            <a:ext cx="1080" cy="34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H="1">
            <a:off x="6487560" y="2238120"/>
            <a:ext cx="64836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8:08:51Z</dcterms:created>
  <dc:creator>Mikolein Roorda</dc:creator>
  <dc:description/>
  <dc:language>en-US</dc:language>
  <cp:lastModifiedBy>Grygorii Kolomytsev</cp:lastModifiedBy>
  <cp:lastPrinted>2013-03-13T09:45:58Z</cp:lastPrinted>
  <dcterms:modified xsi:type="dcterms:W3CDTF">2014-03-20T20:22:05Z</dcterms:modified>
  <cp:revision>276</cp:revision>
  <dc:subject/>
  <dc:title>Slide 1</dc:title>
</cp:coreProperties>
</file>