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8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0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4064-B4F8-4A91-8127-BE5F677A1996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F5BE-DA42-4EAF-92EE-2E72A0F9BED0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105C-F403-42E0-9639-F6035BC657B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BF31-21D8-4242-AE97-F6499C675E3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FEDF-AA86-41CA-82DF-FCEB68E1F41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824C-4AC6-4CF9-81A8-600D149C8D6A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41F6-37CA-432A-B900-91B41EE3F561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9988-623C-4DD8-816B-9EE18BAAFC5F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D9F8-7EC0-4CDE-941E-516CE1B55B2E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2EFF-D31E-45BB-BF45-0BB07323C7EE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8ACA4-96E3-4E55-894A-FF1D2BF0048A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D8A5-DD1C-4D59-8D80-2AA2290DDEC2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0D5C-9343-48F9-BAE6-0B269AB3E9F8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A643-8CED-4F0E-A786-453ECC16BCE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B29B-89A9-4C9F-846E-F8FEC93BCB5E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A312-5A43-428F-A4CD-B44A9451632E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91F0-6CF6-4098-B8C7-3F11E6162D34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E280-984B-41C0-87F8-558E93BD4CFF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CEFA-E155-4F8E-99F9-2A51BCD444D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486A2-EB34-4E55-B393-E451E8A29F7E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E615-D522-4AB7-8A42-76204FC7D9E3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37B8-101E-4DE9-855F-FC20804CD62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B5CA3-BEC3-4479-907D-268B098C8760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3201A4-9B93-433B-AB8F-2FD9193B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8D1664-7662-44A5-9551-7A787DE5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C7E682-8E08-4DE1-ADAE-57CCDBF5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F3205E-AD5E-4E27-8C0F-0FA165D5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58A74E-88EC-45DE-ABBE-9504BBAB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EFC179-200D-4442-8D72-8A083800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8856F-55D2-4E67-8CB7-3081EDDA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95D094-D9DB-4B99-AFC7-D053E9CD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111953-109A-4480-9E86-57BCD73D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FF89F9-6149-43A8-9E70-BFB0A6B2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87BDD6-3E63-403F-AE0E-2AD62B01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298A9F-E379-434B-9B92-7BCF443B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635040" y="666756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0"/>
            <a:ext cx="800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6"/>
          <p:cNvSpPr/>
          <p:nvPr/>
        </p:nvSpPr>
        <p:spPr>
          <a:xfrm>
            <a:off x="635040" y="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 flipH="1">
            <a:off x="8978040" y="0"/>
            <a:ext cx="21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7524720" y="630828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B5CE-9ACD-4A8A-9771-63EE1C011FD9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1F10FF6A-FA17-4510-9901-BA911530D55F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7c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7524720" y="641304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5 August 2010 - </a:t>
            </a:r>
            <a:fld id="{16723FB7-8063-43D4-A1B2-D5C40097225E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"/>
          <p:cNvSpPr/>
          <p:nvPr/>
        </p:nvSpPr>
        <p:spPr>
          <a:xfrm>
            <a:off x="1835280" y="0"/>
            <a:ext cx="7308720" cy="573264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0"/>
            <a:ext cx="127080" cy="6858000"/>
          </a:xfrm>
          <a:prstGeom prst="rect">
            <a:avLst/>
          </a:prstGeom>
          <a:solidFill>
            <a:srgbClr val="f3f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4"/>
          <p:cNvSpPr/>
          <p:nvPr/>
        </p:nvSpPr>
        <p:spPr>
          <a:xfrm>
            <a:off x="1171440" y="6261120"/>
            <a:ext cx="761688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0"/>
            <a:ext cx="800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635040" y="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635040" y="666756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 flipH="1">
            <a:off x="8978040" y="0"/>
            <a:ext cx="21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7524720" y="627804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4883-A5C4-4C6C-BC0E-A303999C636F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986F3D69-C228-4A12-98C3-052ED0588F0E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11"/>
          <p:cNvSpPr/>
          <p:nvPr/>
        </p:nvSpPr>
        <p:spPr>
          <a:xfrm>
            <a:off x="441360" y="6451560"/>
            <a:ext cx="838512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dt" idx="4"/>
          </p:nvPr>
        </p:nvSpPr>
        <p:spPr>
          <a:xfrm>
            <a:off x="7524720" y="6453360"/>
            <a:ext cx="1440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6F9E-00FF-4DCD-A607-C07F314D04EF}" type="datetime3">
              <a:rPr b="0" lang="en-IE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 - </a:t>
            </a:r>
            <a:fld id="{8FB8DF08-AC77-4E35-B701-071AC148FF63}" type="slidenum">
              <a:rPr b="0" lang="en-I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BDA3-8A88-4DC5-9F94-66D51418A68C}" type="datetime">
              <a:rPr b="0" lang="en-IE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3E1A-1283-40EC-AB91-B4BEB3DBF666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9" descr="C:\Users\akokorin\Desktop\зеленый-мир-карта.jpg"/>
          <p:cNvPicPr/>
          <p:nvPr/>
        </p:nvPicPr>
        <p:blipFill>
          <a:blip r:embed="rId1"/>
          <a:stretch/>
        </p:blipFill>
        <p:spPr>
          <a:xfrm>
            <a:off x="1042920" y="1052640"/>
            <a:ext cx="7859880" cy="5545080"/>
          </a:xfrm>
          <a:prstGeom prst="rect">
            <a:avLst/>
          </a:prstGeom>
          <a:ln w="0">
            <a:noFill/>
          </a:ln>
        </p:spPr>
      </p:pic>
      <p:sp>
        <p:nvSpPr>
          <p:cNvPr id="217" name="Дата 3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2BD1-089C-47F0-95E1-EC4C03E4F1D0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8108DC65-99BA-475B-AD52-888995B6B4D1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2"/>
          <p:cNvSpPr/>
          <p:nvPr/>
        </p:nvSpPr>
        <p:spPr>
          <a:xfrm>
            <a:off x="5099040" y="1557360"/>
            <a:ext cx="3156120" cy="1440"/>
          </a:xfrm>
          <a:prstGeom prst="line">
            <a:avLst/>
          </a:prstGeom>
          <a:ln w="1260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8"/>
          <p:cNvSpPr/>
          <p:nvPr/>
        </p:nvSpPr>
        <p:spPr>
          <a:xfrm>
            <a:off x="5135400" y="1549440"/>
            <a:ext cx="3156120" cy="1440"/>
          </a:xfrm>
          <a:prstGeom prst="line">
            <a:avLst/>
          </a:prstGeom>
          <a:ln w="1260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"/>
          <p:cNvSpPr/>
          <p:nvPr/>
        </p:nvSpPr>
        <p:spPr>
          <a:xfrm flipV="1">
            <a:off x="425520" y="3565080"/>
            <a:ext cx="4128840" cy="1800"/>
          </a:xfrm>
          <a:prstGeom prst="line">
            <a:avLst/>
          </a:prstGeom>
          <a:ln w="2556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378000" y="3165480"/>
            <a:ext cx="2609640" cy="351792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f2e9"/>
                </a:solidFill>
                <a:latin typeface="Arial"/>
              </a:rPr>
              <a:t>А.О. Коко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3f2e9"/>
                </a:solidFill>
                <a:latin typeface="Arial"/>
              </a:rPr>
              <a:t>Всемирный фонд дикой прир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3f2e9"/>
                </a:solidFill>
                <a:latin typeface="Arial"/>
              </a:rPr>
              <a:t>WWF </a:t>
            </a:r>
            <a:r>
              <a:rPr b="1" lang="ru-RU" sz="2000" spc="-1" strike="noStrike">
                <a:solidFill>
                  <a:srgbClr val="f3f2e9"/>
                </a:solidFill>
                <a:latin typeface="Arial"/>
              </a:rPr>
              <a:t>– 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kokorin@ww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3f2e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3f2e9"/>
                </a:solidFill>
                <a:latin typeface="Arial"/>
              </a:rPr>
              <a:t>2 февраля 201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tle 1"/>
          <p:cNvSpPr/>
          <p:nvPr/>
        </p:nvSpPr>
        <p:spPr>
          <a:xfrm>
            <a:off x="378000" y="1004760"/>
            <a:ext cx="6048360" cy="216072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сновные положения Пятого оценочного доклада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ГЭИК 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CC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 WG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5"/>
          <p:cNvSpPr/>
          <p:nvPr/>
        </p:nvSpPr>
        <p:spPr>
          <a:xfrm flipV="1">
            <a:off x="378000" y="3824280"/>
            <a:ext cx="4128840" cy="1440"/>
          </a:xfrm>
          <a:prstGeom prst="line">
            <a:avLst/>
          </a:prstGeom>
          <a:ln w="2556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76E1-253F-4B12-B52D-65312B6B9C87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F36B840D-FD08-458E-8E65-7774A72414D9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7" descr="C:\Users\akokorin\Desktop\IPCC-AR5-WG1-SPM-t-THC-ice.jpg"/>
          <p:cNvPicPr/>
          <p:nvPr/>
        </p:nvPicPr>
        <p:blipFill>
          <a:blip r:embed="rId1"/>
          <a:stretch/>
        </p:blipFill>
        <p:spPr>
          <a:xfrm>
            <a:off x="781200" y="152280"/>
            <a:ext cx="8280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1B95-A882-4066-869E-A533F505D5B1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65C180F6-98B3-484B-9A50-88BE849BD4B8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itle 1"/>
          <p:cNvSpPr/>
          <p:nvPr/>
        </p:nvSpPr>
        <p:spPr>
          <a:xfrm>
            <a:off x="614520" y="981000"/>
            <a:ext cx="85294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общающий 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йне вероятно (вероятность 95-100%), что </a:t>
            </a: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антропогенное воздействие на климатическую систему было доминирующей причиной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аблюдаемого потепления с середины XX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Влияние деятельности человека проявляется посредством потепления атмосферы и океана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яния снега и льда, подъема уровня Мирового океана, изменения частоты и интенсивности ряда </a:t>
            </a: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экстремальных климатических яв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itle 1"/>
          <p:cNvSpPr/>
          <p:nvPr/>
        </p:nvSpPr>
        <p:spPr>
          <a:xfrm>
            <a:off x="1979640" y="189000"/>
            <a:ext cx="561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Основные выводы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DE86-BCD3-411E-A4F9-860266F69EE0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C84C4F6F-9665-4C41-9A3A-4ED02BF7D2B1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tle 1"/>
          <p:cNvSpPr/>
          <p:nvPr/>
        </p:nvSpPr>
        <p:spPr>
          <a:xfrm>
            <a:off x="614520" y="981000"/>
            <a:ext cx="798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ный вклад разных факторов в глобальное потепление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Основные выводы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1"/>
          <p:cNvSpPr/>
          <p:nvPr/>
        </p:nvSpPr>
        <p:spPr>
          <a:xfrm>
            <a:off x="250920" y="1916280"/>
            <a:ext cx="8692920" cy="3586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Глобальная приземная температура воздуха, 1951-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0,9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(парниковые газы: +0,5 - +1,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0,3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(аэрозоли: -0,6 - +0,1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± 0,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естественные внешние факторы: солнце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улканы, …  -0,1 - +0,1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± 0,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(внутренние вариации, среднее за 60 лет -0,1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0,1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=  +0,6</a:t>
            </a:r>
            <a:r>
              <a:rPr b="1" lang="ru-RU" sz="2400" spc="-1" strike="noStrike" baseline="30000">
                <a:solidFill>
                  <a:srgbClr val="0000cc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1668-A301-41CB-B5E5-379E368899DD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5665F270-7D80-4D14-A545-E34C7DA4C5CC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itle 1"/>
          <p:cNvSpPr/>
          <p:nvPr/>
        </p:nvSpPr>
        <p:spPr>
          <a:xfrm>
            <a:off x="324000" y="981000"/>
            <a:ext cx="88200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Влияние изменений потока солнечной радиации на границе атмосферы очень невелик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за весь период оценки с доиндустриальной эпохи в среднем составили около +0,05 (от 0,00 до 0,10) Вт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Вклад извержений вулканов в последние десятилетия был очень невели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в 2008-2011 гг. охлаждающий эффект, вызванный выбросами пепла в стратосферу, составил -0,11 (от -0,15 до -0,08) Вт/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ий естественный эффект солнечных вариаций и извержений вулканов – только малая составляющая в потеплении климатической системы за последнее столет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исключение составляют короткие периоды времени после сильных извержен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"/>
          <p:cNvSpPr/>
          <p:nvPr/>
        </p:nvSpPr>
        <p:spPr>
          <a:xfrm>
            <a:off x="1798560" y="19044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Цит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1BAC-0767-4396-A72F-CE5CC57E1E14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6C32588E-1A99-4AD3-8650-521E70C5BD65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itle 1"/>
          <p:cNvSpPr/>
          <p:nvPr/>
        </p:nvSpPr>
        <p:spPr>
          <a:xfrm>
            <a:off x="324000" y="981000"/>
            <a:ext cx="8640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вершенно определен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что больше аномально жарких периодов и меньше дней с сильными морозам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аркие периоды будут чаще и дольш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дновременно эпизоды экстремально низких зимних темпера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величатся контрасты между сухими и переувлажненными регионами, между сухими и дождливыми сезо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ктические льды будут сокращаться, но не рез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й «Гольфстрима» нет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роя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слабление проявится к 2050 году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йне маловероятн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кое изменение (коллапс)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е, но этого в принципе нельзя исключить в более далеком будущ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1"/>
          <p:cNvSpPr/>
          <p:nvPr/>
        </p:nvSpPr>
        <p:spPr>
          <a:xfrm>
            <a:off x="1573200" y="31680"/>
            <a:ext cx="37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Прогн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6B37-1712-486D-9173-35FABE139E29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FF8C8B02-CB2A-42DB-99EA-0EB179910BD5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1"/>
          <p:cNvSpPr/>
          <p:nvPr/>
        </p:nvSpPr>
        <p:spPr>
          <a:xfrm>
            <a:off x="923760" y="16992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2   Влияние на природу и человека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16000" y="981000"/>
          <a:ext cx="8928000" cy="5608800"/>
        </p:xfrm>
        <a:graphic>
          <a:graphicData uri="http://schemas.openxmlformats.org/drawingml/2006/table">
            <a:tbl>
              <a:tblPr/>
              <a:tblGrid>
                <a:gridCol w="1071360"/>
                <a:gridCol w="2886120"/>
                <a:gridCol w="2590920"/>
                <a:gridCol w="2379600"/>
              </a:tblGrid>
              <a:tr h="12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ги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блюдаемые эффект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сочетание изменений климата и неправильной хозяйственной деятельности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жидаемые пробл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фр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ост засух и дефицита воды, деградация лесов в зоне Сах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е температурного режима Великих озер Восточной Африки. Исчезновение ледников Килиманджа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ширные засухи и драматический дефицит воды на больших территория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обратимые изменения в горных и водных экосистем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ероятен дефицит продовольствия и массовая миграция населения (при его росте). Адаптация будет крайне дорога для Афр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Евро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ильные наводнения, аномальные осадки, волны жары. Рост лесных пожар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я миграции птиц, цветения растений и т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никновение новых видов растений и животны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окращение ледник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ефицит воды и драматические волны жары, лесные пожары в Средиземноморье. Резкие изменения погоды, сильные осадки и навод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ильное сокращение ледников и снеж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даптация очень дорога. Возможны негативные изменения морских, речных и наземных экосист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X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веке не исключен коллапс «Гольфстрима» и сильное похолодание в Северной Европ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D9C0-0F51-4DDD-83C4-36959612EF1F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08F3CCA6-C33A-406D-8EF8-506F145B4981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itle 1"/>
          <p:cNvSpPr/>
          <p:nvPr/>
        </p:nvSpPr>
        <p:spPr>
          <a:xfrm>
            <a:off x="826920" y="115920"/>
            <a:ext cx="770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"/>
          <p:cNvSpPr/>
          <p:nvPr/>
        </p:nvSpPr>
        <p:spPr>
          <a:xfrm>
            <a:off x="923760" y="16992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2   Влияние на природу и человек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95280" y="1268280"/>
          <a:ext cx="8569440" cy="5102280"/>
        </p:xfrm>
        <a:graphic>
          <a:graphicData uri="http://schemas.openxmlformats.org/drawingml/2006/table">
            <a:tbl>
              <a:tblPr/>
              <a:tblGrid>
                <a:gridCol w="1028880"/>
                <a:gridCol w="2571480"/>
                <a:gridCol w="2686320"/>
                <a:gridCol w="2282760"/>
              </a:tblGrid>
              <a:tr h="720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ги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блюдаемые эффект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сочетание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жидаемые пробл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7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з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центральной и западной части Азии деградация земель и речных сист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ли, наводнения, сокращение ледников, деградация вечной мерзлоты в горных район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ильные паводки на река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ефицит воды на обширных территориях. Рост проблем горных районов, лесных пожар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иление муссонных осадков, наводн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ильная деградация коралловых рифов. Через 50-150 лет затопление крупных приморских городов и низ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ероятно снижение урожайности зерновых в Южной Аз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ероятны массовые негативные изменения морских, речных и наземных экосист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встра-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олны жары. Изменения наземных, пресноводных и морских экосистем, стока рек. Сильное сокращение ледников и снегового покро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Драматические волны жары. Усиление дефицита воды. Негатив­ные изменения в экосис­темах. Сильная дегра­дация коралловых рифо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ольшой риск проникновения новых видов, негативно влияющих на местны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AA71-8B50-4350-93A4-D98E5422750B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ED9F2514-5AD1-45C2-94E9-63E81D18DC21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1"/>
          <p:cNvSpPr/>
          <p:nvPr/>
        </p:nvSpPr>
        <p:spPr>
          <a:xfrm>
            <a:off x="923760" y="16992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2   Влияние на природу и человека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0920" y="981000"/>
          <a:ext cx="8713800" cy="5641920"/>
        </p:xfrm>
        <a:graphic>
          <a:graphicData uri="http://schemas.openxmlformats.org/drawingml/2006/table">
            <a:tbl>
              <a:tblPr/>
              <a:tblGrid>
                <a:gridCol w="1046160"/>
                <a:gridCol w="2817720"/>
                <a:gridCol w="2529000"/>
                <a:gridCol w="2320920"/>
              </a:tblGrid>
              <a:tr h="1254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ги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блюдаемые эффект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сочетание изменений климата и неправильной хозяйственной деятельности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жидаемые пробл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8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ев. Амер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номальные осадки, волны жары, наводнения. Рост ущерба от тропических циклонов. В различ­ных частях континента: сокра­щение ледников, лесные пожары, изменения в экосистемах, проникновение новых вид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иление негативных тенденций. В средней части континента дефицит воды; рост лесных пожаров, проблем горных район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е исключено увеличение частоты и силы тропических циклон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9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Цент. и Южная Амер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номальные осадки и темпера­туры. Проблемы стока рек, лесов и экосистем Амазонии и Ла Платы. Сокращение лед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иление негативных тенденций. Обострение проб­лем Амазонии. В отдельных районах континента дефицит воды. Сильная деградация коралловых риф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Есть угроза исчезновения лесов Амазонии. Вероятны проблемы сохранения тра­диционного образа жизни коренного насе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6975-7852-48BA-AEF8-3FDE5B80B411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9D9AA3B5-67AD-40D1-B962-C264DA7496AD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1"/>
          <p:cNvSpPr/>
          <p:nvPr/>
        </p:nvSpPr>
        <p:spPr>
          <a:xfrm>
            <a:off x="923760" y="169920"/>
            <a:ext cx="775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2   Влияние на природу и человека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052640"/>
          <a:ext cx="8785080" cy="5694120"/>
        </p:xfrm>
        <a:graphic>
          <a:graphicData uri="http://schemas.openxmlformats.org/drawingml/2006/table">
            <a:tbl>
              <a:tblPr/>
              <a:tblGrid>
                <a:gridCol w="1225440"/>
                <a:gridCol w="2670120"/>
                <a:gridCol w="2549520"/>
                <a:gridCol w="2340000"/>
              </a:tblGrid>
              <a:tr h="130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ги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блюдаемые эффекты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(сочетание изменений климата и неправильной хозяйственной деятельности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жидаемые проблем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меч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Арктика и Антарк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окращение ледового и снежного покрова Арктики и Гренландии. Рост береговой эрозии, дегра­дация вечной мерзлоты. Потеп­ление, изменения растительного покрова, миграции животных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азрушение шельфовых ледников Западной Антаркт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силение наблюдающихся тенденций. Резкий рост береговой эрозии и деградации вечной мерзлоты. Проблемы для морских животных и птиц Южного оке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 будущем возможна массовая деградация вечной мерзлоты с большими эмиссиями СО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и СН</a:t>
                      </a:r>
                      <a:r>
                        <a:rPr b="0" lang="ru-RU" sz="16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 Угроза проникновения новых видов, негативно влияющих на местны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лые остр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зменение в экосистемах отдельных островов. Деградация коралловых риф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ерез 50-150 лет полное или частичное затопление. Сильная деградация коралловых риф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требуется переселение людей. Вероятно негативное влияние роста кислотности океана на рыбу и морские эко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4456-3EA2-42E7-A90C-79BC39D7C479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08C00FA2-753C-41EA-A528-10CD3FA71677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itle 1"/>
          <p:cNvSpPr/>
          <p:nvPr/>
        </p:nvSpPr>
        <p:spPr>
          <a:xfrm>
            <a:off x="395280" y="1628640"/>
            <a:ext cx="8640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Никому, но хуже все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ым островам и низменным территор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сушливым странам и регио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это более 100 наиболее уязвимых с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1"/>
          <p:cNvSpPr/>
          <p:nvPr/>
        </p:nvSpPr>
        <p:spPr>
          <a:xfrm>
            <a:off x="1573200" y="169920"/>
            <a:ext cx="65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му на Земле жить хорош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73F6-C3BC-4CE3-B043-BAE24F229257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2F4707DE-37A1-4999-AB04-56037E231643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itle 1"/>
          <p:cNvSpPr/>
          <p:nvPr/>
        </p:nvSpPr>
        <p:spPr>
          <a:xfrm>
            <a:off x="614520" y="981000"/>
            <a:ext cx="8529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ГЭИК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CC)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ВМО и ЮНЕ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Сообщество ученых, дорожащих свое </a:t>
            </a:r>
            <a:r>
              <a:rPr b="1" lang="ru-RU" sz="2400" spc="-1" strike="noStrike" u="sng">
                <a:solidFill>
                  <a:srgbClr val="3e03fb"/>
                </a:solidFill>
                <a:uFillTx/>
                <a:latin typeface="Arial"/>
              </a:rPr>
              <a:t>репутацией</a:t>
            </a:r>
            <a:br>
              <a:rPr sz="2400"/>
            </a:br>
            <a:r>
              <a:rPr b="1" lang="ru-RU" sz="2400" spc="-1" strike="noStrike" u="sng">
                <a:solidFill>
                  <a:srgbClr val="3e03fb"/>
                </a:solidFill>
                <a:uFillTx/>
                <a:latin typeface="Arial"/>
              </a:rPr>
              <a:t> в на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товит Оценочные доклады, сугубо научные обзоры, где учитываются только публикации в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офильных научных журнал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Делает только </a:t>
            </a:r>
            <a:r>
              <a:rPr b="1" lang="ru-RU" sz="2400" spc="-1" strike="noStrike" u="sng">
                <a:solidFill>
                  <a:srgbClr val="3e03fb"/>
                </a:solidFill>
                <a:uFillTx/>
                <a:latin typeface="Arial"/>
              </a:rPr>
              <a:t>научные выводы</a:t>
            </a: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, не выходящие за рамки климатологии, биологии, медицины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политических выводов и указаний на страны е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BST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FCCC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ршенно иная организа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клад эт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з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а не новый труд, но обзор где достигну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учный консенсус в тексте и выводах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755640" y="189000"/>
            <a:ext cx="838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то такое МГЭИК и его Оценочные доклады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0510-052B-4456-A5BA-8F5AED50128A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CB69ECC9-119D-44E5-BAF6-F6ECA474B65B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2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180120"/>
          </a:xfrm>
          <a:prstGeom prst="rect">
            <a:avLst/>
          </a:prstGeom>
          <a:ln w="0">
            <a:noFill/>
          </a:ln>
        </p:spPr>
      </p:pic>
      <p:sp>
        <p:nvSpPr>
          <p:cNvPr id="328" name="Title 1"/>
          <p:cNvSpPr/>
          <p:nvPr/>
        </p:nvSpPr>
        <p:spPr>
          <a:xfrm>
            <a:off x="324000" y="6180120"/>
            <a:ext cx="86407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чки – больше естественной изменчивости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трихи - меньше. больше естественной изменчив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FB84-0FA5-4052-957F-A3A250BCF494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31625D62-4679-4B37-87C8-B8913103B09F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itle 1"/>
          <p:cNvSpPr/>
          <p:nvPr/>
        </p:nvSpPr>
        <p:spPr>
          <a:xfrm>
            <a:off x="696960" y="1263600"/>
            <a:ext cx="81230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ра прекратить заблуждаться и повторять старые мантры о «спорах учены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Главное – известно!    Причина – челове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ия серьезные и негативные, хотя и не голливудский триллер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3e03fb"/>
                </a:solidFill>
                <a:latin typeface="Arial"/>
              </a:rPr>
              <a:t>От сценария выбросов парниковых газов зависит много (хотя и в основном после 2050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зависит от стран, это зависит от нас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itle 1"/>
          <p:cNvSpPr/>
          <p:nvPr/>
        </p:nvSpPr>
        <p:spPr>
          <a:xfrm>
            <a:off x="1550880" y="115920"/>
            <a:ext cx="696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"/>
          <p:cNvSpPr/>
          <p:nvPr/>
        </p:nvSpPr>
        <p:spPr>
          <a:xfrm>
            <a:off x="1573200" y="169920"/>
            <a:ext cx="65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Что главное дает доклад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Дата 1"/>
          <p:cNvSpPr/>
          <p:nvPr/>
        </p:nvSpPr>
        <p:spPr>
          <a:xfrm>
            <a:off x="7524720" y="6453360"/>
            <a:ext cx="1440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EA4A-309D-4654-A808-10DF2B378765}" type="datetime3">
              <a:rPr b="0" lang="en-IE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 - </a:t>
            </a:r>
            <a:fld id="{2470AB3D-D36F-4F96-B568-50CAB92913FF}" type="slidenum">
              <a:rPr b="0" lang="en-I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tle 1"/>
          <p:cNvSpPr/>
          <p:nvPr/>
        </p:nvSpPr>
        <p:spPr>
          <a:xfrm>
            <a:off x="2224080" y="1657440"/>
            <a:ext cx="6012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500" spc="-1" strike="noStrike">
                <a:solidFill>
                  <a:srgbClr val="3e03fb"/>
                </a:solidFill>
                <a:latin typeface="Arial"/>
              </a:rPr>
              <a:t>Спасибо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5"/>
          <p:cNvSpPr/>
          <p:nvPr/>
        </p:nvSpPr>
        <p:spPr>
          <a:xfrm>
            <a:off x="2335320" y="2921040"/>
            <a:ext cx="6453000" cy="1440"/>
          </a:xfrm>
          <a:prstGeom prst="line">
            <a:avLst/>
          </a:prstGeom>
          <a:ln w="64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243160" y="2935080"/>
            <a:ext cx="35733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ww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tle 1"/>
          <p:cNvSpPr/>
          <p:nvPr/>
        </p:nvSpPr>
        <p:spPr>
          <a:xfrm>
            <a:off x="326880" y="6480000"/>
            <a:ext cx="21621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000" spc="-1" strike="noStrike">
                <a:solidFill>
                  <a:srgbClr val="404040"/>
                </a:solidFill>
                <a:latin typeface="Arial"/>
              </a:rPr>
              <a:t>Presentation to Company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360720" y="6256440"/>
            <a:ext cx="79120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© 2010, WWF. All photographs used in this presentation are copyright protected and courtesy of the WWF-Canon Global Photo Network and the respective photograph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A3FE-0D38-46D5-9B8A-EDF794E8D1C4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A37C227D-1B69-45B1-8C3D-3FA3F672A629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itle 1"/>
          <p:cNvSpPr/>
          <p:nvPr/>
        </p:nvSpPr>
        <p:spPr>
          <a:xfrm>
            <a:off x="250920" y="1197000"/>
            <a:ext cx="88930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 1 Физическая научная осн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 2 Воздействие на природу и челов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. 3 Возможности снижения антропогенного воз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В каждом томе: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юме для лиц, принимающих реш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переводится на языки ООН)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ическое резюме (сжатие доклада до 10% главно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Синтезирующий доклад – 50 стр. «выжимки» из 3 том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(переводится на языки ООН и издается отдель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зык всех изданий сугубо научны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в терминах вероятности) и тяжело читаемы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itle 1"/>
          <p:cNvSpPr/>
          <p:nvPr/>
        </p:nvSpPr>
        <p:spPr>
          <a:xfrm>
            <a:off x="1979640" y="189000"/>
            <a:ext cx="4176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руктура   Докл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014B-EC68-4FB4-A409-3B3830A6A064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CC80EFED-2F86-49E4-BAC4-FB236859A07F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itle 1"/>
          <p:cNvSpPr/>
          <p:nvPr/>
        </p:nvSpPr>
        <p:spPr>
          <a:xfrm>
            <a:off x="614520" y="981000"/>
            <a:ext cx="8529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ль чело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к главного фактора воздей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климатическую систему Земли в среднем за прошлые 50 лет, а также за будущие 100 лет,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ктически доказ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оль Солнца, вариаций орбиты Земли, космического излучения, вулканов и всех других потенциально возможных факторов проанализирована и для изменения климата в среднем 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 признана небольш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ое осредн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ринципиально важный момент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тественные вариации действуют то в «плюс», то в «минус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за достаточно длительный промежуток времени суммарная роль этих вариаций близка к нулю, они «компенсируют» друг друга. Знаний для их надежного предсказания пока не достаточно. Поэтом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едсказать климат конкретного года или даже десятилетия невозмо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о это не препятствие для выводов о суммарном изменении климата 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пределенност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еще много, н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ногие выводы уже имеют вероятность более 90 или даже более 99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се выводы доклада сопровождаются точным указанием их вероятности и/или степени определенности. Среди климатологов есть консенсус в том, что известно с высокой вероятностью, что со средней, а что с низ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щий взгляд на Доклад в целом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FA9C-D8A6-4352-B289-AFE40B9AD4A9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18ABAD4A-7DB9-4F0B-AF25-419BC5E7A9A5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250920" y="1052640"/>
            <a:ext cx="85312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еан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Именно повышение температуры океана говорит о глобальном потепле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емпература приповерхностного слоя воздуха лишь самый заметный, но не главный, численный параметр. По нему нельзя судить о глобальном потеплении. Учитывая устойчивый рост температуры океана, ученые совершенно не связывают никакие колебания температуры воздуха с «остановкой» глобального потеп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о опасных явлений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Главная проблема именно в опасных гидрометеороло­гических явлени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Докладе показана более тесная связь антропогенного усиления парникового эффекта с ростом повторяемости и интенсивности аномально жарких периодов и аномальных осадков, в том числе и муссо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фицит пресной воды (засухи), подъем уровня моря и наводн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и уже весьма определенно просчитанных климатических бедств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ызываемых воздействием человека на климатическую систему. Причем на «климат» здесь в большинстве случаев накладывается неправильная хозяйственная деятель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щий взгляд на Доклад в целом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20BB-BF0A-445F-92B6-EAB09B5C4108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6702367B-4798-4AB5-A6F8-FBEF25B64893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tle 1"/>
          <p:cNvSpPr/>
          <p:nvPr/>
        </p:nvSpPr>
        <p:spPr>
          <a:xfrm>
            <a:off x="614520" y="981000"/>
            <a:ext cx="8529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щерб гораздо сильнее с ростом глобальной температу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аждый граду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ышения средней глобальной температуры приповерхностного слоя воздуха на 20% снижает объем возобновляемых водных ресурсов в вододефицитных регионах, а такж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величивает процент мирового населения, страдающего от нехватки воды, на 7%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 конц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X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ка по сценарию максимального воздействия человека на климат количество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людей страдающих от сильных наводнений будет в 3 раза боль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ем по сценарию минимального воз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фицит продовольствия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тановится очень серьезной угроз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даптация сельского хозяйства к росту глобальной температуры на 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тносительно проста, а к росту на 4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очень проблематична и дорога. Особенно сложной будет ситуация в Афр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ъем уровня мирового океан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читан в Докладе гораздо определеннее, чем ранее, теперь он ста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актором почти неотвратимой гибели многих малых островов и низменных территор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щий взгляд на Доклад в целом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6CE4-5C46-4DF4-8D07-94C36688C9DF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6DA529E1-975C-46E2-8D1A-332B1CDB33E4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614520" y="981000"/>
            <a:ext cx="8529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ятый доклад имеет гораздо более практическую направлен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ем предыдущие доклады МГЭИК. Теперь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ль в нахождении баланса - оптимума между затрат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адаптацию и ликвидацию последствий чрезвычайных ситуаций, с одной стороны, и затратами на снижение выбросов парниковых газов, с другой сторо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ти оптимум слож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1) Затраты на адаптацию и риски потерь для отдельных крупных стран еще не имеют надежного расчета в денежном выражении. 2) Чтобы снизить риски через 50 лет надо действовать сейчас –3) Риски и снижение выбросов не совпадают географически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огресс в экономических оценках налицо, хотя это еще не «счет» и не «меню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президентов и глав правительств. Ориентировочно сумма «счета» только для прямых затрат на адаптацию в мире в целом на 2050 г. составит 70-100 млрд. долларов в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радикального снижения выбр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етана и других парниковых газов у человечеств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ть все технические возмож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чень часто меры по снижению выбросов имеют немало сопутствующих выгод: чистый воздух, лучшее здоровье, самообеспечение энергоресурс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бщий взгляд на Доклад в целом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0C89-C362-4BD7-8C07-64DE7FBA3C53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915A133C-33A7-4378-92AD-A454AEC1A2A0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itle 1"/>
          <p:cNvSpPr/>
          <p:nvPr/>
        </p:nvSpPr>
        <p:spPr>
          <a:xfrm>
            <a:off x="614520" y="981000"/>
            <a:ext cx="8529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Научный обзор физической природы изменений климата в прошлом и будущ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ее мнение климатологов всего мира, они совсем не «раздираемы» сомнениями и противореч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Прогноз не на отдельные годы или десятилетия, а на </a:t>
            </a:r>
            <a:r>
              <a:rPr b="1" lang="en-US" sz="2400" spc="-1" strike="noStrike">
                <a:solidFill>
                  <a:srgbClr val="3e03fb"/>
                </a:solidFill>
                <a:latin typeface="Arial"/>
              </a:rPr>
              <a:t>XXI</a:t>
            </a: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 век (если среднее за </a:t>
            </a:r>
            <a:r>
              <a:rPr b="1" lang="en-US" sz="2400" spc="-1" strike="noStrike">
                <a:solidFill>
                  <a:srgbClr val="3e03fb"/>
                </a:solidFill>
                <a:latin typeface="Arial"/>
              </a:rPr>
              <a:t>XXI </a:t>
            </a: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век, то естественные вариации сглаживаютс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ы видим наложение естественных вариаций (солнце, «океанские циклы», вулканы и т.п.) и антропогенного влияния на климатическую 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гноз погоды и прогноз климата разные вещи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itle 1"/>
          <p:cNvSpPr/>
          <p:nvPr/>
        </p:nvSpPr>
        <p:spPr>
          <a:xfrm>
            <a:off x="1979640" y="189000"/>
            <a:ext cx="6964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Характерные черты докл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8EC3-3E0B-4B03-AF23-D2B36972B8BA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1002B2CF-FCB5-4D8B-9806-EECAC698D3F7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itle 1"/>
          <p:cNvSpPr/>
          <p:nvPr/>
        </p:nvSpPr>
        <p:spPr>
          <a:xfrm>
            <a:off x="468360" y="839880"/>
            <a:ext cx="84754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Определенность выводов о прошлых и будущих изменениях гораздо вы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ньше: плохо ---- очень плохо--- ужас ----  ужас ужа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:                    очень плохо----уж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Arial"/>
              </a:rPr>
              <a:t>Это лучше или ху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Океан: повышение температуры – главный индикатор всех изменений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лее точное и поэтому более угрожающее «расписание» повышения уровня Мирового оке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II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ек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XIII – XX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8e0000"/>
                </a:solidFill>
                <a:latin typeface="Arial"/>
              </a:rPr>
              <a:t>до 1 м                      1-3 м                      до 5 м 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ропиках больше, на Балтике меньш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8e0000"/>
                </a:solidFill>
                <a:latin typeface="Arial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1979640" y="18900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Том 1  Новизна докл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2"/>
          <p:cNvCxnSpPr/>
          <p:nvPr/>
        </p:nvCxnSpPr>
        <p:spPr>
          <a:xfrm>
            <a:off x="2626920" y="2238120"/>
            <a:ext cx="778680" cy="291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Прямая со стрелкой 10"/>
          <p:cNvCxnSpPr/>
          <p:nvPr/>
        </p:nvCxnSpPr>
        <p:spPr>
          <a:xfrm>
            <a:off x="3924000" y="209664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Прямая со стрелкой 13"/>
          <p:cNvCxnSpPr/>
          <p:nvPr/>
        </p:nvCxnSpPr>
        <p:spPr>
          <a:xfrm>
            <a:off x="5940000" y="2097000"/>
            <a:ext cx="1080" cy="34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Прямая со стрелкой 14"/>
          <p:cNvCxnSpPr/>
          <p:nvPr/>
        </p:nvCxnSpPr>
        <p:spPr>
          <a:xfrm flipH="1">
            <a:off x="6487560" y="2238120"/>
            <a:ext cx="64836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8:08:51Z</dcterms:created>
  <dc:creator>Mikolein Roorda</dc:creator>
  <dc:description/>
  <dc:language>en-US</dc:language>
  <cp:lastModifiedBy>Grygorii Kolomytsev</cp:lastModifiedBy>
  <cp:lastPrinted>2013-03-13T09:45:58Z</cp:lastPrinted>
  <dcterms:modified xsi:type="dcterms:W3CDTF">2014-03-20T20:22:05Z</dcterms:modified>
  <cp:revision>276</cp:revision>
  <dc:subject/>
  <dc:title>Slide 1</dc:title>
</cp:coreProperties>
</file>