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1.jpeg" ContentType="image/jpeg"/>
  <Override PartName="/ppt/media/image13.png" ContentType="image/png"/>
  <Override PartName="/ppt/media/image8.wmf" ContentType="image/x-wmf"/>
  <Override PartName="/ppt/media/image9.wmf" ContentType="image/x-wmf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DE2D-05F0-4F0D-8CF9-3BC848DB4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9415-6B1E-4EB6-9BB5-1B93933AC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9365-86AE-4196-BCFE-22CCD8007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23C0-931B-4ACC-9B9F-309C61CCB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2FF10-9A18-41BF-B484-18B012817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28E39-4FF4-4639-A82A-0FA8DE749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1A5C2-BE70-43A6-BEA9-50AF34DCE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9DB8C-FE3C-4742-92C7-8C4797D0F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0BE0F-418A-4C1E-9541-1AD06AFD2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248EF-5C94-4DAC-9FBF-C286EC46E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BF0AE-600F-4C3C-9E92-0B3E23B4A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F644-AD64-4797-A479-FA6251459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EF85B-3814-47C4-B46E-467118B4C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9C124-2991-407D-96F9-301A0B4D8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1C7DC-3724-4D05-BD0D-858D52BD2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80301-D27D-488C-9FC3-550D265EF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5CAFB-5E50-4FC5-A539-9E3E14C54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99A7-3A88-4858-BDC6-51922CBF6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AD0C-F152-4CEF-9998-D7ABA6DFC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3529-27DD-4118-B5A9-F21DBE923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A11E-8376-4CAC-A993-31B105A38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991C-EA7D-4231-9146-71E90A2E2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D236-C45A-4FD0-86D0-A3F7B7FC3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AD78-C4E2-4C20-8D41-CE5AFFD88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F85A10-08E2-411C-A9AD-5CF7F3D915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1F2ECF-CBB6-4A23-A359-9B5CF33B53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15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4000" spc="-1" strike="noStrike">
                <a:solidFill>
                  <a:srgbClr val="2d3f90"/>
                </a:solidFill>
                <a:latin typeface="Calibri"/>
              </a:rPr>
              <a:t>Необходим</a:t>
            </a:r>
            <a:r>
              <a:rPr b="1" lang="ru-RU" sz="4000" spc="-1" strike="noStrike">
                <a:solidFill>
                  <a:srgbClr val="2d3f90"/>
                </a:solidFill>
                <a:latin typeface="Calibri"/>
              </a:rPr>
              <a:t>ые сокращения выбросов для удержания 1.5 и 2С потепл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5361120"/>
            <a:ext cx="6400800" cy="119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1dab44"/>
                </a:solidFill>
                <a:latin typeface="Calibri"/>
              </a:rPr>
              <a:t>20.02.2014, Тбилис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1dab44"/>
                </a:solidFill>
                <a:latin typeface="Calibri"/>
              </a:rPr>
              <a:t>Ирина Ставчу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Рисунок 3" descr=""/>
          <p:cNvPicPr/>
          <p:nvPr/>
        </p:nvPicPr>
        <p:blipFill>
          <a:blip r:embed="rId1"/>
          <a:stretch/>
        </p:blipFill>
        <p:spPr>
          <a:xfrm>
            <a:off x="133200" y="474840"/>
            <a:ext cx="8877600" cy="49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озиция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N-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едмет, структура и проект соглашения 2015 г. должны быть созвучны глобальному углеродному бюджету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.5˚C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включая цели и действия в рамках основных принципов справедливости, которые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беспечивает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финансовую, технологическую поддержку и поддержку в развитии потенциала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ранам со слабым потенциало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457200" y="3696840"/>
            <a:ext cx="8229600" cy="24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пасибо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http://tamino.files.wordpress.com/2012/11/graph0.jpg"/>
          <p:cNvPicPr/>
          <p:nvPr/>
        </p:nvPicPr>
        <p:blipFill>
          <a:blip r:embed="rId1"/>
          <a:stretch/>
        </p:blipFill>
        <p:spPr>
          <a:xfrm>
            <a:off x="168120" y="142920"/>
            <a:ext cx="782028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Рисунок 3" descr=""/>
          <p:cNvPicPr/>
          <p:nvPr/>
        </p:nvPicPr>
        <p:blipFill>
          <a:blip r:embed="rId1"/>
          <a:stretch/>
        </p:blipFill>
        <p:spPr>
          <a:xfrm>
            <a:off x="258840" y="169920"/>
            <a:ext cx="8570880" cy="336240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4" descr=""/>
          <p:cNvPicPr/>
          <p:nvPr/>
        </p:nvPicPr>
        <p:blipFill>
          <a:blip r:embed="rId2"/>
          <a:stretch/>
        </p:blipFill>
        <p:spPr>
          <a:xfrm>
            <a:off x="258840" y="3532320"/>
            <a:ext cx="857088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4" descr=""/>
          <p:cNvPicPr/>
          <p:nvPr/>
        </p:nvPicPr>
        <p:blipFill>
          <a:blip r:embed="rId3"/>
          <a:stretch/>
        </p:blipFill>
        <p:spPr>
          <a:xfrm>
            <a:off x="268200" y="162000"/>
            <a:ext cx="8842320" cy="5387760"/>
          </a:xfrm>
          <a:prstGeom prst="rect">
            <a:avLst/>
          </a:prstGeom>
          <a:ln w="0">
            <a:noFill/>
          </a:ln>
        </p:spPr>
      </p:pic>
      <p:sp>
        <p:nvSpPr>
          <p:cNvPr id="86" name="TextBox 6"/>
          <p:cNvSpPr/>
          <p:nvPr/>
        </p:nvSpPr>
        <p:spPr>
          <a:xfrm>
            <a:off x="2340000" y="5864400"/>
            <a:ext cx="5083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http://www.informationisbeautiful.net/visualizations/how-many-gigatons-of-co2/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Рисунок 3" descr=""/>
          <p:cNvPicPr/>
          <p:nvPr/>
        </p:nvPicPr>
        <p:blipFill>
          <a:blip r:embed="rId2"/>
          <a:stretch/>
        </p:blipFill>
        <p:spPr>
          <a:xfrm>
            <a:off x="652320" y="0"/>
            <a:ext cx="6240600" cy="6777000"/>
          </a:xfrm>
          <a:prstGeom prst="rect">
            <a:avLst/>
          </a:prstGeom>
          <a:ln w="0">
            <a:noFill/>
          </a:ln>
        </p:spPr>
      </p:pic>
      <p:sp>
        <p:nvSpPr>
          <p:cNvPr id="88" name="TextBox 7"/>
          <p:cNvSpPr/>
          <p:nvPr/>
        </p:nvSpPr>
        <p:spPr>
          <a:xfrm>
            <a:off x="4186080" y="6647040"/>
            <a:ext cx="5083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http://www.informationisbeautiful.net/visualizations/how-many-gigatons-of-co2/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Рисунок 3" descr=""/>
          <p:cNvPicPr/>
          <p:nvPr/>
        </p:nvPicPr>
        <p:blipFill>
          <a:blip r:embed="rId1"/>
          <a:stretch/>
        </p:blipFill>
        <p:spPr>
          <a:xfrm>
            <a:off x="247680" y="1612800"/>
            <a:ext cx="8896320" cy="51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Модели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ля1.5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Энерго-экономические модели могут достичь требуемых низких уровней выбросов, также без расширения ядерной энергетики, однако это принципиально зависит от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Раннего и глобального сокращения выбросов, начиная с 2013 г. и далее, и достижения глобального </a:t>
            </a: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пика выбросов к 2020 г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.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Быстрого расширения и возможности технической реализации крупномасштабных проектов в сфере </a:t>
            </a: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биоэнергетики, а также наличия лесных поглотителей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Calibri"/>
              </a:rPr>
              <a:t>Высокие уровни повышения </a:t>
            </a:r>
            <a:r>
              <a:rPr b="1" lang="uk-UA" sz="2500" spc="-1" strike="noStrike">
                <a:solidFill>
                  <a:srgbClr val="000000"/>
                </a:solidFill>
                <a:latin typeface="Calibri"/>
              </a:rPr>
              <a:t>энергоэффективности</a:t>
            </a:r>
            <a:r>
              <a:rPr b="0" lang="uk-UA" sz="25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Наличие технологий </a:t>
            </a: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улавливания и хранения углерода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(УХУ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10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арианты закрыть разрыв в уровне выбросов </a:t>
            </a: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7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) Увеличить мировую долю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озобновляемых источников энергии с текущих 10% до 15% к 2020 г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 Это поможет закрыть разрыв на 4 ГтСО2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альнейшее увеличение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доли до 20% позволит полностью закрыть разрыв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) Активизировать повышение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энергоэффективности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которое бы имело серьезное влияние на мировую энергетику и тенденции климата и отсрочило бы установление высокого уровня выбросов с 2017 до 2022 г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3)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ократить субсидии на ископаемые виды топлива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ля уменьшения глобальных выбросов на 2 ГтСО2 до 2020 г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Ликвидация субсидий сокращает спрос на ископаемое топливо и выбросы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убсидии на потребление ископаемого топлива во всем мире составили $409 млрд. В 2010 г. и могут вырасти до $660 млрд. В 2020 г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убсидии на возобновляемые источники энергии составили всего лишь $66 млрд. В 2010 г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57200" y="1076040"/>
            <a:ext cx="8229600" cy="50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4) В контексте международных переговоров: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Реализация </a:t>
            </a: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максимальных обязательств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из интервала, заявленного странами. Это сократит разрыв на 2 ГтСО2 экв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Минимизация использования </a:t>
            </a: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кредитов ЗИЗИЛХ и кредитов на излишки выбросов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. Это сократит разрыв приблизительно на 3 ГтСО2 экв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Минимизация использования </a:t>
            </a: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излишков установленного количества с киотского периода 2008-2012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гг. Это сократит разрыв на 1.8 ГтСО2 экв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Избежание двойного подсчета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разрешений на выбросы и улучшение дополнительности проектов МЧР. Это сократило бы разрыв почти на 1,5 ГтСО2 экв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Сокращение выбросов от </a:t>
            </a: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международных морских и авиационных перевозок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оль атомной энергети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ждый доллар, потраченный на новый реактор дает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 2-10 раз меньше экономии углерода, в 20-40 раз медленне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чем если бы он был потрачен на более дешевые, быстрые, безопасные решения: рациональное использование электричества, производство электроэнергии и тепла вместе на заводах или в зданиях («когенерация»), и возобновляемые источники энерги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Рисунок 3" descr=""/>
          <p:cNvPicPr/>
          <p:nvPr/>
        </p:nvPicPr>
        <p:blipFill>
          <a:blip r:embed="rId1"/>
          <a:stretch/>
        </p:blipFill>
        <p:spPr>
          <a:xfrm>
            <a:off x="314280" y="520560"/>
            <a:ext cx="8623440" cy="490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2T23:12:02Z</dcterms:created>
  <dc:creator>Diana</dc:creator>
  <dc:description/>
  <dc:language>en-US</dc:language>
  <cp:lastModifiedBy>Grygorii Kolomytsev</cp:lastModifiedBy>
  <dcterms:modified xsi:type="dcterms:W3CDTF">2014-03-20T20:21:47Z</dcterms:modified>
  <cp:revision>61</cp:revision>
  <dc:subject/>
  <dc:title>FileNew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0DE64AEEDD9B7A4D93545ACBE97D4615</vt:lpwstr>
  </property>
  <property fmtid="{D5CDD505-2E9C-101B-9397-08002B2CF9AE}" pid="3" name="_Status">
    <vt:lpwstr>Not Started</vt:lpwstr>
  </property>
  <property fmtid="{D5CDD505-2E9C-101B-9397-08002B2CF9AE}" pid="4" name="_Version">
    <vt:lpwstr/>
  </property>
</Properties>
</file>