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13.png" ContentType="image/png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4967-2000-4A6A-B2FE-6365C91D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A10-4BEF-47FD-ABE4-B69C48E6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16BC-F0B8-45D4-96CD-D3542A22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32F7-91AD-483F-B4A8-7300B0736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CAC2-F0BB-4D05-91B9-0F0677B0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7840-FE57-4352-AEF5-92E5E7AF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551D-17BB-46E4-BF51-34E8C148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F183-61CD-4DBC-9A43-F95EFFD6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5A74-5B29-4CE9-A87C-842B0C37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95B4-D557-4CF3-9240-B2E4852A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F4EE-EA6C-4C6E-970F-093E2799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18B3-F91D-4B39-830A-AE912B66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F5C9-C8EC-44F1-A695-370C8A5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3538-DC13-4489-9DC8-BB401E55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6926-602C-44F8-AFA7-7E77C3E8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2CC7-1410-4C05-ABB7-7AD46510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5A04-7610-4194-8103-0D1F5374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02CD-BE7F-4A2F-AFE3-997F19DC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8FA-1D20-4D61-944C-DC878EB3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9F4-2C00-489E-824C-4DEACFC9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2BF-4C59-48F2-A20D-6014787E5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49B-230F-475B-A581-9DD3D382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9C74-1C93-47D2-9995-100D7EAA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71F-C164-46C0-8F70-74701475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A138E-A428-4E0C-8F5A-C1B899987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7D765-6188-450A-9A5D-D7F92CEDAC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15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4000" spc="-1" strike="noStrike">
                <a:solidFill>
                  <a:srgbClr val="2d3f90"/>
                </a:solidFill>
                <a:latin typeface="Calibri"/>
              </a:rPr>
              <a:t>Необходим</a:t>
            </a:r>
            <a:r>
              <a:rPr b="1" lang="ru-RU" sz="4000" spc="-1" strike="noStrike">
                <a:solidFill>
                  <a:srgbClr val="2d3f90"/>
                </a:solidFill>
                <a:latin typeface="Calibri"/>
              </a:rPr>
              <a:t>ые сокращения выбросов для удержания 1.5 и 2С потеп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5361120"/>
            <a:ext cx="640080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dab44"/>
                </a:solidFill>
                <a:latin typeface="Calibri"/>
              </a:rPr>
              <a:t>20.02.2014, Тбили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dab44"/>
                </a:solidFill>
                <a:latin typeface="Calibri"/>
              </a:rPr>
              <a:t>Ирина Ставчу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"/>
          <p:cNvPicPr/>
          <p:nvPr/>
        </p:nvPicPr>
        <p:blipFill>
          <a:blip r:embed="rId1"/>
          <a:stretch/>
        </p:blipFill>
        <p:spPr>
          <a:xfrm>
            <a:off x="133200" y="474840"/>
            <a:ext cx="88776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зиция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-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мет, структура и проект соглашения 2015 г. должны быть созвучны глобальному углеродному бюджету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5˚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включая цели и действия в рамках основных принципов справедливости, которы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еспечивае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нансовую, технологическую поддержку и поддержку в развитии потенци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нам со слабым потенциал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369684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асиб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tamino.files.wordpress.com/2012/11/graph0.jpg"/>
          <p:cNvPicPr/>
          <p:nvPr/>
        </p:nvPicPr>
        <p:blipFill>
          <a:blip r:embed="rId1"/>
          <a:stretch/>
        </p:blipFill>
        <p:spPr>
          <a:xfrm>
            <a:off x="168120" y="142920"/>
            <a:ext cx="7820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258840" y="169920"/>
            <a:ext cx="8570880" cy="33624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"/>
          <p:cNvPicPr/>
          <p:nvPr/>
        </p:nvPicPr>
        <p:blipFill>
          <a:blip r:embed="rId2"/>
          <a:stretch/>
        </p:blipFill>
        <p:spPr>
          <a:xfrm>
            <a:off x="258840" y="3532320"/>
            <a:ext cx="8570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"/>
          <p:cNvPicPr/>
          <p:nvPr/>
        </p:nvPicPr>
        <p:blipFill>
          <a:blip r:embed="rId3"/>
          <a:stretch/>
        </p:blipFill>
        <p:spPr>
          <a:xfrm>
            <a:off x="268200" y="162000"/>
            <a:ext cx="8842320" cy="538776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2340000" y="5864400"/>
            <a:ext cx="508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informationisbeautiful.net/visualizations/how-many-gigatons-of-co2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"/>
          <p:cNvPicPr/>
          <p:nvPr/>
        </p:nvPicPr>
        <p:blipFill>
          <a:blip r:embed="rId2"/>
          <a:stretch/>
        </p:blipFill>
        <p:spPr>
          <a:xfrm>
            <a:off x="652320" y="0"/>
            <a:ext cx="6240600" cy="6777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4186080" y="6647040"/>
            <a:ext cx="5083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informationisbeautiful.net/visualizations/how-many-gigatons-of-co2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247680" y="1612800"/>
            <a:ext cx="889632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одели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ля1.5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нерго-экономические модели могут достичь требуемых низких уровней выбросов, также без расширения ядерной энергетики, однако это принципиально зависит о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ннего и глобального сокращения выбросов, начиная с 2013 г. и далее, и достижения глобального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ика выбросов к 2020 г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ыстрого расширения и возможности технической реализации крупномасштабных проектов в сфере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иоэнергетики, а также наличия лесных поглотителе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Высокие уровни повышения </a:t>
            </a:r>
            <a:r>
              <a:rPr b="1" lang="uk-UA" sz="2500" spc="-1" strike="noStrike">
                <a:solidFill>
                  <a:srgbClr val="000000"/>
                </a:solidFill>
                <a:latin typeface="Calibri"/>
              </a:rPr>
              <a:t>энергоэффективности</a:t>
            </a:r>
            <a:r>
              <a:rPr b="0" lang="uk-UA" sz="25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личие технологий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лавливания и хранения углерода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УХУ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арианты закрыть разрыв в уровне выбросов 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) Увеличить мировую долю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зобновляемых источников энергии с текущих 10% до 15% к 2020 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Это поможет закрыть разрыв на 4 ГтСО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льнейшее увелич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и до 20% позволит полностью закрыть разры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Активизировать повышен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нергоэффе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которое бы имело серьезное влияние на мировую энергетику и тенденции климата и отсрочило бы установление высокого уровня выбросов с 2017 до 2022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кратить субсидии на ископаемые виды топли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уменьшения глобальных выбросов на 2 ГтСО2 до 202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иквидация субсидий сокращает спрос на ископаемое топливо и выброс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сидии на потребление ископаемого топлива во всем мире составили $409 млрд. В 2010 г. и могут вырасти до $660 млрд. В 202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убсидии на возобновляемые источники энергии составили всего лишь $66 млрд. В 2010 г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1076040"/>
            <a:ext cx="82296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4) В контексте международных переговоров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ац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аксимальных обязательств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з интервала, заявленного странами. Это сократит разрыв на 2 ГтСО2 эк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инимизация использован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редитов ЗИЗИЛХ и кредитов на излишки выброс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Это сократит разрыв приблизительно на 3 ГтСО2 эк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инимизация использовани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лишков установленного количества с киотского периода 2008-2012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гг. Это сократит разрыв на 1.8 ГтСО2 эк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бежание двойного подсчет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зрешений на выбросы и улучшение дополнительности проектов МЧР. Это сократило бы разрыв почти на 1,5 ГтСО2 экв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окращение выбросов от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международных морских и авиационных перевозок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ль атомной энерге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доллар, потраченный на новый реактор дае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2-10 раз меньше экономии углерода, в 20-40 раз медленне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чем если бы он был потрачен на более дешевые, быстрые, безопасные решения: рациональное использование электричества, производство электроэнергии и тепла вместе на заводах или в зданиях («когенерация»), и возобновляемые источники энерг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314280" y="520560"/>
            <a:ext cx="862344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Grygorii Kolomytsev</cp:lastModifiedBy>
  <dcterms:modified xsi:type="dcterms:W3CDTF">2014-03-20T20:21:47Z</dcterms:modified>
  <cp:revision>61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_Status">
    <vt:lpwstr>Not Started</vt:lpwstr>
  </property>
  <property fmtid="{D5CDD505-2E9C-101B-9397-08002B2CF9AE}" pid="4" name="_Version">
    <vt:lpwstr/>
  </property>
</Properties>
</file>