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png" ContentType="image/pn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33BD-8107-4ED2-946E-C40D1D4D3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C322-4CE9-4071-8A0D-FCF40ADA5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E7B0-935F-44A8-8175-A3F6F5CB6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FFAC-8F4B-4199-A17A-4C7FE1D70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645-319D-4D2D-8034-99A4714F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0E3-68F8-47DD-B739-0BA3E2F0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18F-BF86-4967-9E52-E2E2B3CE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B2E-4753-4432-ADD7-57F176AB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C8C8-F375-480A-880D-905661B6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71DF-AF0A-4116-BBC2-7C5619CB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71F0-2F1B-4636-89E6-E7FF049C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4283-C522-4407-AE36-8CA9E06B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2E43-8823-40FD-A229-D7E8A4BD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F485-CC36-4A78-93B5-83601E1F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411C-D0D7-4AF1-B5FD-E4DDC62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66A-CA55-493B-8983-8B797FE8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BB47-438B-466C-A555-7DAB8B4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D757-B7AB-45F1-9F1C-1A06CC27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F288-9E90-4B26-8339-EF3968D8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EB91-960A-4406-AAF9-95244175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3C56-60B4-4EF2-8068-E9CFD8F9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D7D0F-C692-42B0-BF76-C7B72B9F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D14B-5FAD-44D1-BEF4-450E4C96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1902B-ED9B-45BF-87FC-549BFBB5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F7223-C1A6-4147-B64C-11513242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7A48-270A-489C-BB5C-3DBE8933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145-6D9D-4D2F-9EB4-E672C078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ABA5-AAF5-4F53-9E97-AF6BB92A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96BF-E9F5-44D8-8DCE-1EF2DCF4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FC1C-3E85-4481-92E1-35EB80A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0056-4CE6-4EC4-91B7-86D583C7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D73D2-2BE3-4FDE-A588-2139FC2B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7F499-F3D8-43A6-A0F0-9ED70B96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76B28-51A2-465A-9ED1-1494322B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CAB4B-F036-4616-A970-29C55234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A6682-BF6D-4DE7-AEDF-38CDC142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0AC2-A44B-4362-AAA4-97431F72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3C2-C609-4E34-A540-1AE31559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813D6-1322-4E16-AF94-73769EAC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CED6-C7DE-4807-9325-92CC6F0B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B4D0C-FC66-40B2-8CFD-11A59C14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0E004-14FB-4C05-AB64-265B9A25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0198-05DD-4DDD-8467-CF1D35EB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E8E8-FBA5-4886-A473-6417883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F9C60-0EC6-43A2-A9B3-3FE9F286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33BF7-1329-437E-A749-39195286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23119-FA24-4AA3-A039-E273C69B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0D122-30E3-42B9-B36D-44C57C2F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C4A-0148-4530-B235-55033A70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9B18-635B-4CF1-BE2F-EFD325F1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5585F-9A24-406E-A713-8EB8767F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525ED-FCC1-4AFA-9AAF-4673E961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55A68-962D-47CB-A4D3-29174531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69B88-4FDF-458E-8900-B8CC1C59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C010D-9465-4149-BBE2-DA1CE99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22F32-FE82-4A76-9034-2831F64B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B0FA0-E9D0-427A-B3F4-A968C858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6D0AA-B42C-41E2-ACEA-CA746B27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AAABA-B2CA-4A59-ABD4-8701E0E3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316-2443-448B-B357-730AA6CC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82D7C-C01C-436F-8857-928F1A20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119DE-9644-4974-B21B-A79DE485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AFDED-1EC3-4FDC-83CC-935E3D28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1E928-DE99-4F57-93AC-49D66FF8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7F12A-1037-4058-A44E-0982C48A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7413D-5E1E-4642-9C43-A6C41084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13DB4-0F41-4E77-B8A4-58FA3304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8AD58-80C5-4854-8A24-464A4990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AA8E9-5B9E-4BC9-93F6-148BBE80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2686A-D3A3-4B91-A4FD-058E9698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3E6-9F40-485E-A65B-F5BE8B98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23B69-4145-4C42-9124-2F892B7A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FBE28-EA2A-4471-9029-FCA846FF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51038-0418-42AB-828C-A0386586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72D-F8E2-4157-BECB-88FD1538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9A6-A17B-4439-8685-45C46135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35F8-64B2-4994-B6E6-30F5C3B9897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7" descr="C:\Sanjay\CANSA\Office\Existing CANSA Logo.jpg"/>
          <p:cNvPicPr/>
          <p:nvPr/>
        </p:nvPicPr>
        <p:blipFill>
          <a:blip r:embed="rId2"/>
          <a:stretch/>
        </p:blipFill>
        <p:spPr>
          <a:xfrm>
            <a:off x="0" y="6165720"/>
            <a:ext cx="6922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21B8-3FBA-4255-9CD3-1F120264FF2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5C21-D26A-4E9F-98FF-DFA468D42F6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Sanjay\CANSA\Office\Existing CANSA Logo.jpg"/>
          <p:cNvPicPr/>
          <p:nvPr/>
        </p:nvPicPr>
        <p:blipFill>
          <a:blip r:embed="rId2"/>
          <a:stretch/>
        </p:blipFill>
        <p:spPr>
          <a:xfrm>
            <a:off x="0" y="6165720"/>
            <a:ext cx="69228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59C5-147A-4CED-A70B-16D508F16BA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C:\Sanjay\CANSA\Office\Existing CANSA Logo.jpg"/>
          <p:cNvPicPr/>
          <p:nvPr/>
        </p:nvPicPr>
        <p:blipFill>
          <a:blip r:embed="rId2"/>
          <a:stretch/>
        </p:blipFill>
        <p:spPr>
          <a:xfrm>
            <a:off x="0" y="6165720"/>
            <a:ext cx="692280" cy="6922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E58F-A318-489C-8823-A3EFE63902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C:\Sanjay\CANSA\Office\Existing CANSA Logo.jpg"/>
          <p:cNvPicPr/>
          <p:nvPr/>
        </p:nvPicPr>
        <p:blipFill>
          <a:blip r:embed="rId2"/>
          <a:stretch/>
        </p:blipFill>
        <p:spPr>
          <a:xfrm>
            <a:off x="0" y="616572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Sanjay\CANSA\Office\Existing CANSA Logo.jpg"/>
          <p:cNvPicPr/>
          <p:nvPr/>
        </p:nvPicPr>
        <p:blipFill>
          <a:blip r:embed="rId3"/>
          <a:stretch/>
        </p:blipFill>
        <p:spPr>
          <a:xfrm>
            <a:off x="0" y="601344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DE54-3B4D-479F-B954-FAB2A38408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N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Titre 1"/>
          <p:cNvSpPr/>
          <p:nvPr/>
        </p:nvSpPr>
        <p:spPr>
          <a:xfrm>
            <a:off x="1828800" y="5419800"/>
            <a:ext cx="5715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C:\Users\Vositha\Desktop\ALL FOLDERS\CANSA All Folders\CANSA SLPI Trainings\slpi workshop\cansa logo.jpg"/>
          <p:cNvPicPr/>
          <p:nvPr/>
        </p:nvPicPr>
        <p:blipFill>
          <a:blip r:embed="rId1"/>
          <a:stretch/>
        </p:blipFill>
        <p:spPr>
          <a:xfrm>
            <a:off x="2666880" y="22860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2"/>
          <p:cNvSpPr/>
          <p:nvPr/>
        </p:nvSpPr>
        <p:spPr>
          <a:xfrm>
            <a:off x="152280" y="3105000"/>
            <a:ext cx="86108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0000"/>
                </a:solidFill>
                <a:latin typeface="Calibri"/>
              </a:rPr>
              <a:t>Action Network South Asia : Where we are, and the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80880" y="985680"/>
            <a:ext cx="8534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We are also one of the oldest Southern Nodes of CAN, established in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Secretariat spreads across South Asia with two full time staff and three part tim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Is a legally registered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Membership has evolved from 20 member in 2009 to 114 by end of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Is the Sub-Regional Node of Asia Pacific Adaptation Network in South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Board of directors for Governance of CANSA and NSC for Policy work at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New Board elected in August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CANSA has its own by-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CANSA is a committee member of the Adaptation Forum on Loss and Damage launched in South Ko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www.cansouthasia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533520" y="228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696464"/>
                </a:solidFill>
                <a:latin typeface="Franklin Gothic Book"/>
              </a:rPr>
              <a:t>CAN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rcRect l="34627" t="27347" r="16911" b="22918"/>
          <a:stretch/>
        </p:blipFill>
        <p:spPr>
          <a:xfrm>
            <a:off x="0" y="1219320"/>
            <a:ext cx="85345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696464"/>
                </a:solidFill>
                <a:latin typeface="Franklin Gothic Book"/>
              </a:rPr>
              <a:t>Programs of CANSA  for 2013…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0364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Organised a regional workshop on Innovative Finance Resources for parliamentarians, policy makers and Civil Society Organisations, in Delhi Indi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Regional Workshop for Asia for Southern Voices Program,  CANSA network members and SV partner members from South Asia and Eastern Asia (Cambodia, Indonesia, Vietnam) , Delhi Indi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Annual Knowledge Sharing Workshop of CANSA for members and partner organisations, in Agra, Indi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Pre-COP and Post COP briefings and preparations on national basi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Joint Paper on emissions in the aviation sector in partnership with GermanWatch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Parliamentarians training workshop on South Asian climate policies, Islamabad in December 2013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Following the UNFCCC process and playing and active role in the CANI workshop group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696464"/>
                </a:solidFill>
                <a:latin typeface="Franklin Gothic Book"/>
              </a:rPr>
              <a:t>Program CANSA in 2013…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Research papers on climate finance, loss and damage, sustainable agriculture, NAMA framewor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Developing a communication strateg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Working on revamping CANSA as a regional entity through reaching out to other networks and media outlets to disseminate information develop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IPCC related activities press conferences, trainings, discussion forum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696464"/>
                </a:solidFill>
                <a:latin typeface="Franklin Gothic Book"/>
              </a:rPr>
              <a:t>Outreach and Communication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Perpetua"/>
              </a:rPr>
              <a:t>CANSA website cansouthasia.net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Perpetua"/>
              </a:rPr>
              <a:t>CANSA on FB has a membership of over 3500 and is functioning as a tool for outreach and network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Perpetua"/>
              </a:rPr>
              <a:t>CANSA emailing list provides updates on activities on a regular bas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Perpetua"/>
              </a:rPr>
              <a:t>CANSA on twitter @CANSouthAsia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tle 1"/>
          <p:cNvSpPr/>
          <p:nvPr/>
        </p:nvSpPr>
        <p:spPr>
          <a:xfrm>
            <a:off x="5335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300" spc="-1" strike="noStrike">
                <a:solidFill>
                  <a:srgbClr val="000000"/>
                </a:solidFill>
                <a:latin typeface="Perpetua"/>
              </a:rPr>
              <a:t>Upcoming Events and Activities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Perpetua"/>
              </a:rPr>
              <a:t>EU South Asia summit, India, March 201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Perpetua"/>
              </a:rPr>
              <a:t>Regional Workshop for Asia, Southern Voices Program April 201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Perpetua"/>
              </a:rPr>
              <a:t>Community Based Adaptation Workshop, April 2014 in Nep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Perpetua"/>
              </a:rPr>
              <a:t>National Steering committee activities across the 7 count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1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299" name="Picture 2" descr="C:\Data\CANSA Jan 2011\Secretariat\CANSA GA 2011\Pictures\Knowledge management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65440" cy="20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7" descr="C:\Users\Sanjay Vashist\Desktop\Pic Cansa\IMG_5422.JPG"/>
            <p:cNvPicPr/>
            <p:nvPr/>
          </p:nvPicPr>
          <p:blipFill>
            <a:blip r:embed="rId2"/>
            <a:stretch/>
          </p:blipFill>
          <p:spPr>
            <a:xfrm>
              <a:off x="179280" y="4076640"/>
              <a:ext cx="30258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8" descr=""/>
            <p:cNvPicPr/>
            <p:nvPr/>
          </p:nvPicPr>
          <p:blipFill>
            <a:blip r:embed="rId3"/>
            <a:srcRect l="35140" t="8198" r="34839" b="12551"/>
            <a:stretch/>
          </p:blipFill>
          <p:spPr>
            <a:xfrm>
              <a:off x="7736040" y="3014640"/>
              <a:ext cx="1328760" cy="19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9" descr="C:\Data\CANSA Jan 2011\Secretariat\CANSA GA 2011\Pictures\CANSA 6.jpg"/>
            <p:cNvPicPr/>
            <p:nvPr/>
          </p:nvPicPr>
          <p:blipFill>
            <a:blip r:embed="rId4"/>
            <a:stretch/>
          </p:blipFill>
          <p:spPr>
            <a:xfrm>
              <a:off x="3179880" y="4221360"/>
              <a:ext cx="284940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3"/>
            <p:cNvSpPr/>
            <p:nvPr/>
          </p:nvSpPr>
          <p:spPr>
            <a:xfrm>
              <a:off x="6843960" y="2128680"/>
              <a:ext cx="23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Glimpses … </a:t>
              </a:r>
              <a:r>
                <a:rPr b="1" lang="en-IN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4" name="Object 1"/>
          <p:cNvGraphicFramePr/>
          <p:nvPr/>
        </p:nvGraphicFramePr>
        <p:xfrm>
          <a:off x="6404040" y="4414680"/>
          <a:ext cx="1544400" cy="21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4040" y="4414680"/>
                    <a:ext cx="154440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Picture 2" descr="C:\Data\CANSA Jan 2011\Personal\Pictures\Parliamentarian\DSC00677.JPG"/>
          <p:cNvPicPr/>
          <p:nvPr/>
        </p:nvPicPr>
        <p:blipFill>
          <a:blip r:embed="rId7"/>
          <a:stretch/>
        </p:blipFill>
        <p:spPr>
          <a:xfrm>
            <a:off x="380880" y="2019240"/>
            <a:ext cx="2691000" cy="2019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C:\Data\CANSA Jan 2011\Programmes\SAARC Bhutan 2011\Pictures\DSC01264.JPG"/>
          <p:cNvPicPr/>
          <p:nvPr/>
        </p:nvPicPr>
        <p:blipFill>
          <a:blip r:embed="rId8"/>
          <a:stretch/>
        </p:blipFill>
        <p:spPr>
          <a:xfrm>
            <a:off x="5410080" y="152280"/>
            <a:ext cx="3530880" cy="1984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C:\CANSA 19 Nov 2012\Personal\Pictures\Doha Pictures\IMG_5772.JPG"/>
          <p:cNvPicPr/>
          <p:nvPr/>
        </p:nvPicPr>
        <p:blipFill>
          <a:blip r:embed="rId9"/>
          <a:stretch/>
        </p:blipFill>
        <p:spPr>
          <a:xfrm>
            <a:off x="3352680" y="211464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C:\CANSA 19 Nov 2012\Personal\Pictures\CANSA Debriefs\2012-06-13 16.11.36.jpg"/>
          <p:cNvPicPr/>
          <p:nvPr/>
        </p:nvPicPr>
        <p:blipFill>
          <a:blip r:embed="rId10"/>
          <a:stretch/>
        </p:blipFill>
        <p:spPr>
          <a:xfrm>
            <a:off x="3124080" y="0"/>
            <a:ext cx="2362320" cy="17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0" name="Object 16"/>
          <p:cNvGraphicFramePr/>
          <p:nvPr/>
        </p:nvGraphicFramePr>
        <p:xfrm>
          <a:off x="6226200" y="2666880"/>
          <a:ext cx="1393920" cy="180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6200" y="2666880"/>
                    <a:ext cx="13939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31:03Z</dcterms:created>
  <dc:creator>user</dc:creator>
  <dc:description/>
  <dc:language>en-US</dc:language>
  <cp:lastModifiedBy>Vositha</cp:lastModifiedBy>
  <dcterms:modified xsi:type="dcterms:W3CDTF">2014-02-22T05:00:40Z</dcterms:modified>
  <cp:revision>286</cp:revision>
  <dc:subject/>
  <dc:title>Climate Change Mitigation: Actions Required</dc:title>
</cp:coreProperties>
</file>