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png" ContentType="image/pn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30236-7B59-4237-BB3B-136FB145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9DAE-4D01-44FE-B4E6-4380ACE3A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1051-3A45-4B55-84BD-5F21FADF9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8C40-A0A1-4E73-BC21-D7BDB4B14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EE8-6E9F-4354-859D-092AE70C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DCE7-FCB2-415F-BD1E-055F2CA0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44B-05FC-452B-8BC9-109B90E7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FAB-F4FE-4798-9B19-4FC85F5D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1D6B-DEF1-4B87-BA27-6C41B4F0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D386-8182-4962-8957-2E9F0FA3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533F-E45E-4A5A-ACAB-C65BECC8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0FE0B-DDFE-4222-9FCE-0C77F72E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661C-7E16-490C-9ABA-291F10E3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B08F-C6F1-4BCA-814A-660B75A6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99C3-15F6-4A3C-8F9E-A7068ACA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F11-F050-4CA6-B34E-C9D4DAFF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833-A597-48D4-94F2-E24D72F3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25B0-D916-4F21-96EB-A8A0C5CA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4BC9-41A8-49E7-81D1-744AAE68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F333-874F-4A12-8E69-6594E922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2CCD-7EE6-408A-A712-6A91F2F19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D4CB-646E-4F49-885F-F72334078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03650-D1C2-4158-AA17-8C0DA744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7F83C-A256-4C72-BF5F-59EBA5F6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1829-407F-4895-9BD6-4782FAA9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0BC7-B491-4E74-9E98-55600074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813-1BEC-4A2D-9692-7918483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D8F46-5485-4A98-9098-B09BB4F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A89D4-6A33-471B-A7FC-F22383F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CEE00-355A-4E81-8BC5-13EEF7AA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8EA83-C1BD-45AC-BEF0-745D8CDC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3396-4C4D-4347-8641-2F32F2C8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A7449-D9E5-4DA5-8D98-5AD879E7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179EC-8628-4147-ADF8-4D4D64BE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0FA76-6BA3-4788-AF03-A0ECA638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C1D1-6342-41D1-A167-1673CD30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6458-66B2-4337-ABC6-72188BFE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C47F-77EE-4E47-8E96-68B41C2E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8418-D6E1-484A-AAAF-7139BBA1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D08AD-A9CF-4A27-B928-68A29E31A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B07D-4D2F-42F5-B0FC-551907E1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A374E5-D92A-4DE8-99D5-96BF390D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D70B-97AE-49A2-B9B6-0F1D5F44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65B93-6BC5-469B-9766-F07D8CB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0EF96-1498-4EBC-9CCA-998FBD2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04D0-79BF-4262-9E8B-3F77B156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F508A-F7B6-4E65-ADE2-07308756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B1464-6365-492E-922B-D6FF4538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E4A-1BCA-4879-8991-1DC62915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57AEF-1353-4E98-B9AB-2223E5F7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F8418-6185-422B-9096-5FA0533E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9B941-6CD7-4015-B3C6-532E3402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C0FB5-7381-4AE9-BF3A-B81B32A2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7A249-CBC0-4D8F-BA88-2C45AF57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6A195-FFA3-45B7-8D78-94BBED2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F5101-69EF-46D6-9C52-EA15BCB4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72216-C6DB-4537-9267-7FC49073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9A2A0-D599-428E-A273-FB48B5D5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1C309-E2AD-455F-81E2-0640D3C9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A17-3DCA-4E55-B4FB-2F9F6FC9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CA27E-EA49-41A5-8426-562808361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8D02-B610-4C3C-A09D-C05482EB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FC313-8DA1-4ED0-A54B-F2C25423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9B118-8642-42AB-BB37-948DDC7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FD7B-8D50-4DE2-BD06-03597CCD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AD1F2-E3E2-4F77-A4D5-022B94CB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11CAEE-C256-4BD4-B1AA-1ACE0C49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AE82-16C7-45F9-939F-7BD26237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A828D-B357-41AA-9AB3-74D760AA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22FF3-B94F-432D-95E7-2548AFEA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BF9C-67D0-49A9-8CDA-D7932AE2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8C9FA-769E-4036-ACD4-D3593F02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F4FF7-5830-44D3-A2A5-47034747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3FF0-20BD-4750-8320-20590475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634-AAC4-47EF-8364-D8E31022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397-CCB7-42A5-83C2-2C8E2189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79F-A842-49E1-8A7C-DF858E6842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EB6C-64DA-4FAD-BFB8-6A2814014E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F24-97A9-4212-9E40-B86A876E55E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11F7E-3A7B-468A-B5FB-8DF2A2D637E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552-4A15-41E9-B1E0-97E99664855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C:\Sanjay\CANSA\Office\Existing CANSA Logo.jpg"/>
          <p:cNvPicPr/>
          <p:nvPr/>
        </p:nvPicPr>
        <p:blipFill>
          <a:blip r:embed="rId2"/>
          <a:stretch/>
        </p:blipFill>
        <p:spPr>
          <a:xfrm>
            <a:off x="0" y="616572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C:\Sanjay\CANSA\Office\Existing CANSA Logo.jpg"/>
          <p:cNvPicPr/>
          <p:nvPr/>
        </p:nvPicPr>
        <p:blipFill>
          <a:blip r:embed="rId3"/>
          <a:stretch/>
        </p:blipFill>
        <p:spPr>
          <a:xfrm>
            <a:off x="0" y="6013440"/>
            <a:ext cx="844560" cy="844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8EC7-1DE5-43BC-B243-1A4CE3A3C9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wmf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IN" sz="2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4" name="Titre 1"/>
          <p:cNvSpPr/>
          <p:nvPr/>
        </p:nvSpPr>
        <p:spPr>
          <a:xfrm>
            <a:off x="1828800" y="5419800"/>
            <a:ext cx="5715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C:\Users\Vositha\Desktop\ALL FOLDERS\CANSA All Folders\CANSA SLPI Trainings\slpi workshop\cansa logo.jpg"/>
          <p:cNvPicPr/>
          <p:nvPr/>
        </p:nvPicPr>
        <p:blipFill>
          <a:blip r:embed="rId1"/>
          <a:stretch/>
        </p:blipFill>
        <p:spPr>
          <a:xfrm>
            <a:off x="2666880" y="22860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12"/>
          <p:cNvSpPr/>
          <p:nvPr/>
        </p:nvSpPr>
        <p:spPr>
          <a:xfrm>
            <a:off x="152280" y="3105000"/>
            <a:ext cx="86108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000000"/>
                </a:solidFill>
                <a:latin typeface="Calibri"/>
              </a:rPr>
              <a:t>Action Network South Asia : Where we are, and the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"/>
          <p:cNvSpPr/>
          <p:nvPr/>
        </p:nvSpPr>
        <p:spPr>
          <a:xfrm>
            <a:off x="380880" y="985680"/>
            <a:ext cx="8534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e are also one of the oldest Southern Nodes of CAN, established in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Secretariat spreads across South Asia with two full time staff and three part time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s a legally registered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Membership has evolved from 20 member in 2009 to 114 by end of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s the Sub-Regional Node of Asia Pacific Adaptation Network in Sout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Board of directors for Governance of CANSA and NSC for Policy work at nat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New Board elected in August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CANSA has its own by-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CANSA is a committee member of the Adaptation Forum on Loss and Damage launched in South Ko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ww.cansouthasia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533520" y="228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CAN South A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rcRect l="34627" t="27347" r="16911" b="22918"/>
          <a:stretch/>
        </p:blipFill>
        <p:spPr>
          <a:xfrm>
            <a:off x="0" y="1219320"/>
            <a:ext cx="853452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Programs of CANSA  for 2013…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0364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Organised a regional workshop on Innovative Finance Resources for parliamentarians, policy makers and Civil Society Organisations, in Delhi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Regional Workshop for Asia for Southern Voices Program,  CANSA network members and SV partner members from South Asia and Eastern Asia (Cambodia, Indonesia, Vietnam) , Delhi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Annual Knowledge Sharing Workshop of CANSA for members and partner organisations, in Agra, India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Pre-COP and Post COP briefings and preparations on national basis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Joint Paper on emissions in the aviation sector in partnership with GermanWatch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Parliamentarians training workshop on South Asian climate policies, Islamabad in December 2013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8040" indent="-24804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Perpetua"/>
              </a:rPr>
              <a:t>Following the UNFCCC process and playing and active role in the CANI workshop group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Program CANSA in 2013…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Research papers on climate finance, loss and damage, sustainable agriculture, NAMA framework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Developing a communication strateg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Working on revamping CANSA as a regional entity through reaching out to other networks and media outlets to disseminate information develope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Perpetua"/>
              </a:rPr>
              <a:t>IPCC related activities press conferences, trainings, discussion forum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696464"/>
                </a:solidFill>
                <a:latin typeface="Franklin Gothic Book"/>
              </a:rPr>
              <a:t>Outreach and Communications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website cansouthasia.net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on FB has a membership of over 3500 and is functioning as a tool for outreach and network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emailing list provides updates on activities on a regular basi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Perpetua"/>
              </a:rPr>
              <a:t>CANSA on twitter @CANSouthAsi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tle 1"/>
          <p:cNvSpPr/>
          <p:nvPr/>
        </p:nvSpPr>
        <p:spPr>
          <a:xfrm>
            <a:off x="53352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142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300" spc="-1" strike="noStrike">
                <a:solidFill>
                  <a:srgbClr val="000000"/>
                </a:solidFill>
                <a:latin typeface="Perpetua"/>
              </a:rPr>
              <a:t>Upcoming Events and Activities</a:t>
            </a:r>
            <a:endParaRPr b="0" lang="en-US" sz="33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EU South Asia summit, India, March 20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Regional Workshop for Asia, Southern Voices Program April 2014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Community Based Adaptation Workshop, April 2014 in Nepa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478080" indent="-4780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Perpetua"/>
              </a:rPr>
              <a:t>National Steering committee activities across the 7 count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1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pic>
          <p:nvPicPr>
            <p:cNvPr id="299" name="Picture 2" descr="C:\Data\CANSA Jan 2011\Secretariat\CANSA GA 2011\Pictures\Knowledge management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65440" cy="20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7" descr="C:\Users\Sanjay Vashist\Desktop\Pic Cansa\IMG_5422.JPG"/>
            <p:cNvPicPr/>
            <p:nvPr/>
          </p:nvPicPr>
          <p:blipFill>
            <a:blip r:embed="rId2"/>
            <a:stretch/>
          </p:blipFill>
          <p:spPr>
            <a:xfrm>
              <a:off x="179280" y="4076640"/>
              <a:ext cx="3025800" cy="20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8" descr=""/>
            <p:cNvPicPr/>
            <p:nvPr/>
          </p:nvPicPr>
          <p:blipFill>
            <a:blip r:embed="rId3"/>
            <a:srcRect l="35140" t="8198" r="34839" b="12551"/>
            <a:stretch/>
          </p:blipFill>
          <p:spPr>
            <a:xfrm>
              <a:off x="7736040" y="3014640"/>
              <a:ext cx="1328760" cy="196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C:\Data\CANSA Jan 2011\Secretariat\CANSA GA 2011\Pictures\CANSA 6.jpg"/>
            <p:cNvPicPr/>
            <p:nvPr/>
          </p:nvPicPr>
          <p:blipFill>
            <a:blip r:embed="rId4"/>
            <a:stretch/>
          </p:blipFill>
          <p:spPr>
            <a:xfrm>
              <a:off x="3179880" y="4221360"/>
              <a:ext cx="2849400" cy="21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Box 3"/>
            <p:cNvSpPr/>
            <p:nvPr/>
          </p:nvSpPr>
          <p:spPr>
            <a:xfrm>
              <a:off x="6843960" y="2128680"/>
              <a:ext cx="230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N" sz="24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Glimpses … </a:t>
              </a:r>
              <a:r>
                <a:rPr b="1" lang="en-IN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04" name="Object 1"/>
          <p:cNvGraphicFramePr/>
          <p:nvPr/>
        </p:nvGraphicFramePr>
        <p:xfrm>
          <a:off x="6404040" y="4414680"/>
          <a:ext cx="1544400" cy="21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4040" y="4414680"/>
                    <a:ext cx="15444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Picture 2" descr="C:\Data\CANSA Jan 2011\Personal\Pictures\Parliamentarian\DSC00677.JPG"/>
          <p:cNvPicPr/>
          <p:nvPr/>
        </p:nvPicPr>
        <p:blipFill>
          <a:blip r:embed="rId7"/>
          <a:stretch/>
        </p:blipFill>
        <p:spPr>
          <a:xfrm>
            <a:off x="380880" y="2019240"/>
            <a:ext cx="2691000" cy="2019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C:\Data\CANSA Jan 2011\Programmes\SAARC Bhutan 2011\Pictures\DSC01264.JPG"/>
          <p:cNvPicPr/>
          <p:nvPr/>
        </p:nvPicPr>
        <p:blipFill>
          <a:blip r:embed="rId8"/>
          <a:stretch/>
        </p:blipFill>
        <p:spPr>
          <a:xfrm>
            <a:off x="5410080" y="152280"/>
            <a:ext cx="3530880" cy="19843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C:\CANSA 19 Nov 2012\Personal\Pictures\Doha Pictures\IMG_5772.JPG"/>
          <p:cNvPicPr/>
          <p:nvPr/>
        </p:nvPicPr>
        <p:blipFill>
          <a:blip r:embed="rId9"/>
          <a:stretch/>
        </p:blipFill>
        <p:spPr>
          <a:xfrm>
            <a:off x="3352680" y="2114640"/>
            <a:ext cx="2768760" cy="20764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C:\CANSA 19 Nov 2012\Personal\Pictures\CANSA Debriefs\2012-06-13 16.11.36.jpg"/>
          <p:cNvPicPr/>
          <p:nvPr/>
        </p:nvPicPr>
        <p:blipFill>
          <a:blip r:embed="rId10"/>
          <a:stretch/>
        </p:blipFill>
        <p:spPr>
          <a:xfrm>
            <a:off x="3124080" y="0"/>
            <a:ext cx="2362320" cy="177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0" name="Object 16"/>
          <p:cNvGraphicFramePr/>
          <p:nvPr/>
        </p:nvGraphicFramePr>
        <p:xfrm>
          <a:off x="6226200" y="2666880"/>
          <a:ext cx="1393920" cy="1803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1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6200" y="2666880"/>
                    <a:ext cx="13939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31:03Z</dcterms:created>
  <dc:creator>user</dc:creator>
  <dc:description/>
  <dc:language>en-US</dc:language>
  <cp:lastModifiedBy>Vositha</cp:lastModifiedBy>
  <dcterms:modified xsi:type="dcterms:W3CDTF">2014-02-22T05:00:40Z</dcterms:modified>
  <cp:revision>286</cp:revision>
  <dc:subject/>
  <dc:title>Climate Change Mitigation: Actions Required</dc:title>
</cp:coreProperties>
</file>