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1EFE4-D4EE-458F-81F6-45C3A05BA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E5ED1-EE1D-449F-B4A7-52396882D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5FB5C-FF08-4CD5-808F-C81C0FF62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594C1-5B50-4FE6-B055-456276964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33993-832F-417C-8B47-B9A7DCB48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F27A-2676-4FA7-AAA2-ED6308D7E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1322-99D0-4420-B606-3DD317441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EF818-DEC8-4272-B9CA-0AAB22DCA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8FF98-861B-48C2-91F8-65F4DAE7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C71F-853E-42DA-9F06-D7AA29ED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F4E2-51A7-4BF5-BC4A-8091520FC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CAFE-3C5E-4CA4-8C5B-75229E9AB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685E1-F65D-4188-B3D2-4E3F4A5C94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CANSA Logo.png"/>
          <p:cNvPicPr/>
          <p:nvPr/>
        </p:nvPicPr>
        <p:blipFill>
          <a:blip r:embed="rId1"/>
          <a:stretch/>
        </p:blipFill>
        <p:spPr>
          <a:xfrm>
            <a:off x="3760920" y="168120"/>
            <a:ext cx="1728720" cy="1729080"/>
          </a:xfrm>
          <a:prstGeom prst="rect">
            <a:avLst/>
          </a:prstGeom>
          <a:ln w="0">
            <a:noFill/>
          </a:ln>
        </p:spPr>
      </p:pic>
      <p:sp>
        <p:nvSpPr>
          <p:cNvPr id="42" name="PlaceHolder 1"/>
          <p:cNvSpPr>
            <a:spLocks noGrp="1"/>
          </p:cNvSpPr>
          <p:nvPr>
            <p:ph type="title"/>
          </p:nvPr>
        </p:nvSpPr>
        <p:spPr>
          <a:xfrm>
            <a:off x="685800" y="30384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200"/>
            </a:br>
            <a:r>
              <a:rPr b="0" lang="en-US" sz="5200" spc="-1" strike="noStrike">
                <a:solidFill>
                  <a:srgbClr val="000000"/>
                </a:solidFill>
                <a:latin typeface="Calibri"/>
              </a:rPr>
              <a:t>Of NAMAs and NAPs</a:t>
            </a:r>
            <a:br>
              <a:rPr sz="5400"/>
            </a:br>
            <a:br>
              <a:rPr sz="5400"/>
            </a:br>
            <a:r>
              <a:rPr b="0" i="1" lang="en-US" sz="5400" spc="-1" strike="noStrike">
                <a:solidFill>
                  <a:srgbClr val="000000"/>
                </a:solidFill>
                <a:latin typeface="Calibri"/>
              </a:rPr>
              <a:t>- </a:t>
            </a:r>
            <a:r>
              <a:rPr b="0" i="1" lang="en-US" sz="2800" spc="-1" strike="noStrike">
                <a:solidFill>
                  <a:srgbClr val="000000"/>
                </a:solidFill>
                <a:latin typeface="Calibri"/>
              </a:rPr>
              <a:t>Vositha Wijenayake</a:t>
            </a:r>
            <a:br>
              <a:rPr sz="2800"/>
            </a:br>
            <a:r>
              <a:rPr b="0" i="1" lang="en-US" sz="2800" spc="-1" strike="noStrike">
                <a:solidFill>
                  <a:srgbClr val="000000"/>
                </a:solidFill>
                <a:latin typeface="Calibri"/>
              </a:rPr>
              <a:t>Outreach and Advocacy Coordinator CANSA</a:t>
            </a:r>
            <a:endParaRPr b="0" lang="en-US" sz="2800" spc="-1" strike="noStrike">
              <a:solidFill>
                <a:srgbClr val="000000"/>
              </a:solidFill>
              <a:latin typeface="Calibri"/>
            </a:endParaRPr>
          </a:p>
        </p:txBody>
      </p:sp>
      <p:sp>
        <p:nvSpPr>
          <p:cNvPr id="43" name="TextBox 4"/>
          <p:cNvSpPr/>
          <p:nvPr/>
        </p:nvSpPr>
        <p:spPr>
          <a:xfrm>
            <a:off x="6972480" y="34034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NAMAs Registry</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Cancun Agreements set up “a registry to record nationally appropriate mitigation actions seeking international support and to facilitate matching of finance, technology and capacity-building support for these actions”. Further, the decisions adopted during COP17 (UNFCCC, 2011a, ibid) bring additional explanations on the Registry clarifying that it “should be developed as a dynamic, web-based platform managed by a dedicated team in the secretariat”.</a:t>
            </a:r>
            <a:endParaRPr b="0" lang="en-US" sz="2400" spc="-1" strike="noStrike">
              <a:solidFill>
                <a:srgbClr val="000000"/>
              </a:solidFill>
              <a:latin typeface="Calibri"/>
            </a:endParaRPr>
          </a:p>
        </p:txBody>
      </p:sp>
      <p:pic>
        <p:nvPicPr>
          <p:cNvPr id="70"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At COP18 in Doha, Parties agreed to establish a work programme to further understand the diversity of NAMA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This work programme will focus on: </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information required to enhance understanding on NAMAs (including estimated mitigation impacts of NAMAs, underlying assumptions and methodologies for estimating mitigation impacts, and sectors and gases covered); </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needs for support for the preparation and implementation of NAMAs; and, the role of the Registry in matching NAMAs with international support.</a:t>
            </a:r>
            <a:endParaRPr b="0" lang="en-US" sz="2400" spc="-1" strike="noStrike">
              <a:solidFill>
                <a:srgbClr val="000000"/>
              </a:solidFill>
              <a:latin typeface="Calibri"/>
            </a:endParaRPr>
          </a:p>
        </p:txBody>
      </p:sp>
      <p:pic>
        <p:nvPicPr>
          <p:cNvPr id="73"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Although it is clear that NAMA is a central instrument to address GHG emissions reductions of developing countries, international negotiations have neither provided any official definition of what information should be included in a NAMA</a:t>
            </a:r>
            <a:endParaRPr b="0" lang="en-US" sz="3200" spc="-1" strike="noStrike">
              <a:solidFill>
                <a:srgbClr val="000000"/>
              </a:solidFill>
              <a:latin typeface="Calibri"/>
            </a:endParaRPr>
          </a:p>
        </p:txBody>
      </p:sp>
      <p:pic>
        <p:nvPicPr>
          <p:cNvPr id="76"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NAMAs in the Context of 2 degrees increase of temperature:</a:t>
            </a:r>
            <a:endParaRPr b="0" lang="en-US" sz="32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n order to achieve the 2°C goal, emissions in developing countries will have to deviate approximately by 15% from BAUs emissions by 2020.The estimates of reduction by developed and developing countries to achieve the 2°C goal are affected by the assumption on how the mitigation effort is shared among developed and developing countries.</a:t>
            </a:r>
            <a:endParaRPr b="0" lang="en-US" sz="2800" spc="-1" strike="noStrike">
              <a:solidFill>
                <a:srgbClr val="000000"/>
              </a:solidFill>
              <a:latin typeface="Calibri"/>
            </a:endParaRPr>
          </a:p>
        </p:txBody>
      </p:sp>
      <p:pic>
        <p:nvPicPr>
          <p:cNvPr id="7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3200" spc="-1" strike="noStrike">
                <a:solidFill>
                  <a:srgbClr val="000000"/>
                </a:solidFill>
                <a:latin typeface="Calibri"/>
              </a:rPr>
              <a:t>“</a:t>
            </a:r>
            <a:r>
              <a:rPr b="1" i="1" lang="en-IN" sz="3200" spc="-1" strike="noStrike">
                <a:solidFill>
                  <a:srgbClr val="000000"/>
                </a:solidFill>
                <a:latin typeface="Calibri"/>
              </a:rPr>
              <a:t>Nationally appropriate”</a:t>
            </a:r>
            <a:endParaRPr b="0" lang="en-US" sz="3200" spc="-1" strike="noStrike">
              <a:solidFill>
                <a:srgbClr val="000000"/>
              </a:solidFill>
              <a:latin typeface="Calibri"/>
            </a:endParaRPr>
          </a:p>
          <a:p>
            <a:pPr marL="308520" indent="-3085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3200" spc="-1" strike="noStrike">
                <a:solidFill>
                  <a:srgbClr val="000000"/>
                </a:solidFill>
                <a:latin typeface="Calibri"/>
              </a:rPr>
              <a:t> </a:t>
            </a:r>
            <a:r>
              <a:rPr b="0" lang="en-IN" sz="3200" spc="-1" strike="noStrike">
                <a:solidFill>
                  <a:srgbClr val="000000"/>
                </a:solidFill>
                <a:latin typeface="Calibri"/>
              </a:rPr>
              <a:t>The Convention emphasises that mitigation actions by countries should be in accordance with their “...respective capabilities and their social and economic conditions…”, and “take into account different socio-economic contexts”. The Convention explicitly recognizes that “social and economic development and poverty eradication are the first and overriding priorities of developing country”. </a:t>
            </a:r>
            <a:endParaRPr b="0" lang="en-US" sz="3200" spc="-1" strike="noStrike">
              <a:solidFill>
                <a:srgbClr val="000000"/>
              </a:solidFill>
              <a:latin typeface="Calibri"/>
            </a:endParaRPr>
          </a:p>
        </p:txBody>
      </p:sp>
      <p:pic>
        <p:nvPicPr>
          <p:cNvPr id="82"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3200" spc="-1" strike="noStrike">
                <a:solidFill>
                  <a:srgbClr val="000000"/>
                </a:solidFill>
                <a:latin typeface="Calibri"/>
              </a:rPr>
              <a:t>Diversity of NAMAs</a:t>
            </a:r>
            <a:endParaRPr b="0" lang="en-US" sz="3200" spc="-1" strike="noStrike">
              <a:solidFill>
                <a:srgbClr val="000000"/>
              </a:solidFill>
              <a:latin typeface="Calibri"/>
            </a:endParaRPr>
          </a:p>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Cancun Agreements (UNFCCC, 2010) establish a process “...to understand the diversity of mitigation actions submitted, ..., noting different national circumstances and the respective capabilities of developing country Parties;”. They clearly recognize that diversity stems from different national circumstances and the respective capabilities of developing country Parties. Further, COP18 established a work programme to understand the diversity of NAMAs.</a:t>
            </a:r>
            <a:endParaRPr b="0" lang="en-US" sz="2800" spc="-1" strike="noStrike">
              <a:solidFill>
                <a:srgbClr val="000000"/>
              </a:solidFill>
              <a:latin typeface="Calibri"/>
            </a:endParaRPr>
          </a:p>
        </p:txBody>
      </p:sp>
      <p:pic>
        <p:nvPicPr>
          <p:cNvPr id="8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3200" spc="-1" strike="noStrike">
                <a:solidFill>
                  <a:srgbClr val="000000"/>
                </a:solidFill>
                <a:latin typeface="Calibri"/>
              </a:rPr>
              <a:t>NAMAs and Voluntary Effort and Bindingness of COP Decisions</a:t>
            </a:r>
            <a:endParaRPr b="0" lang="en-US" sz="32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Countries will voluntarily submit their NAMAs to the UNFCCC. These NAMAs are “morally” self binding on countries as these are countries’ pledges. In the case where countries’ choose to include the NAMAs in a national law, the NAMAs will then be nationally legally binding. It is important to remember that even if NAMAs are self binding or nationally legally binding, the implementation of NAMAs is contingent on the availability of support from developed countries. Thus the assessment of the implementation of NAMAs will be made in the context of the support requested and provided.</a:t>
            </a:r>
            <a:endParaRPr b="0" lang="en-US" sz="2400" spc="-1" strike="noStrike">
              <a:solidFill>
                <a:srgbClr val="000000"/>
              </a:solidFill>
              <a:latin typeface="Calibri"/>
            </a:endParaRPr>
          </a:p>
        </p:txBody>
      </p:sp>
      <p:pic>
        <p:nvPicPr>
          <p:cNvPr id="88"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S</a:t>
            </a:r>
            <a:r>
              <a:rPr b="1" i="1" lang="en-IN" sz="2800" spc="-1" strike="noStrike">
                <a:solidFill>
                  <a:srgbClr val="000000"/>
                </a:solidFill>
                <a:latin typeface="Calibri"/>
              </a:rPr>
              <a:t>cope of NAMAs:</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Many factors affect the effort required to design and implement a NAMA, viz., data and information needed for the design, coordination among the stakeholders for design and implementation, and data and mechanism for monitoring and evaluation of the implementation. The broader the scope of NAMA, the greater is the data and information requirement for designing a NAMA</a:t>
            </a:r>
            <a:endParaRPr b="0" lang="en-US" sz="2800" spc="-1" strike="noStrike">
              <a:solidFill>
                <a:srgbClr val="000000"/>
              </a:solidFill>
              <a:latin typeface="Calibri"/>
            </a:endParaRPr>
          </a:p>
        </p:txBody>
      </p:sp>
      <p:pic>
        <p:nvPicPr>
          <p:cNvPr id="9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A NAMA Document will be:</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dentifying and defining mitigation options that support transformation of development path to low emission pathways; </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Ensuring NAMAs are anchored with national and/or sectoral goals; </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Ensuring positive synergies between NAMAs; </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Gaining clarity on how to develop and implement mitigation actions; </a:t>
            </a:r>
            <a:endParaRPr b="0" lang="en-US" sz="2800" spc="-1" strike="noStrike">
              <a:solidFill>
                <a:srgbClr val="000000"/>
              </a:solidFill>
              <a:latin typeface="Calibri"/>
            </a:endParaRPr>
          </a:p>
          <a:p>
            <a:pPr marL="291600" indent="-2916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a:t>
            </a:r>
            <a:endParaRPr b="0" lang="en-US" sz="2800" spc="-1" strike="noStrike">
              <a:solidFill>
                <a:srgbClr val="000000"/>
              </a:solidFill>
              <a:latin typeface="Calibri"/>
            </a:endParaRPr>
          </a:p>
          <a:p>
            <a:pPr marL="291600" indent="-2916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94"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A NAMA Document will b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t>
            </a:r>
            <a:r>
              <a:rPr b="0" lang="en-IN" sz="2800" spc="-1" strike="noStrike">
                <a:solidFill>
                  <a:srgbClr val="000000"/>
                </a:solidFill>
                <a:latin typeface="Calibri"/>
              </a:rPr>
              <a:t>Improving coordination and communication between stakeholder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dentifying barriers to NAMA implementation and possible solution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dentifying the needs for NAMA implementation including international support through technology, financing and capacity-building; and,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nforming all stakeholders of environmental and development benefits of implementing NAMAs</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9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Understanding NAMAs</a:t>
            </a:r>
            <a:endParaRPr b="0" lang="en-US" sz="32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Article 4 of the Convention states that all Parties, “…</a:t>
            </a:r>
            <a:r>
              <a:rPr b="1" lang="en-IN" sz="2400" spc="-1" strike="noStrike">
                <a:solidFill>
                  <a:srgbClr val="000000"/>
                </a:solidFill>
                <a:latin typeface="Calibri"/>
              </a:rPr>
              <a:t>taking into account their common but differentiated responsibilities and their specific national and regional development priorities, objectives and circumstances,…” </a:t>
            </a:r>
            <a:r>
              <a:rPr b="0" lang="en-IN" sz="2400" spc="-1" strike="noStrike">
                <a:solidFill>
                  <a:srgbClr val="000000"/>
                </a:solidFill>
                <a:latin typeface="Calibri"/>
              </a:rPr>
              <a:t>shall “…formulate, impliment, publish and regularly update national and, where appropriate, regional programmes containing measures to mitigate climate change by addressing anthropogenic emissions by sources and removals by sinks of all greenhouse gases not controlled by the Montreal Protocol,…”. </a:t>
            </a:r>
            <a:endParaRPr b="0" lang="en-US" sz="2400" spc="-1" strike="noStrike">
              <a:solidFill>
                <a:srgbClr val="000000"/>
              </a:solidFill>
              <a:latin typeface="Calibri"/>
            </a:endParaRPr>
          </a:p>
        </p:txBody>
      </p:sp>
      <p:pic>
        <p:nvPicPr>
          <p:cNvPr id="46"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MRV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Cancun Agreements (UNFCCC, 2010, ibid) and the Durban Outcomes (UNFCCC, 2011a, ibid) define the requirements for MRV of mitigation efforts undertaken by the developing countries. Key elements a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ll NAMAs, domestically supported and internationally supported, will be measured, reported and verified domesticall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00"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domestic MRV of domestically supported NAMAs will be in accordance with general guidelines to be developed and approved by the COP.</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t>
            </a:r>
            <a:r>
              <a:rPr b="0" lang="en-IN" sz="2800" spc="-1" strike="noStrike">
                <a:solidFill>
                  <a:srgbClr val="000000"/>
                </a:solidFill>
                <a:latin typeface="Calibri"/>
              </a:rPr>
              <a:t>Presently Subsidiary Body for Scientific and Technical Advice (SBSTA4) is tasked with the development of these guidelines and is expected to recommend them for approval by COP19. </a:t>
            </a:r>
            <a:endParaRPr b="0" lang="en-US" sz="2800" spc="-1" strike="noStrike">
              <a:solidFill>
                <a:srgbClr val="000000"/>
              </a:solidFill>
              <a:latin typeface="Calibri"/>
            </a:endParaRPr>
          </a:p>
        </p:txBody>
      </p:sp>
      <p:pic>
        <p:nvPicPr>
          <p:cNvPr id="103"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ough not explicitly stated, the outcomes and impacts of these NAMAs will be reported in the BURs, which will be subject to international consultation and analysis (IC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Internationally supported NAMAs will also be subject to international MRV. The international MRV will be in accordance with guidelines developed for ICA adopted at COP17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06"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Biennial Update Reports (BUR) will be the main channel for </a:t>
            </a:r>
            <a:r>
              <a:rPr b="0" i="1" lang="en-IN" sz="2800" spc="-1" strike="noStrike">
                <a:solidFill>
                  <a:srgbClr val="000000"/>
                </a:solidFill>
                <a:latin typeface="Calibri"/>
              </a:rPr>
              <a:t>reporting (R) all the mitigation efforts, domestically and internationally supported NAMAs, made by developing countries to the UNFCCC. Developing countries will submit BUR every two years. Least Developed Country Parties and Small Island Developing States have the flexibility in submitting the BURs at their discretion. Developing countries will be provided support (financial and technical) by developed countries for preparation of BURs. </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0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nformation included in BURs will be subject to international consultation and analysis under the ICA. The ICA process is aimed at increasing transparency and trust among Parties to the UNFCCC. Subsidiary Body for Implementation (SBI) is presently developing modalities and procedures for undertaking the analysis as well as guidelines for composition of international expert teams which will perform the analysi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12"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Financing NAMA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With the aim of strengthening the Financial Mechanism (FM)7 of the Convention and provision of support to developing countries, the Parties at COP16 established the follow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Registry as a platform to facilitate the provision of the support received from bilateral and multilateral channel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1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Green Climate Fund (GCF) as one of the channel to provide the financial support to the developing countries. GCF is an operating entity of the FM.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Standing Committee (SC) as an organ to assist the COP in exercising its functions with respect to the FM. The role of SC will be as an advisory body to the UNFCCC Convention. SC will make recommendations on improving coherence and coordination in the delivery of climate change financing; rationalization of the financial mechanism; mobilization of financial resources; and, measurement, reporting and verification of support provided to developing country Parties (UNFCCC, 2011a, ibid). </a:t>
            </a:r>
            <a:endParaRPr b="0" lang="en-US" sz="2400" spc="-1" strike="noStrike">
              <a:solidFill>
                <a:srgbClr val="000000"/>
              </a:solidFill>
              <a:latin typeface="Calibr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8"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4400" spc="-1" strike="noStrike">
                <a:solidFill>
                  <a:srgbClr val="000000"/>
                </a:solidFill>
                <a:latin typeface="Calibri"/>
              </a:rPr>
              <a:t>Th</a:t>
            </a:r>
            <a:br>
              <a:rPr sz="4400"/>
            </a:br>
            <a:br>
              <a:rPr sz="4400"/>
            </a:br>
            <a:br>
              <a:rPr sz="4400"/>
            </a:br>
            <a:br>
              <a:rPr sz="4400"/>
            </a:br>
            <a:r>
              <a:rPr b="0" lang="en-IN" sz="4400" spc="-1" strike="noStrike">
                <a:solidFill>
                  <a:srgbClr val="000000"/>
                </a:solidFill>
                <a:latin typeface="Calibri"/>
              </a:rPr>
              <a:t>Thank you!</a:t>
            </a:r>
            <a:endParaRPr b="0" lang="en-US" sz="4400" spc="-1" strike="noStrike">
              <a:solidFill>
                <a:srgbClr val="000000"/>
              </a:solidFill>
              <a:latin typeface="Calibri"/>
            </a:endParaRPr>
          </a:p>
        </p:txBody>
      </p:sp>
      <p:pic>
        <p:nvPicPr>
          <p:cNvPr id="120" name="Picture 3" descr="CANSA Logo.png"/>
          <p:cNvPicPr/>
          <p:nvPr/>
        </p:nvPicPr>
        <p:blipFill>
          <a:blip r:embed="rId1"/>
          <a:stretch/>
        </p:blipFill>
        <p:spPr>
          <a:xfrm>
            <a:off x="3648240" y="0"/>
            <a:ext cx="1728720" cy="1728720"/>
          </a:xfrm>
          <a:prstGeom prst="rect">
            <a:avLst/>
          </a:prstGeom>
          <a:ln w="0">
            <a:noFill/>
          </a:ln>
        </p:spPr>
      </p:pic>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2" name="Content Placeholder 4" descr="ABHI 1586.jpg"/>
          <p:cNvPicPr/>
          <p:nvPr/>
        </p:nvPicPr>
        <p:blipFill>
          <a:blip r:embed="rId2"/>
          <a:stretch/>
        </p:blipFill>
        <p:spPr>
          <a:xfrm>
            <a:off x="2690640" y="2741760"/>
            <a:ext cx="384048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Kyoto Protocol adopted in 1997, Article 10, (b) reiterates the general commitments  of the developing countries to formulate and implement mitigation measures as described in the Convention, </a:t>
            </a:r>
            <a:r>
              <a:rPr b="1" lang="en-IN" sz="2800" spc="-1" strike="noStrike">
                <a:solidFill>
                  <a:srgbClr val="000000"/>
                </a:solidFill>
                <a:latin typeface="Calibri"/>
              </a:rPr>
              <a:t>taking into account their common but differentiated responsibilities and in order to achieve sustainable development. </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t>
            </a:r>
            <a:r>
              <a:rPr b="0" i="1" lang="en-IN" sz="2800" spc="-1" strike="noStrike">
                <a:solidFill>
                  <a:srgbClr val="000000"/>
                </a:solidFill>
                <a:latin typeface="Calibri"/>
              </a:rPr>
              <a:t>Kyoto Protocol too doesn´t specify the nature and scope of developing countries mitigation measures. </a:t>
            </a:r>
            <a:endParaRPr b="0" lang="en-US" sz="2800" spc="-1" strike="noStrike">
              <a:solidFill>
                <a:srgbClr val="000000"/>
              </a:solidFill>
              <a:latin typeface="Calibri"/>
            </a:endParaRPr>
          </a:p>
        </p:txBody>
      </p:sp>
      <p:pic>
        <p:nvPicPr>
          <p:cNvPr id="4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Adoption of Bali Action Plan and the Birth  of NAMAS </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BAP states that in order to </a:t>
            </a:r>
            <a:r>
              <a:rPr b="0" lang="en-IN" sz="2800" spc="-1" strike="noStrike">
                <a:solidFill>
                  <a:srgbClr val="000000"/>
                </a:solidFill>
                <a:latin typeface="Calibri"/>
              </a:rPr>
              <a:t>“Enhanced national/international action on mitigation of climate change…” developing countries will take “</a:t>
            </a:r>
            <a:r>
              <a:rPr b="1" lang="en-IN" sz="2800" spc="-1" strike="noStrike">
                <a:solidFill>
                  <a:srgbClr val="000000"/>
                </a:solidFill>
                <a:latin typeface="Calibri"/>
              </a:rPr>
              <a:t>Nationally Appropriate Mitigation Actions…in </a:t>
            </a:r>
            <a:r>
              <a:rPr b="0" lang="en-IN" sz="2800" spc="-1" strike="noStrike">
                <a:solidFill>
                  <a:srgbClr val="000000"/>
                </a:solidFill>
                <a:latin typeface="Calibri"/>
              </a:rPr>
              <a:t>the context of sustainable development, supported and enabled by technology, financing and capacity-building, in a measurable, reportable and verifiable manner;...”. </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52"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The Copenhagen Accord (UNFCCC, 2009), noted at COP15, brought an important change compared to the Convention, as it uses the term “supported NAMA” to refer to NAMA seeking international support for their implem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This suggests that developing countries may also implement NAMAs without support. </a:t>
            </a:r>
            <a:endParaRPr b="0" lang="en-US" sz="3200" spc="-1" strike="noStrike">
              <a:solidFill>
                <a:srgbClr val="000000"/>
              </a:solidFill>
              <a:latin typeface="Calibri"/>
            </a:endParaRPr>
          </a:p>
        </p:txBody>
      </p:sp>
      <p:pic>
        <p:nvPicPr>
          <p:cNvPr id="5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The Cancun Agreements (UNFCCC, 2010) adopted by Parties during COP16 distinguish between internationally supported actions and domestic supported actions depending on whether they are implemented with or without international suppor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8"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MRV</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Copenhagen Accord states that supported NAMAs will be subject to international MRV. Cancun Agreements establish that “</a:t>
            </a:r>
            <a:r>
              <a:rPr b="1" lang="en-IN" sz="2400" spc="-1" strike="noStrike">
                <a:solidFill>
                  <a:srgbClr val="000000"/>
                </a:solidFill>
                <a:latin typeface="Calibri"/>
              </a:rPr>
              <a:t>internationally supported mitigation actions </a:t>
            </a:r>
            <a:r>
              <a:rPr b="0" lang="en-IN" sz="2400" spc="-1" strike="noStrike">
                <a:solidFill>
                  <a:srgbClr val="000000"/>
                </a:solidFill>
                <a:latin typeface="Calibri"/>
              </a:rPr>
              <a:t>will be measured, reported and verified domestically and will be subject to international measurement, reporting and verification in accordance with guidelines to be developed under the Convention;” and “…</a:t>
            </a:r>
            <a:r>
              <a:rPr b="1" lang="en-IN" sz="2400" spc="-1" strike="noStrike">
                <a:solidFill>
                  <a:srgbClr val="000000"/>
                </a:solidFill>
                <a:latin typeface="Calibri"/>
              </a:rPr>
              <a:t>domestically supported </a:t>
            </a:r>
            <a:r>
              <a:rPr b="0" lang="en-IN" sz="2400" spc="-1" strike="noStrike">
                <a:solidFill>
                  <a:srgbClr val="000000"/>
                </a:solidFill>
                <a:latin typeface="Calibri"/>
              </a:rPr>
              <a:t>m</a:t>
            </a:r>
            <a:r>
              <a:rPr b="1" lang="en-IN" sz="2400" spc="-1" strike="noStrike">
                <a:solidFill>
                  <a:srgbClr val="000000"/>
                </a:solidFill>
                <a:latin typeface="Calibri"/>
              </a:rPr>
              <a:t>itigation actions </a:t>
            </a:r>
            <a:r>
              <a:rPr b="0" lang="en-IN" sz="2400" spc="-1" strike="noStrike">
                <a:solidFill>
                  <a:srgbClr val="000000"/>
                </a:solidFill>
                <a:latin typeface="Calibri"/>
              </a:rPr>
              <a:t>will be measured, reported and verified domestically in accordance with general guidelines to be developed under the Convention;”. </a:t>
            </a:r>
            <a:endParaRPr b="0" lang="en-US" sz="2400" spc="-1" strike="noStrike">
              <a:solidFill>
                <a:srgbClr val="000000"/>
              </a:solidFill>
              <a:latin typeface="Calibri"/>
            </a:endParaRPr>
          </a:p>
        </p:txBody>
      </p:sp>
      <p:pic>
        <p:nvPicPr>
          <p:cNvPr id="6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Agreements specify the type of MRV, domestic and/or international, for both kinds of actions. They also state that general guidelines for domestic and international MRV of domestic and supported NAMA will be developed under the UNFCCC. The decisions (UNFCCC, 2011a) adopted during COP17 bring additional explanations on the international reporting requirement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64"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3200" spc="-1" strike="noStrike">
                <a:solidFill>
                  <a:srgbClr val="000000"/>
                </a:solidFill>
                <a:latin typeface="Calibri"/>
              </a:rPr>
              <a:t>Financial Support to Developing Countrie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Cancun Agreements re-iterate that “...in accordance with Article 4, paragraph 3, of the Convention, developed country Parties shall provide enhanced financial, technological and capacity building support for the preparation and implementation of nationally appropriate mitigation actions of developing country Parties...” (UNFCCC, 2010, ibid).</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19:04:47Z</dcterms:created>
  <dc:creator>Senashia Ekanayake</dc:creator>
  <dc:description/>
  <dc:language>en-US</dc:language>
  <cp:lastModifiedBy>Vositha</cp:lastModifiedBy>
  <dcterms:modified xsi:type="dcterms:W3CDTF">2014-02-21T05:32:09Z</dcterms:modified>
  <cp:revision>26</cp:revision>
  <dc:subject/>
  <dc:title>Climate Action Network  South Asia</dc:title>
</cp:coreProperties>
</file>