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889B-AF98-4208-871D-02CADA87C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5550-772F-447F-8E99-2F3872916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3F5F-78AB-45A7-AB8A-9D49B6C17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0923-AB63-4941-A0C4-7A15FC5F2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FB50F-5568-4057-9BFB-6B5D0151A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B2543-42C4-47EA-8A26-A47BFD4C6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F16F3-2DA8-4F02-A30D-21BB85094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F022F-B9E3-4094-8E88-BB7AC9619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877CD-DD0F-4BFC-92FE-BBDD96A9A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4C924-5FDE-4077-80A0-4BF1CEDAA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6FA5B-0FAD-4067-9DB8-2589F9C3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73E0-58F0-4EEF-8EFF-9670C0796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DFB46-3152-45DE-A4B2-BA7AF88D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DD8F4-C335-423B-B28D-5441EB86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F23C7-CF1E-4472-844C-0905CC48D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885A8-2380-47FC-B429-BF51E1548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F528E-F14D-4B20-B1CD-7DFF2B23D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B573-8F51-4A3C-AA7F-495E36274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B11C-E34F-462B-B4AE-A4B27169C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32F6-1767-4ABC-88D3-DDB356680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773E-3058-4E00-9686-31FCA5459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2230-7D41-4462-AD31-50942C3C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2A0F-C07F-40CF-93CB-7036EAEB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8F16-0CC9-41BB-9763-F0E335C7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33B9B3-7975-4482-98CA-6DD37DC8CB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F1E726-B622-4556-A66A-32B2C527A8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climatenetwork.org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15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2d3f90"/>
                </a:solidFill>
                <a:latin typeface="Calibri"/>
              </a:rPr>
              <a:t>CAN Global Strate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204800"/>
            <a:ext cx="6400800" cy="25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dab44"/>
                </a:solidFill>
                <a:latin typeface="Calibri"/>
              </a:rPr>
              <a:t>28 April, 2013 / Kie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b62a9"/>
                </a:solidFill>
                <a:latin typeface="Calibri"/>
              </a:rPr>
              <a:t>The One CAN Initia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im of the One CAN Initiative is to develop a model of cooperation across nodes and members on the international and national level, in order to implement CAN’s new global strategy developed by its member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30780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common strategic planning process for all nodes and memb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ery year, CAN will develop a set of key objectiv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Nodes will need to coordinate together in order to ensure that these key objectives are reach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Nodes will strive to reach a level of organizational development that is adequate to achieve above objec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International will develop a specific department to assist nodes in their organizational develop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Content Placeholder 3" descr=""/>
          <p:cNvPicPr/>
          <p:nvPr/>
        </p:nvPicPr>
        <p:blipFill>
          <a:blip r:embed="rId1"/>
          <a:stretch/>
        </p:blipFill>
        <p:spPr>
          <a:xfrm>
            <a:off x="-54000" y="1587600"/>
            <a:ext cx="9256680" cy="30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Content Placeholder 3" descr=""/>
          <p:cNvPicPr/>
          <p:nvPr/>
        </p:nvPicPr>
        <p:blipFill>
          <a:blip r:embed="rId1"/>
          <a:stretch/>
        </p:blipFill>
        <p:spPr>
          <a:xfrm>
            <a:off x="476280" y="106200"/>
            <a:ext cx="6810480" cy="62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57200" y="3696840"/>
            <a:ext cx="822960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ael Hmaid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AN-I Directo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obile: +961 3 50631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Calibri"/>
                <a:ea typeface="ＭＳ Ｐゴシック"/>
                <a:hlinkClick r:id="rId2"/>
              </a:rPr>
              <a:t>www.climatenetwork.or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hmaidan@climatenetwork.or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23:12:02Z</dcterms:created>
  <dc:creator>Diana</dc:creator>
  <dc:description/>
  <dc:language>en-US</dc:language>
  <cp:lastModifiedBy>Wael Hmaidan</cp:lastModifiedBy>
  <dcterms:modified xsi:type="dcterms:W3CDTF">2014-02-21T23:14:25Z</dcterms:modified>
  <cp:revision>53</cp:revision>
  <dc:subject/>
  <dc:title>FileNew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DE64AEEDD9B7A4D93545ACBE97D4615</vt:lpwstr>
  </property>
  <property fmtid="{D5CDD505-2E9C-101B-9397-08002B2CF9AE}" pid="3" name="_Status">
    <vt:lpwstr>Not Started</vt:lpwstr>
  </property>
  <property fmtid="{D5CDD505-2E9C-101B-9397-08002B2CF9AE}" pid="4" name="_Version">
    <vt:lpwstr/>
  </property>
</Properties>
</file>