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B06-E708-479C-8157-72907C74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31F-C5C4-4374-BA8C-0B1985A4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98E-10FC-4458-9174-C93EE708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DBD-E6A6-473E-A65C-1808F482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D5E-2BE9-47B9-9B3D-BB3E1489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1462-1BA2-4A6E-8F42-63A3CB8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73F2-3470-4DDF-8AC6-E2E062F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D3A6-257F-4815-AAB0-AE20530C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4364-45F9-44B6-9602-AD2B3DAE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4DA-3299-4076-A080-211D69E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ACA0-0438-4046-BA95-12C8345D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6B6-2E7D-4DA0-87F3-41715325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9A44-F810-4535-B8F9-C141C091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4E33-FD8E-4979-863F-B24FC69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272E-79B4-470E-9020-BA54919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F4A-68E0-4E8E-9F1B-E4734FAF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25F-C6E9-42A6-900D-B37E2312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D0F-060F-4EAB-8DA4-306BD2F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AE7-DC09-4A18-A94C-53A9558E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47E-3CD9-4919-BC3E-905A72C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1D0-80D7-4A57-9821-AE0BC2AA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E1B-A4A9-439D-8CF2-9006A37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CAE-DAB2-46C6-92E4-49B3288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A6F-62F1-4E56-95E7-CADE999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87169-5222-4CD2-8500-74F7F3DFD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EAD09-5F52-4E9C-9A96-1BD54ECFE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limatenetwork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5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2d3f90"/>
                </a:solidFill>
                <a:latin typeface="Calibri"/>
              </a:rPr>
              <a:t>CAN Global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0480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dab44"/>
                </a:solidFill>
                <a:latin typeface="Calibri"/>
              </a:rPr>
              <a:t>28 April, 2013 / Ki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b62a9"/>
                </a:solidFill>
                <a:latin typeface="Calibri"/>
              </a:rPr>
              <a:t>The One CAN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of the One CAN Initiative is to develop a model of cooperation across nodes and members on the international and national level, in order to implement CAN’s new global strategy developed by its memb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0780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on strategic planning process for all nodes and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year, CAN will develop a set of key objec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des will need to coordinate together in order to ensure that these key objectives are rea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des will strive to reach a level of organizational development that is adequate to achieve above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International will develop a specific department to assist nodes in their organizat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-54000" y="1587600"/>
            <a:ext cx="92566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76280" y="106200"/>
            <a:ext cx="681048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6968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el Hmai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-I Dire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bile: +961 3 5063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climatenetwork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maidan@climatenetwork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Wael Hmaidan</cp:lastModifiedBy>
  <dcterms:modified xsi:type="dcterms:W3CDTF">2014-02-21T23:14:25Z</dcterms:modified>
  <cp:revision>5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